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14322-1AFE-46A0-BC1C-23EE8AD9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EFCEF-673F-45AA-81A0-D51BD67F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D1D44-F80A-48FD-860F-838F16FC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8BAC2-3540-4229-AAE0-251DDDBB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B69C6-89B1-4168-A39A-63BE5381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D7F74-FF8B-47CD-88FD-43091D6D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BB313-DD13-4FDC-B059-F7E56361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D9A9C-2B2E-445B-ABC0-38D87460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86ED0-3EFA-4D2C-934E-37A2EBF6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B2CD4-D8BC-46B5-8777-6F82684B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1BFC3-C272-453F-A585-E626BF92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99306-A6E3-486B-9248-9A26D80F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D4865-4F87-43EC-AC29-A434FEAF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B431E-371C-4B82-9CC7-EEAD1DD1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11AC6-A172-4C66-A511-E50E49AC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6CFAE-577E-41EE-ACDB-B7093496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996F8-B1E3-4106-A2E2-9587800E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2FECB-D373-4074-A0E4-72636821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7B554-A66B-4166-B98E-5FB66DF1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FDB0D-07F4-4BC0-9FD0-1C11A7EA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BE270-0114-4CE6-91FF-6F0013DC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AC76-60EA-49B1-9836-BACA5A8B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B74D7-1B5F-4C0E-9006-509F3E75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98C36-4B87-45A3-8C43-F66A9A20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3B4E-0D60-4766-903E-453630D8A186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E536-E52D-4CAD-AFF9-62F6DF68EED9}" type="slidenum">
              <a:rPr b="0" lang="ar-SA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93F7-32FF-414B-B6AB-89886BB66406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A7BA-9D46-411B-BF29-B930E09827C3}" type="slidenum">
              <a:rPr b="0" lang="ar-SA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rtificial Intelligence I: </a:t>
            </a:r>
            <a:br>
              <a:rPr sz="4500"/>
            </a:b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79280" y="4138200"/>
            <a:ext cx="7740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actical stuff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13396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se homepage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switch.vub.ac.be/~tlenaert/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linglist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2452-valvas@elvas.vub.ac.b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xtbook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.  Russell and P. Norvig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rtificial Intelligence: A Modern  Approach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ntice Hall, 2003,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econd  Editio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: written at end of 2nd. semester (50%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91320" y="1676520"/>
            <a:ext cx="315756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E328-E86A-46D7-A207-C587798EF8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B865A-7D99-44BC-B865-BEE894D0B59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actical stuff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0680" y="1988640"/>
            <a:ext cx="41875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cercices: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assignments in Lisp (50%)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udoku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r op een rij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gic</a:t>
            </a:r>
            <a:endParaRPr b="0" lang="en-US" sz="2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25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91320" y="1523880"/>
            <a:ext cx="2368440" cy="239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961240" y="4068720"/>
            <a:ext cx="1927080" cy="192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F4BBA-0DE2-43A4-B504-44517D6C0D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94BF3-1EA0-48B2-B738-E149695DF4B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urse overview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AI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lligent agents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 solving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nowledge and reasoning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certain knowledge and reasoning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Learning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ommunicating, perceiving and actin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39AA4-F926-46CC-B757-1DAD20888C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DED3E-4605-44E7-B908-18E6D786D90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utline 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 is AI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 brief history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80808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Verdana"/>
              </a:rPr>
              <a:t>The State of the art (see book)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isp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d its relation to Scheme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03970-2EE3-4A43-9A28-5A2993ED6C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12BB8-8DCA-4DBA-ADD5-3D3960C1D37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hat is Artificial Intelligence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reative extension of philosophy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derstand and 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BUIL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intelligent entitie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rigin after WWII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ighly interdisciplinary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urrently consist of huge variety of subfields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course will discuss some of them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E46F6-B8A8-4428-88C6-B31A566D7E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D310C-FA45-4CB7-B7EA-36790A3CD71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hat is Artificial Intelligenc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4160" y="160020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fferent definitions due to different criteria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wo dimensions: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ght processes/reasoning vs. behavior/actio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 according to human standards vs. success according to an ideal concept of intelligence: rationality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19320" y="4495680"/>
          <a:ext cx="7010280" cy="1498680"/>
        </p:xfrm>
        <a:graphic>
          <a:graphicData uri="http://schemas.openxmlformats.org/drawingml/2006/table">
            <a:tbl>
              <a:tblPr/>
              <a:tblGrid>
                <a:gridCol w="3504960"/>
                <a:gridCol w="350532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s that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hin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like hu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s that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hin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ration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s that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like hu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s that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ration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8533E-526A-45D0-BF87-332DC43D85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443E6-274D-4FAA-A287-C79C7C76547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ystems that </a:t>
            </a:r>
            <a:r>
              <a:rPr b="0" lang="en-US" sz="4200" spc="-1" strike="noStrike">
                <a:solidFill>
                  <a:srgbClr val="0000ff"/>
                </a:solidFill>
                <a:latin typeface="Verdana"/>
              </a:rPr>
              <a:t>act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200" spc="-1" strike="noStrike">
                <a:solidFill>
                  <a:srgbClr val="00ff00"/>
                </a:solidFill>
                <a:latin typeface="Verdana"/>
              </a:rPr>
              <a:t>like huma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4160" y="160020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does a system behave intelligently?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ring (1950)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omputing Machinery and Intelligenc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rational test of intelligence: imitation gam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 still relevant now, yet might be the wrong questio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s the collaboration of major components of AI: knowledge, reasoning, language understanding, learning, …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2743200"/>
            <a:ext cx="4648320" cy="160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3BBE8-F7E5-4125-A4E6-54FFF7F8706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02C0E-19B3-41DC-9C98-6AB23F8FE8B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ystems that </a:t>
            </a:r>
            <a:r>
              <a:rPr b="0" lang="en-US" sz="4200" spc="-1" strike="noStrike">
                <a:solidFill>
                  <a:srgbClr val="0000ff"/>
                </a:solidFill>
                <a:latin typeface="Verdana"/>
              </a:rPr>
              <a:t>act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200" spc="-1" strike="noStrike">
                <a:solidFill>
                  <a:srgbClr val="00ff00"/>
                </a:solidFill>
                <a:latin typeface="Verdana"/>
              </a:rPr>
              <a:t>like huma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2440" y="1989000"/>
            <a:ext cx="1932120" cy="2907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1816200" cy="2819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48360" y="2390760"/>
            <a:ext cx="296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rew Hodg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an Turing, the enig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vailable at amazon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3120" y="5181480"/>
            <a:ext cx="762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 with Turing test: not reproducib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ctive or amenable to mathematical analys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34BEA-85CA-48E6-AFF8-C5D7A4032EE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E23A1-FC5C-446A-8AFA-115FBF2FDBB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0:32:44Z</dcterms:created>
  <dc:creator>ikke dikke</dc:creator>
  <dc:description/>
  <dc:language>en-US</dc:language>
  <cp:lastModifiedBy>user</cp:lastModifiedBy>
  <cp:lastPrinted>2004-09-29T10:57:01Z</cp:lastPrinted>
  <dcterms:modified xsi:type="dcterms:W3CDTF">2008-08-03T08:00:43Z</dcterms:modified>
  <cp:revision>215</cp:revision>
  <dc:subject/>
  <dc:title>Artificial Intelligence 1</dc:title>
</cp:coreProperties>
</file>