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DCB4-76C9-4734-A00B-40B058A86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ledige observeerbare omgevingen zijn handig omdat de agent g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 staat moet bijhouden over de omge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eel observeerbare omgevingen door noise of niet goed afgestelde sensoren of ontbrekende informat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 de omgeving gedeeltelijk observeerbaar is kan deze stochastisch lijk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s het is beter om te kijken of de omgebing determinitisch of stochastisch is vanuit het standpunt van de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 de omgeving deterministisch is behalve de acties van de andere agenten dan is de omgeving strategis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gent performance score changes ahen time passes, the environment is semi-dynam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gent performance score changes ahen time passes, the environment is semi-dynam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gent performance score changes ahen time passes, the environment is semi-dynam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gent performance score changes ahen time passes, the environment is semi-dynam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gent performance score changes ahen time passes, the environment is semi-dynam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gent performance score changes ahen time passes, the environment is semi-dynam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CC6B5-60DA-4230-A8CA-2543F81E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33B9C-4370-4215-8609-222AE610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09E58-4F49-40FB-BED2-779FAD4BB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C2844-4471-42F1-98E1-8DB07B8F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1E9E0-2ADD-45EC-AEF6-5BBD0D3F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35FE9-6F14-42EE-96CF-A22D56C7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7FBDE-B5FB-421A-8142-B66EBED8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B2C96-8ED3-40CD-8385-3F919492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8187D-46E7-4B85-ADE2-86A0E578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5A9E6-B28D-49C1-9451-1F3C9A0B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33BB2-534C-4FA4-952D-06B42021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5F25D-FDE0-4410-B6DF-22D30F7D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70524-4934-478F-9E76-1A4C7FDE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DBEB6-851E-4151-A6E9-247D7E56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2CBDB-8266-461B-8A96-ADAC8901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429E5-3FC4-4A9C-8061-374C2281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EF0E7-0188-40D5-A5B8-B23D9915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AF24A-84A2-421F-B9EB-9F920AAB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64564-302F-40D3-BB5B-0FC1B300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0C883-296E-4EC1-AE46-187C8D26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F1652-5352-44CA-85C6-F653F6F3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97BBF-3573-48A8-B203-CAF5153A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4AB36-B467-4B6F-A00F-3F181E63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E0705-A43B-4F9D-BF8A-CB514C75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abb202"/>
          </a:solidFill>
          <a:ln w="9360">
            <a:solidFill>
              <a:srgbClr val="abb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B778-5CF9-491B-960B-F37867A83391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61892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1862-0BB7-4A36-BE39-7F6C196A8C55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58920" y="6516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Verdana"/>
              </a:rPr>
              <a:t>Pa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0760" cy="5235480"/>
          </a:xfrm>
          <a:prstGeom prst="rect">
            <a:avLst/>
          </a:prstGeom>
          <a:solidFill>
            <a:srgbClr val="7f7358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0495-649A-4D64-835F-621159DBBFFD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14C0-8CE7-4324-8CFB-1720B7EB8D28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5541840"/>
            <a:ext cx="349092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7f7358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Artificial Intelligence I : Intelligent Agents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79280" y="4138200"/>
            <a:ext cx="7740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cturer: Tom Lenaert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WITCH, Vlaams Interuniversitair Instituut voor Biotechnologi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ationality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-5716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ationality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mniscience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838080" indent="-38088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omniscient agent knows the actual outcome of its actions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marL="571680" indent="-5716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ationality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perfection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838080" indent="-38088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tionality maximize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xpecte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erformance, while perfection maximize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ctua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erformance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F780F-01A5-46FF-9AE8-400191A2DD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73E00-1F53-4AA1-807F-E3FD960589F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ationality 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proposed definition requires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formation gathering/exploration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maximize future reward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rn from percepts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 prior knowledge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autonomy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ensate for incorrect prior knowledge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81D5D-7621-4CF3-A2CD-D15BFABE062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2C90F-75EC-4A4C-82A8-0E9BC99E867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o design a rational agent we must specify its task environment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AS description of the environment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ance 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vironment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uators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nsors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87034-8988-43E0-95E8-8B6BCA0A276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DE288-5CE0-45F4-A163-C4CA45F22EA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.g. Fully automated taxi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AS description of the environment: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formance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fety, destination, profits, legality, comfort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vironment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eets/freeways, other traffic, pedestrians, weather,, …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uator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eering, accelerating, brake, horn, speaker/display,…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nsor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ideo, sonar, speedometer, engine sensors, keyboard, GPS, …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A3EB5-A097-4029-9ECA-A3062460924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8C0AE-2912-49AD-9387-6AA18858A34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D3AC8-90C0-4CB3-BB1D-38746794AB5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B6E1C-3703-4824-A68D-462D3570440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1059120" y="2133720"/>
            <a:ext cx="71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ully vs. partially observable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an environment is full observable when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ensors can detect all aspects that are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relevant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to the choice of ac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39103-8345-4CAE-A52D-886FAB8C238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D9A59-F81D-4210-AA46-5AFA73C36C8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1059120" y="2133720"/>
            <a:ext cx="71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ully vs. partially observable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an environment is full observable when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ensors can detect all aspects that are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relevant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to the choice of ac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5F29D-3460-4E2C-950C-62763E5E2DE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E874A-C5CE-4480-B810-76A878975A8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1130400" y="19922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eterministic vs. stochastic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if the next environment state is comple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etermined by the current state the executed action then the environment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eterminist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1EC67-95D9-4CD2-A094-7B02B4263C2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975805-53EC-4ADD-938F-B7640003649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1130400" y="198108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eterministic vs. stochastic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if the next environment state is comple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etermined by the current state the executed action then the environment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eterminist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3C859-E463-415E-96C3-3AFE599C06F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4203C-AAA8-47F9-B751-6820E277626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903600" y="1981080"/>
            <a:ext cx="737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pisodic vs. sequential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In an episodic environment the agent’s exper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an be divided into atomic steps where the agents perceives and then per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 single action. The choice of action depends only on the episode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21A60-3E8E-4DF8-9AB4-F3163548F1D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7C973-9933-4E9D-98AF-391E21BEF6D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utline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s and environments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vacuum-cleaner world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concept of rational behavior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vironments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structure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7C847-2098-4640-B8AC-EA4C490EA5B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C2524-8832-4188-964B-D3EC1B68DE9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903600" y="1981080"/>
            <a:ext cx="737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pisodic vs. sequential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In an episodic environment the agent’s exper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an be divided into atomic steps where the agents perceives and then per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 single action. The choice of action depends only on the episode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F9E29-670D-4866-96E4-87DDF45C2B8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AB3CF-A442-46A8-9737-E583099D44E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674280" y="1981080"/>
            <a:ext cx="77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tatic vs. dynamic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If the environment can change while the agent is choo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n action, the environment is dynamic.  Semi-dynamic if the agent’s perform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hanges even when the environment remains the sam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03C5B-CA9E-48CD-87DC-EF6DB7C16BD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83BBC-B713-4EE2-BA4C-7272DBB7CB4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674280" y="1981080"/>
            <a:ext cx="77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tatic vs. dynamic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If the environment can change while the agent is choo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n action, the environment is dynamic.  Semi-dynamic if the agent’s perform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hanges even when the environment remains the sam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4354F-F6C6-413C-B205-8E314DD7E2B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05E8D-4C78-4FAA-AA6C-2FBDC669BF7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842400" y="1981080"/>
            <a:ext cx="738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iscrete vs. continuous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This distinction can be applied to the state 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nvironment, the way time is handled and to the percepts/actions of the ag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0D93E-3E48-4474-BF80-0B3C353ECE8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720C8-9B3D-4FD2-92AA-E93B91966C5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842400" y="1981080"/>
            <a:ext cx="738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iscrete vs. continuous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This distinction can be applied to the state 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nvironment, the way time is handled and to the percepts/actions of the ag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48EDE-D7EB-4BF2-A492-16F70C1A23E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DF755F-0896-4FF1-939C-43740D673AD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1143720" y="1981080"/>
            <a:ext cx="678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ingle vs. multi-agent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Does the environment contain other agents 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re also maximizing some performance measure that depends on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urrent agent’s ac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75C9A-0C8D-4ABB-A7FA-427089B5389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AED51-9028-4E87-ADAB-73224F7968C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1143720" y="1981080"/>
            <a:ext cx="678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ingle vs. multi-agent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Does the environment contain other agents 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re also maximizing some performance measure that depends on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urrent agent’s ac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FA46E-5CF3-4FBF-8845-A8308558120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43956-0E88-4A8A-88C2-5A48F7AC7C8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simplest environment is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lly observable, deterministic, episodic, static, discrete and single-agent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st real situations are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tially observable, stochastic, sequential, dynamic, continuous and multi-agent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DD8EB-EC1A-4169-8636-F14EE6314D6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5926E-601C-44BF-8627-7470956030D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does the inside of the agent work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 = architecture + program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agents have the same skeleton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put = current percepts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 = action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gram= manipulates input to produce output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e difference with agent function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2181D-58DC-415C-AB8D-0D8E4028B30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F03B0-ECAB-4F59-B3FC-3FF152DC2D3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ABLE-DRIVEN_AGENT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cep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 action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cep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 sequence initially empty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 table of actions, indexed by percept sequenc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en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cep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he end of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cept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OOKUP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cep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665280" y="5165640"/>
            <a:ext cx="44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is approach is doomed to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5E2A9-51A4-47BF-A57E-08C32808C54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51455-617D-4608-8DB9-7DFFDA7CDF9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s and environments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s include human, robots, softbots, thermostats, etc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gent 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ps percept sequence to action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gent can perceive its own actions, but not always it effect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90680" y="3052800"/>
            <a:ext cx="4186080" cy="1879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257800" y="3809880"/>
                <a:ext cx="2743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P</m:t>
                    </m:r>
                    <m:r>
                      <m:t xml:space="preserve">∗</m:t>
                    </m:r>
                    <m:r>
                      <m:t xml:space="preserve">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2A693-2E4C-41BC-9982-E4CD927B64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F5A49-BE0B-4EEE-8454-B4420134546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basic kind of agent programs will be discussed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mple reflex agents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el-based reflex agents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oal-based agents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tility-based agents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these can be turned into learning agents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E004E-F10E-4BB8-8931-A3367969937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24F758-BBCA-465A-9AD7-9172163FE64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; simple reflex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t action on the basis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nly the curr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cept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.g. the vacuum-agent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rge reduction in possible percept/action situations(next page). 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lemented through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dition-action rule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dirty then suck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90680" y="2666880"/>
            <a:ext cx="4186080" cy="26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2AB5F-9574-47FD-A91A-9C1619C9316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1CD81-1109-4D63-8B46-5BD6EEA4802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vacuum-cleaner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 REFLEX-VACUUM-AGENT (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ocation, statu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) return an actio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tatus == Dirt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n retur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uck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se i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ocation == 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n retur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Right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se i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ocation == 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n retur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eft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Verdana"/>
              </a:rPr>
              <a:t>Reduction from 4</a:t>
            </a:r>
            <a:r>
              <a:rPr b="0" lang="en-US" sz="2900" spc="-1" strike="noStrike" baseline="30000">
                <a:solidFill>
                  <a:srgbClr val="ff0000"/>
                </a:solidFill>
                <a:latin typeface="Verdana"/>
              </a:rPr>
              <a:t>T</a:t>
            </a:r>
            <a:r>
              <a:rPr b="0" lang="en-US" sz="2900" spc="-1" strike="noStrike">
                <a:solidFill>
                  <a:srgbClr val="ff0000"/>
                </a:solidFill>
                <a:latin typeface="Verdana"/>
              </a:rPr>
              <a:t> to 4 entries</a:t>
            </a:r>
            <a:endParaRPr b="0" lang="en-US" sz="29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63800" y="1989000"/>
            <a:ext cx="378144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1DEE8-E612-48C7-9528-C3DDFAB0B89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5A9A3-5414-4D8E-A33C-AC038331B18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; simple reflex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IMPLE-REFLEX-AGENT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cep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 action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ul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 set of condition-action rule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TERPRET-INPUT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cep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LE-MATCH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LE-ACTION[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ur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only work if the environment i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fully observabl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therwise infinite loops may occur.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FD290-A64E-409F-A23A-B98385E1DF3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9D248-88A4-4785-BC3A-892A14D46B4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; reflex and stat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tackl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artially observa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nvironment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intain internal state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 time update state using world knowledge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does the world change.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do actions affect world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Model of World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90680" y="2666880"/>
            <a:ext cx="4186080" cy="26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07687-3501-47E5-BC35-38BFC36050B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60DA4-1B7A-4F5B-B8D2-08E9625C5C4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; reflex and stat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FLEX-AGENT-WITH-STATE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cep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 action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ul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 set of condition-action rule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state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, a description of the current world stat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action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, the most recent action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state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UPDATE-STATE(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state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action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percept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LE-MATCH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LE-ACTION[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ur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C6D14-2381-424B-8C55-DA41983E899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55B232-91F3-422E-8B0F-2313DF64C33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; goal-base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gent needs a goal to know which situations ar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esira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ngs become difficult when long sequences of actions are required to find the goal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ypically investigated i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lann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search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jor difference: future is taken into accoun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more flexible since knowledge is represented explicitly and can be manipulated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90680" y="2666880"/>
            <a:ext cx="4186080" cy="26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D4170-3BE2-4B29-8049-4F798D758CD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9F161-054B-495F-9A5C-EE75512F486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; utility-base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rtain goals can be reached in different way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are better, have a higher utility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tility function maps a (sequence of) state(s) onto a real number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es on goals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lecting between conflicting goals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lect appropriately between several goals based on likelihood of success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90680" y="2666880"/>
            <a:ext cx="4186080" cy="26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3A56C-42BC-420D-957B-F04B321406C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0FF80-76DF-4D43-9CFF-E7854D8602F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; lear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previous agent-programs describe methods for selecting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c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et it does not explain the origin of these programs.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arning mechanisms can be used to perform this task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ach them instead of instructing them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vantage is the robustness of the program toward initially unknown environments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90680" y="2529000"/>
            <a:ext cx="4186080" cy="292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73042-B8C8-4D26-BCBC-509A1E50E27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8875B-0E87-4BC0-AE6E-120999590D8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; lear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earning elem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introduce improvements in performance element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ritic provides feedback on agents performance based on fixed performance standard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formance elem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selecting actions based on percepts. 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rresponds to the previous agent programs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oblem genera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suggests actions that will lead to new and informative experience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xploration vs. exploitation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4186080" cy="292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25283-9D96-4BD3-ADB5-805DA782BEC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F927E-3B11-43C9-BA54-0B828976D1D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s and environments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gent 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internally be represented by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gent progr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gent program runs on the physical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rchitectu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produc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90680" y="3052800"/>
            <a:ext cx="4186080" cy="187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9A0E4-B586-40B2-A198-37FDF4D370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93BD4-CEC1-4613-AF7B-C87C082CDA2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vacuum-cleaner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: square A and B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cepts: [location and content] e.g.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[A, Dirty]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s: left, right, suck, and no-op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863800" y="1989000"/>
            <a:ext cx="378144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F1AAD-5F8C-4F34-BA01-1B07D204A0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1312A-83D6-493F-974C-45C97261701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vacuum-cleaner world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3119400" cy="15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1066680" y="3581280"/>
          <a:ext cx="6858000" cy="2425680"/>
        </p:xfrm>
        <a:graphic>
          <a:graphicData uri="http://schemas.openxmlformats.org/drawingml/2006/table">
            <a:tbl>
              <a:tblPr/>
              <a:tblGrid>
                <a:gridCol w="5058000"/>
                <a:gridCol w="1800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cept sequ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A,Clean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A, Dirty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B, Clean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B, Dirty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A, Clean],[A, Clean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A, Clean],[A, Dirty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81448-60E8-4468-A294-1C534B48C03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F42C3-4EBA-4C5C-880B-130A2B3204B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vacuum-cleaner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 REFLEX-VACUUM-AGENT (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ocation, statu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) return an actio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tatus == Dirt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n retur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uck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se i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ocation == 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n retur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Right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se i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ocation == 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n retur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eft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right function? Can it be implemented in a small agent program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63800" y="1989000"/>
            <a:ext cx="378144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D6839-2CB1-4AA8-917E-E3CE109647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259CB-8B7C-4594-9FB7-BBFB20C5A70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concept of rationalit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tional ag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one that does the right thing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ery entry in the table is filled out correctly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right thing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roximation: the most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uccesful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gent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Measure of success?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measure should be objective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.g. the amount of dirt cleaned within a certain tim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.g. how clean the floor is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erformance measure according to what is wanted in the environment instead of how the agents should behav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A6546-628D-45DA-AE51-0F6533CA1B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EA3E7E-5C75-47A8-8674-A38A0DA384A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ationality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rational at a given time depends on four things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measure,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or environment knowledge,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,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cept sequence to date (sensors).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 rational agent chooses whichever action maximizes the expected value of the performance measure given the percept sequence to date and prior environment knowledg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95207-0955-41EB-BD71-E2B4104FEB6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C55BB-8055-4439-9161-8735DB79320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4T13:59:04Z</dcterms:created>
  <dc:creator>ikke dikke</dc:creator>
  <dc:description/>
  <dc:language>en-US</dc:language>
  <cp:lastModifiedBy>ikke dikke</cp:lastModifiedBy>
  <cp:lastPrinted>2006-02-12T20:37:36Z</cp:lastPrinted>
  <dcterms:modified xsi:type="dcterms:W3CDTF">2006-02-12T20:47:08Z</dcterms:modified>
  <cp:revision>120</cp:revision>
  <dc:subject/>
  <dc:title>Artificial Intelligence I : Intelligent Agents</dc:title>
</cp:coreProperties>
</file>