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5.xml" ContentType="application/vnd.openxmlformats-officedocument.presentationml.notesSlide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6ED1-1D66-485E-9DB9-51E5519CE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ledige observeerbare omgevingen zijn handig omdat de agent g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 staat moet bijhouden over de omge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eel observeerbare omgevingen door noise of niet goed afgestelde sensoren of ontbrekende informat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 de omgeving gedeeltelijk observeerbaar is kan deze stochastisch lijk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s het is beter om te kijken of de omgebing determinitisch of stochastisch is vanuit het standpunt van de ag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 de omgeving deterministisch is behalve de acties van de andere agenten dan is de omgeving strategis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gent performance score changes ahen time passes, the environment is semi-dynam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gent performance score changes ahen time passes, the environment is semi-dynam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gent performance score changes ahen time passes, the environment is semi-dynam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gent performance score changes ahen time passes, the environment is semi-dynam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gent performance score changes ahen time passes, the environment is semi-dynam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gent performance score changes ahen time passes, the environment is semi-dynam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079E8-65F9-4969-B84F-3CA73C227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6A15B-4757-49CB-AC63-A205810F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012DB-EE27-4D4C-9C2F-1B5E05657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39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788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03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39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788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529A3-0CD8-42BB-B6EC-CDD4C7ED5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95AFD-B431-40E4-91DF-659D78465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AB2D2-46A7-4FD8-B8BE-1B89FD1E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E7F32F-5A06-4AD5-818E-26A6173F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EFFB9B-2BF1-4C49-B61E-73459BFA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777A84-165D-4ACA-81B4-F2281B33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2ECB8-0BCE-4785-97B2-ADDBDD47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3C0B0A-AC63-4921-B92D-2D6AB51A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625B4-8763-46F1-99E7-0237C2EB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3DC1E7-34EA-4483-B6C5-6711D56B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B06EA5-67BE-4A12-BDB9-32FB7CA2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253ED-978D-498B-8D80-BA541EDB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309F3-66AE-4B87-B95C-85F583551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39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5788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3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39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5788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98FFC0-FFB6-4C9A-962E-F877B76AF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BC339-DCEF-41AF-AA67-5CC87CA2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76BF8-D855-4B41-BDD4-1C6B6F49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6BF16-B670-4B55-AAAD-7EE5F586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3A1B9-905A-4636-9209-E66E13B3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2C2F5-501E-4378-9682-0C07B925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5D8F6-5607-4E04-9B8A-03BAE265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F22BE-D827-458A-BF59-C00F5FBA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07120"/>
            <a:ext cx="9140760" cy="647640"/>
          </a:xfrm>
          <a:prstGeom prst="rect">
            <a:avLst/>
          </a:prstGeom>
          <a:solidFill>
            <a:srgbClr val="abb202"/>
          </a:solidFill>
          <a:ln w="9360">
            <a:solidFill>
              <a:srgbClr val="abb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70720" indent="-270720">
              <a:spcBef>
                <a:spcPts val="10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Click to edit the outline text format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1" marL="586800" indent="-22572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con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2" marL="90288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Thir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3" marL="126396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our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4" marL="1625040" indent="-180360">
              <a:spcBef>
                <a:spcPts val="1001"/>
              </a:spcBef>
              <a:buClr>
                <a:srgbClr val="7f7358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if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5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ix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6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ven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9BC2-9119-419F-ABC0-4D7B363DE610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0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61892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96C5-F025-4846-90F9-AC405BEB5BBF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219640" y="6207120"/>
            <a:ext cx="3922920" cy="216000"/>
          </a:xfrm>
          <a:prstGeom prst="rect">
            <a:avLst/>
          </a:prstGeom>
          <a:solidFill>
            <a:srgbClr val="5f604a"/>
          </a:solidFill>
          <a:ln w="9360">
            <a:solidFill>
              <a:srgbClr val="5f6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46800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258920" y="6516720"/>
            <a:ext cx="36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Verdana"/>
              </a:rPr>
              <a:t>Pa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0760" cy="5235480"/>
          </a:xfrm>
          <a:prstGeom prst="rect">
            <a:avLst/>
          </a:prstGeom>
          <a:solidFill>
            <a:srgbClr val="7f7358"/>
          </a:solidFill>
          <a:ln w="9360">
            <a:solidFill>
              <a:srgbClr val="7f73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79640" y="161892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2539-1FFD-4AF3-8E02-60EAAC367D66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0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4A7D-BE02-4696-8D77-261900485B35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18200" y="6638760"/>
            <a:ext cx="3922560" cy="216000"/>
          </a:xfrm>
          <a:prstGeom prst="rect">
            <a:avLst/>
          </a:prstGeom>
          <a:solidFill>
            <a:srgbClr val="5f604a"/>
          </a:solidFill>
          <a:ln w="9360">
            <a:solidFill>
              <a:srgbClr val="5f6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181480" y="5541840"/>
            <a:ext cx="349092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7f7358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79640" y="161892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Artificial Intelligence I : Intelligent Agents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79280" y="4138200"/>
            <a:ext cx="7740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cturer: Tom Lenaerts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WITCH, Vlaams Interuniversitair Instituut voor Biotechnologie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ationality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71680" indent="-571680"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ationality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mniscience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838080" indent="-38088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omniscient agent knows the actual outcome of its actions.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marL="571680" indent="-571680"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ationality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perfection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838080" indent="-38088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ationality maximizes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expecte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performance, while perfection maximizes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ctua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performance.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DB9D1-A929-490B-BA5B-A0C5B659A18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130DD9-74DB-4308-A057-7DD8B6A8336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ationality 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proposed definition requires: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formation gathering/exploration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maximize future reward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rn from percepts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ing prior knowledge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 autonomy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ensate for incorrect prior knowledge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61DB6-7484-4571-8182-355CA9BB2A0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BF5D11-B498-403C-8681-85FED749664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nvironment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o design a rational agent we must specify its task environment.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AS description of the environment: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formance 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vironment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uators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nsors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EF876-9536-4BCF-B96D-68D192AFD16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4795C5-52B7-4069-AFA2-00CD68AE36E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nvironment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.g. Fully automated taxi: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AS description of the environment: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formance 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afety, destination, profits, legality, comfort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vironment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reets/freeways, other traffic, pedestrians, weather,, …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tuators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eering, accelerating, brake, horn, speaker/display,…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nsors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ideo, sonar, speedometer, engine sensors, keyboard, GPS, …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F7C7A-9596-4664-BB46-42F9D5986D6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87DB7A-0332-44BF-A93F-E9D17BD7890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nvironment typ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3276720"/>
          <a:ext cx="8153280" cy="2643120"/>
        </p:xfrm>
        <a:graphic>
          <a:graphicData uri="http://schemas.openxmlformats.org/drawingml/2006/table">
            <a:tbl>
              <a:tblPr/>
              <a:tblGrid>
                <a:gridCol w="1706400"/>
                <a:gridCol w="1341720"/>
                <a:gridCol w="1828800"/>
                <a:gridCol w="1950840"/>
                <a:gridCol w="1325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lit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kgamm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net sh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x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servabl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terminis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isod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-agent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AC032-877F-44BA-8E6B-3220D662C7E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34A91D-BE2C-4792-AA69-B72BF237CC1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nvironment typ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3276720"/>
          <a:ext cx="8153280" cy="2643120"/>
        </p:xfrm>
        <a:graphic>
          <a:graphicData uri="http://schemas.openxmlformats.org/drawingml/2006/table">
            <a:tbl>
              <a:tblPr/>
              <a:tblGrid>
                <a:gridCol w="1706400"/>
                <a:gridCol w="1341720"/>
                <a:gridCol w="1828800"/>
                <a:gridCol w="1950840"/>
                <a:gridCol w="1325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lit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kgamm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net sh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x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bservabl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terminis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isod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-agent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1059120" y="2133720"/>
            <a:ext cx="71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Fully vs. partially observable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: an environment is full observable when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sensors can detect all aspects that are 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relevant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to the choice of ac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2DCDC-5072-4700-8B7D-72F6089508A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F99447-10B6-4788-89EB-75A91E3D9D7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nvironment typ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57200" y="3276720"/>
          <a:ext cx="8153280" cy="2643120"/>
        </p:xfrm>
        <a:graphic>
          <a:graphicData uri="http://schemas.openxmlformats.org/drawingml/2006/table">
            <a:tbl>
              <a:tblPr/>
              <a:tblGrid>
                <a:gridCol w="1706400"/>
                <a:gridCol w="1341720"/>
                <a:gridCol w="1828800"/>
                <a:gridCol w="1950840"/>
                <a:gridCol w="1325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lit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kgamm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net sh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x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bservabl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terminis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isod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-agent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1059120" y="2133720"/>
            <a:ext cx="71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Fully vs. partially observable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: an environment is full observable when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sensors can detect all aspects that are 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relevant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to the choice of ac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32512-2D31-454E-B0BF-C1AD1DD87E0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D8709C-33EB-4B26-95F7-AB3F79F2934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nvironment typ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3276720"/>
          <a:ext cx="8153280" cy="2643120"/>
        </p:xfrm>
        <a:graphic>
          <a:graphicData uri="http://schemas.openxmlformats.org/drawingml/2006/table">
            <a:tbl>
              <a:tblPr/>
              <a:tblGrid>
                <a:gridCol w="1706400"/>
                <a:gridCol w="1341720"/>
                <a:gridCol w="1828800"/>
                <a:gridCol w="1950840"/>
                <a:gridCol w="1325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lit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kgamm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net sh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x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bservabl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eterminis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isod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-agent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1130400" y="1992240"/>
            <a:ext cx="707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Deterministic vs. stochastic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: if the next environment state is complet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determined by the current state the executed action then the environment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deterministi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2CE97-7132-410A-80BC-CAFD5619DD5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235E65-5BDB-4A6D-9409-445C96B2110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nvironment typ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57200" y="3276720"/>
          <a:ext cx="8153280" cy="2643120"/>
        </p:xfrm>
        <a:graphic>
          <a:graphicData uri="http://schemas.openxmlformats.org/drawingml/2006/table">
            <a:tbl>
              <a:tblPr/>
              <a:tblGrid>
                <a:gridCol w="1706400"/>
                <a:gridCol w="1341720"/>
                <a:gridCol w="1828800"/>
                <a:gridCol w="1950840"/>
                <a:gridCol w="1325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lit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kgamm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net sh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x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bservabl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eterminis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isod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-agent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1130400" y="1981080"/>
            <a:ext cx="707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Deterministic vs. stochastic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: if the next environment state is complet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determined by the current state the executed action then the environment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deterministi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1A546-5D3F-4D6E-9C07-279693528D3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0F1BDB-9052-4880-971B-9D85F7EFA3B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nvironment typ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57200" y="3276720"/>
          <a:ext cx="8153280" cy="2643120"/>
        </p:xfrm>
        <a:graphic>
          <a:graphicData uri="http://schemas.openxmlformats.org/drawingml/2006/table">
            <a:tbl>
              <a:tblPr/>
              <a:tblGrid>
                <a:gridCol w="1706400"/>
                <a:gridCol w="1341720"/>
                <a:gridCol w="1828800"/>
                <a:gridCol w="1950840"/>
                <a:gridCol w="1325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lit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kgamm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net sh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x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bservabl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eterminis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pisod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-agent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903600" y="1981080"/>
            <a:ext cx="737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Episodic vs. sequential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: In an episodic environment the agent’s exper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an be divided into atomic steps where the agents perceives and then per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 single action. The choice of action depends only on the episode itsel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E9EBA-D6A4-4B38-8755-7FC1D6EBC72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988BFD-DAA1-4F4A-9F23-8784EA1759A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utline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gents and environments.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vacuum-cleaner world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concept of rational behavior.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nvironments.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gent structure.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83A19-91DA-4D09-B7A9-A26BD8126C8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348FB3-EB9E-4201-B73B-EDA9602D193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nvironment typ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3276720"/>
          <a:ext cx="8153280" cy="2643120"/>
        </p:xfrm>
        <a:graphic>
          <a:graphicData uri="http://schemas.openxmlformats.org/drawingml/2006/table">
            <a:tbl>
              <a:tblPr/>
              <a:tblGrid>
                <a:gridCol w="1706400"/>
                <a:gridCol w="1341720"/>
                <a:gridCol w="1828800"/>
                <a:gridCol w="1950840"/>
                <a:gridCol w="1325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lit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kgamm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net sh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x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bservabl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eterminis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pisod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-agent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903600" y="1981080"/>
            <a:ext cx="737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Episodic vs. sequential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: In an episodic environment the agent’s exper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an be divided into atomic steps where the agents perceives and then per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 single action. The choice of action depends only on the episode itsel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26E21-8AE6-42AD-B9F2-1BE243B1C06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BB1965-3FEA-4F4F-9476-C2D702EE5C0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nvironment typ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57200" y="3276720"/>
          <a:ext cx="8153280" cy="2643120"/>
        </p:xfrm>
        <a:graphic>
          <a:graphicData uri="http://schemas.openxmlformats.org/drawingml/2006/table">
            <a:tbl>
              <a:tblPr/>
              <a:tblGrid>
                <a:gridCol w="1706400"/>
                <a:gridCol w="1341720"/>
                <a:gridCol w="1828800"/>
                <a:gridCol w="1950840"/>
                <a:gridCol w="1325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lit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kgamm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net sh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x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bservabl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eterminis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pisod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a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-agent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674280" y="1981080"/>
            <a:ext cx="772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tatic vs. dynamic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: If the environment can change while the agent is choo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n action, the environment is dynamic.  Semi-dynamic if the agent’s performa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hanges even when the environment remains the sam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427B5-5A07-456B-9EBD-FF5E4A7FF22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494673-BB62-4045-BB1F-21DE1C5F91B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nvironment typ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57200" y="3276720"/>
          <a:ext cx="8153280" cy="2643120"/>
        </p:xfrm>
        <a:graphic>
          <a:graphicData uri="http://schemas.openxmlformats.org/drawingml/2006/table">
            <a:tbl>
              <a:tblPr/>
              <a:tblGrid>
                <a:gridCol w="1706400"/>
                <a:gridCol w="1341720"/>
                <a:gridCol w="1828800"/>
                <a:gridCol w="1950840"/>
                <a:gridCol w="1325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lit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kgamm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net sh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x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bservabl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eterminis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pisod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a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-agent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674280" y="1981080"/>
            <a:ext cx="772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tatic vs. dynamic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: If the environment can change while the agent is choo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n action, the environment is dynamic.  Semi-dynamic if the agent’s performa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hanges even when the environment remains the sam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4F6C3-783C-43AB-AB6D-7A120EADB22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FDF179-19D3-476C-BC5E-590F69015FB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nvironment typ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57200" y="3276720"/>
          <a:ext cx="8153280" cy="2643120"/>
        </p:xfrm>
        <a:graphic>
          <a:graphicData uri="http://schemas.openxmlformats.org/drawingml/2006/table">
            <a:tbl>
              <a:tblPr/>
              <a:tblGrid>
                <a:gridCol w="1706400"/>
                <a:gridCol w="1341720"/>
                <a:gridCol w="1828800"/>
                <a:gridCol w="1950840"/>
                <a:gridCol w="1325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lit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kgamm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net sh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x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bservabl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eterminis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pisod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a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iscret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-agent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842400" y="1981080"/>
            <a:ext cx="738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Discrete vs. continuous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: This distinction can be applied to the state of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environment, the way time is handled and to the percepts/actions of the agen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0AD53-FEA0-41BC-9CDD-7975B819154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D8ACA0-61F4-45AA-887D-5F4BD413EA7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nvironment typ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57200" y="3276720"/>
          <a:ext cx="8153280" cy="2643120"/>
        </p:xfrm>
        <a:graphic>
          <a:graphicData uri="http://schemas.openxmlformats.org/drawingml/2006/table">
            <a:tbl>
              <a:tblPr/>
              <a:tblGrid>
                <a:gridCol w="1706400"/>
                <a:gridCol w="1341720"/>
                <a:gridCol w="1828800"/>
                <a:gridCol w="1950840"/>
                <a:gridCol w="1325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lit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kgamm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net sh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x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bservabl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eterminis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pisod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a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iscret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-agent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842400" y="1981080"/>
            <a:ext cx="738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Discrete vs. continuous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: This distinction can be applied to the state of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environment, the way time is handled and to the percepts/actions of the agen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D4AEF-D55A-445D-A9DD-EC06353C545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3CACF6-156F-44FA-B632-D8EDDA768BA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nvironment typ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57200" y="3276720"/>
          <a:ext cx="8153280" cy="2643120"/>
        </p:xfrm>
        <a:graphic>
          <a:graphicData uri="http://schemas.openxmlformats.org/drawingml/2006/table">
            <a:tbl>
              <a:tblPr/>
              <a:tblGrid>
                <a:gridCol w="1706400"/>
                <a:gridCol w="1341720"/>
                <a:gridCol w="1828800"/>
                <a:gridCol w="1950840"/>
                <a:gridCol w="1325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lit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kgamm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net sh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x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bservabl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eterminis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pisod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a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iscret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ingle-agent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1143720" y="1981080"/>
            <a:ext cx="678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ingle vs. multi-agent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: Does the environment contain other agents w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re also maximizing some performance measure that depends on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urrent agent’s action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52997-4BB0-4670-B93C-D733DF05864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6514A2-2EE5-496A-8A05-15955B03708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nvironment typ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7200" y="3276720"/>
          <a:ext cx="8153280" cy="2643120"/>
        </p:xfrm>
        <a:graphic>
          <a:graphicData uri="http://schemas.openxmlformats.org/drawingml/2006/table">
            <a:tbl>
              <a:tblPr/>
              <a:tblGrid>
                <a:gridCol w="1706400"/>
                <a:gridCol w="1341720"/>
                <a:gridCol w="1828800"/>
                <a:gridCol w="1950840"/>
                <a:gridCol w="1325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lit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kgamm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net sh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x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bservabl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eterminis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pisod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atic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iscrete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ingle-agent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1143720" y="1981080"/>
            <a:ext cx="678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ingle vs. multi-agent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: Does the environment contain other agents w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re also maximizing some performance measure that depends on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urrent agent’s action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40859-C6A2-432E-9C20-F49651DD58BC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EBE74E-B0E4-4127-A6CA-E6E9AF732C5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nvironment typ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simplest environment is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lly observable, deterministic, episodic, static, discrete and single-agent.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st real situations are: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artially observable, stochastic, sequential, dynamic, continuous and multi-agent.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E9D8A-86DA-4D36-BBD0-582982B7461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FE2465-70B2-43A3-B279-0A770CCBC2D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gent typ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does the inside of the agent work?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nt = architecture + program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agents have the same skeleton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put = current percepts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tput = action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gram= manipulates input to produce output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e difference with agent function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AB328-C979-45F1-A735-36E8FA093C4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3EA80F-B28A-4623-9C0C-4630645AC3C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gent types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ABLE-DRIVEN_AGENT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ercep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tur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 action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ercept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a sequence initially empty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a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a table of actions, indexed by percept sequenc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en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ercep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the end of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ercepts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OOKUP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ercept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a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665280" y="5165640"/>
            <a:ext cx="44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is approach is doomed to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1E0D8-A088-4300-B2F2-43026162757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B8AE62-7564-40A6-B02C-E75465786B6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gents and environments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8340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s include human, robots, softbots, thermostats, etc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gent func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aps percept sequence to actions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agent can perceive its own actions, but not always it effects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90680" y="3052800"/>
            <a:ext cx="4186080" cy="1879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5257800" y="3809880"/>
                <a:ext cx="27432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P</m:t>
                    </m:r>
                    <m:r>
                      <m:t xml:space="preserve">∗</m:t>
                    </m:r>
                    <m:r>
                      <m:t xml:space="preserve">→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42457-9265-4C70-AC8E-8AE790B735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FE4F9B-3F6A-4563-AC3D-336F16E4FFC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gent typ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basic kind of agent programs will be discussed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mple reflex agents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el-based reflex agents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oal-based agents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tility-based agents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these can be turned into learning agents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42D69-2665-4077-9073-1BF70F741FA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3C8D3C-7F1A-4EDD-8492-66DB749AECD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gent types; simple reflex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8340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ect action on the basis o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nly the curr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ercept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.g. the vacuum-agent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rge reduction in possible percept/action situations(next page). 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lemented through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ondition-action rules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dirty then suck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90680" y="2666880"/>
            <a:ext cx="4186080" cy="26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53EF1-7DD1-4013-874B-C48C85FD898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99BC57-D037-4023-B494-C35F002FB8C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he vacuum-cleaner world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 REFLEX-VACUUM-AGENT ([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location, statu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]) return an action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tatus == Dirty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hen retur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uck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se if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location == 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hen retur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Right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se if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location == B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hen retur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Left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Verdana"/>
              </a:rPr>
              <a:t>Reduction from 4</a:t>
            </a:r>
            <a:r>
              <a:rPr b="0" lang="en-US" sz="2900" spc="-1" strike="noStrike" baseline="30000">
                <a:solidFill>
                  <a:srgbClr val="ff0000"/>
                </a:solidFill>
                <a:latin typeface="Verdana"/>
              </a:rPr>
              <a:t>T</a:t>
            </a:r>
            <a:r>
              <a:rPr b="0" lang="en-US" sz="2900" spc="-1" strike="noStrike">
                <a:solidFill>
                  <a:srgbClr val="ff0000"/>
                </a:solidFill>
                <a:latin typeface="Verdana"/>
              </a:rPr>
              <a:t> to 4 entries</a:t>
            </a:r>
            <a:endParaRPr b="0" lang="en-US" sz="29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863800" y="1989000"/>
            <a:ext cx="378144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6ECCE-7650-4AA2-81E6-23CD09433CC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2A4FC8-78C4-4B62-861C-30B54D1C032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gent types; simple reflex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IMPLE-REFLEX-AGENT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ercep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tur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 action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ul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a set of condition-action rules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TERPRET-INPUT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ercep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u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ULE-MATCH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u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ULE-ACTION[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u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tur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ll only work if the environment is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fully observable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therwise infinite loops may occur.</a:t>
            </a:r>
            <a:endParaRPr b="0" lang="en-US" sz="26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8058A-848C-436F-B065-3E35A52AB75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44D2A5-94C2-4B09-828C-A5607386C94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gent types; reflex and stat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8340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tackl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artially observab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nvironments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intain internal state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ver time update state using world knowledge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w does the world change. 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w do actions affect world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Model of World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90680" y="2666880"/>
            <a:ext cx="4186080" cy="26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21770-362B-4962-9350-D654FFBE828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143C49-FA4C-4DD6-8400-08B6ADAA184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gent types; reflex and stat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FLEX-AGENT-WITH-STATE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ercep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tur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 action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ul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a set of condition-action rules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state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, a description of the current world stat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action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, the most recent action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state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UPDATE-STATE(</a:t>
            </a: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state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, </a:t>
            </a: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action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, </a:t>
            </a: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percept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u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ULE-MATCH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u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ULE-ACTION[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u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tur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246DE-D502-4B75-A51B-2665926C572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DF1D6D-DC9D-4C97-B558-1EE05DF07CA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gent types; goal-based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8340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agent needs a goal to know which situations ar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desira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ngs become difficult when long sequences of actions are required to find the goal.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ypically investigated in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arc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lann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search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jor difference: future is taken into account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more flexible since knowledge is represented explicitly and can be manipulated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90680" y="2666880"/>
            <a:ext cx="4186080" cy="26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50B77-BF65-46CD-95D3-04776140ED9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016B25-9ECA-468A-803C-5F87BBC0451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gent types; utility-based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8340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rtain goals can be reached in different ways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me are better, have a higher utility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tility function maps a (sequence of) state(s) onto a real number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es on goals: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lecting between conflicting goals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lect appropriately between several goals based on likelihood of success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90680" y="2666880"/>
            <a:ext cx="4186080" cy="26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04151-E90D-461C-A9A8-4C8378A9353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C55803-5C62-4C32-9BE3-3F59ADB091E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gent types; learn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8340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previous agent-programs describe methods for selecting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cti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et it does not explain the origin of these programs. 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arning mechanisms can be used to perform this task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ach them instead of instructing them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vantage is the robustness of the program toward initially unknown environments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90680" y="2529000"/>
            <a:ext cx="4186080" cy="292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A5E8A-AA57-441B-ABDC-B9D5A287E91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E18EE2-BA76-4AD6-B1A0-222E299CEF6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gent types; learn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8340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Learning eleme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introduce improvements in performance element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ritic provides feedback on agents performance based on fixed performance standard.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erformance eleme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selecting actions based on percepts.  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rresponds to the previous agent programs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roblem generat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suggests actions that will lead to new and informative experiences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xploration vs. exploitation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4186080" cy="292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1DC73-469D-4EFE-803E-8738DBAE853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89B61E-3BA4-4110-8B9D-E67B7BC4BF4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gents and environments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8340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gent func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ll internally be represented by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gent progra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agent program runs on the physical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rchitectur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produc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90680" y="3052800"/>
            <a:ext cx="4186080" cy="1879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63467-4155-4E77-9A98-E1770D903AC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AEAE20-092C-4F75-915F-3260F41FDD8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he vacuum-cleaner world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: square A and B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cepts: [location and content] e.g.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[A, Dirty]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ions: left, right, suck, and no-op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863800" y="1989000"/>
            <a:ext cx="378144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C39E0-1A2A-480B-9E16-83515D8908C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E8A139-6027-4B9C-94C6-92779EFF377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he vacuum-cleaner world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00400" y="1752480"/>
            <a:ext cx="3119400" cy="159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1066680" y="3581280"/>
          <a:ext cx="6858000" cy="2425680"/>
        </p:xfrm>
        <a:graphic>
          <a:graphicData uri="http://schemas.openxmlformats.org/drawingml/2006/table">
            <a:tbl>
              <a:tblPr/>
              <a:tblGrid>
                <a:gridCol w="5058000"/>
                <a:gridCol w="1800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cept sequ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A,Clean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A, Dirty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B, Clean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B, Dirty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A, Clean],[A, Clean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A, Clean],[A, Dirty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6ABE6-7D62-4233-B5CE-49E6C3A1D59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E8E6B8-2562-4CA5-96F3-5BFC5613708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he vacuum-cleaner world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 REFLEX-VACUUM-AGENT ([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location, statu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]) return an action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tatus == Dirty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hen retur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uck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se if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location == 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hen retur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Right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se if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location == B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hen retur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Left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the right function? Can it be implemented in a small agent program?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863800" y="1989000"/>
            <a:ext cx="378144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F9080-93B2-45B3-BFEA-A9749CF011E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1E33F0-C398-4541-AB9D-7131270031B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he concept of rationality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ational ag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one that does the right thing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ery entry in the table is filled out correctly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the right thing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roximation: the most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uccesful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gent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Measure of success?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measure should be objective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.g. the amount of dirt cleaned within a certain time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.g. how clean the floor is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erformance measure according to what is wanted in the environment instead of how the agents should behave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AC037-81F2-420F-8E42-0558294D346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53986B-5FD5-4042-9BF9-428FCAB19B6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ationality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is rational at a given time depends on four things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formance measure,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or environment knowledge,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tions,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cept sequence to date (sensors). 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 rational agent chooses whichever action maximizes the expected value of the performance measure given the percept sequence to date and prior environment knowledge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86F32-5527-4AE4-B2C5-5E2BC2EF535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5E865F-CDC1-4FC9-9ABA-257A3B61756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4T13:59:04Z</dcterms:created>
  <dc:creator>ikke dikke</dc:creator>
  <dc:description/>
  <dc:language>en-US</dc:language>
  <cp:lastModifiedBy>ikke dikke</cp:lastModifiedBy>
  <cp:lastPrinted>2006-02-12T20:37:36Z</cp:lastPrinted>
  <dcterms:modified xsi:type="dcterms:W3CDTF">2006-02-12T20:47:08Z</dcterms:modified>
  <cp:revision>120</cp:revision>
  <dc:subject/>
  <dc:title>Artificial Intelligence I : Intelligent Agents</dc:title>
</cp:coreProperties>
</file>