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1F7-AECD-4450-9571-9CB44C3E6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ledige observeerbare omgevingen zijn handig omdat de agent g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 staat moet bijhouden over de omge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eel observeerbare omgevingen door noise of niet goed afgestelde sensoren of ontbrekende infor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 de omgeving gedeeltelijk observeerbaar is kan deze stochastisch lij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 het is beter om te kijken of de omgebing determinitisch of stochastisch is vanuit het standpunt van de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 de omgeving deterministisch is behalve de acties van de andere agenten dan is de omgeving strategis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5FF3-51CF-42EC-A061-65019B0B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435B-F6B8-4AE3-862E-D1E506A2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289D-CF45-4FDA-8153-8F675E36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FCDB-464F-46BC-A45E-337BE51E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2F7BD-1E3E-497D-94B0-8F394DB6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B45C1-8E58-4BEA-9601-6CDBF228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1F260-818A-46F9-B175-E40BDD16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18E1A-2DF0-4AA6-88C2-D1B84EA2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A57C3-63F4-4A37-9009-9E5D530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55E35-F454-43ED-A214-90E6BA7B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0EB20-ACD2-4B46-85BA-729BAFA9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ED7C-5082-4952-82E1-07FA531C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5765B-8790-4F32-83EB-1E05AEE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47587-BF55-4B2C-BBAF-823C09F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18949-07F5-4BA2-B442-305BC937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DC835-FEDC-4F11-BD3E-5CD78E70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9883F-CA70-42D4-9E2D-91BEC6D5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B71E-44BB-4721-A770-B149BD08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24F0-B4C6-4484-ABA2-CA91CE2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5E26-2EED-4B90-832C-71FDF1A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6B66-035F-4DA7-A118-345C74E1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E857-42BA-4D4A-99DE-44E7C9F1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91A4-E441-43BF-A303-ABDC9343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56DB-84A2-4F1F-AB01-E1402AC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4BEB-E522-4B0D-94BC-7DE4F0F0043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AD73-B078-472D-A44E-A47B0638CB2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E1CF-00F0-4A17-A1CE-1468D13074F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1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BF51-8873-47ED-8B58-D2F988AF896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I : Intelligent Agents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tionality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tionalit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mniscience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omniscient agent knows the actual outcome of its action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tionalit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perfection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nality maximiz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pect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formance, while perfection maximiz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ctu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formance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F4665-817D-46CB-9248-D06457350D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B38FA-92A3-446E-90B4-DB2D3B535B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tionality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proposed definition requires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tion gathering/exploratio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maximize future reward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rn from percept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 prior knowledg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autonomy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nsate for incorrect prior knowledg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3959-3540-4680-AA69-F05A6BC212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8797A-59F1-4D83-983B-38F3CD043D5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design a rational agent we must specify its task environment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AS description of the environment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ance 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C8DF-D335-49D2-B9B5-0A09B85588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6E41B-2437-4B77-9420-CF36D395AFE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.g. Fully automated taxi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AS description of the environment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fety, destination, profits, legality, comfor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ets/freeways, other traffic, pedestrians, weather,, 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ering, accelerating, brake, horn, speaker/display,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deo, sonar, speedometer, engine sensors, keyboard, GPS, 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8AAA-5C5F-45E8-B6D9-F64FD6754F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EBFB9-D813-4CC9-8F0A-3090194C02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7107-2AA5-4E2D-BF37-1F91D01E57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B0A23-BE71-4C5B-B693-378E29B4C26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059120" y="2133720"/>
            <a:ext cx="71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y vs. partially observabl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an environment is full observable w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nsors can detect all aspects that ar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eleva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o the choice of a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90B4-14C0-4EEA-97C2-22433B2690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C07AA-4864-435C-A0B2-EE7DF8BC26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59120" y="2133720"/>
            <a:ext cx="71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y vs. partially observabl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an environment is full observable w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nsors can detect all aspects that ar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eleva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o the choice of a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ED93-50A9-474D-B021-73EB05FF8E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ED33-CEAE-4799-A465-E55DC8CCFB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130400" y="19922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eterministic vs. stochast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next environment state is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ed by the current state the executed action then the environmen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is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4BC8-4C2F-40FB-B43D-1ACFA6B425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C48A0-A96F-4557-866A-C316A1F42A1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130400" y="198108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eterministic vs. stochast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next environment state is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ed by the current state the executed action then the environmen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is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65CA-DE13-443D-8DE8-258AE2B37F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3D073-8FE5-4158-A11F-951FE0526F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903600" y="1981080"/>
            <a:ext cx="737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pisodic vs. sequential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n an episodic environment the agent’s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n be divided into atomic steps where the agents perceives and then per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 single action. The choice of action depends only on the episode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A41A-BD2E-4591-8D10-CD1FCBED5F1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10120-F027-40B6-95D7-156C96033AE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s and environment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cuum-cleaner world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concept of rational behavior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vironment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structur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0700-4231-41C1-992C-C655DD0F15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65986-589B-4846-92FA-680DCE737C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903600" y="1981080"/>
            <a:ext cx="737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pisodic vs. sequential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n an episodic environment the agent’s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n be divided into atomic steps where the agents perceives and then per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 single action. The choice of action depends only on the episode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ECD1-4521-4193-9AF1-89B4E8E04D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3B68A-A062-46C6-B2A6-AC877879B2E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674280" y="1981080"/>
            <a:ext cx="77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tic vs. dynam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environment can change while the agent is cho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 action, the environment is dynamic.  Semi-dynamic if the agent’s perform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anges even when the environment remains the s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7C91-D062-4DFD-9540-880776E1DF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9CB6D-2EFF-49C3-8259-C7B510AEE3C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674280" y="1981080"/>
            <a:ext cx="77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tic vs. dynam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environment can change while the agent is cho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 action, the environment is dynamic.  Semi-dynamic if the agent’s perform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anges even when the environment remains the s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ED10-CCB5-4BCE-BC82-709860CFBA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E6A4E-D64D-4B1E-8C25-65565EF84DB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842400" y="1981080"/>
            <a:ext cx="73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iscrete vs. continuous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This distinction can be applied to the state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vironment, the way time is handled and to the percepts/actions of the ag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690C-8730-458B-AA4A-62B2DE6740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B8281-8834-4461-866D-352792B486B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42400" y="1981080"/>
            <a:ext cx="73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iscrete vs. continuous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This distinction can be applied to the state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vironment, the way time is handled and to the percepts/actions of the ag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DA24-A382-4101-95D2-FC3B757330B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24DDF-E4DF-4BB6-A312-CFFC3D5B4F9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143720" y="1981080"/>
            <a:ext cx="678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ngle vs. multi-a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Does the environment contain other agents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re also maximizing some performance measure that depends o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agent’s ac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845D-AE65-4F67-8D52-986CC5CBB7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5DC73-F066-46D7-89C1-8D9DC86F4D8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143720" y="1981080"/>
            <a:ext cx="678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ngle vs. multi-a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Does the environment contain other agents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re also maximizing some performance measure that depends o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agent’s ac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F2BF-131C-4A9B-B8D5-A1B6B7D8AF3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8D517-EF52-4482-A5BD-FC52F2213A5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simplest environment is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lly observable, deterministic, episodic, static, discrete and single-agent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st real situations are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ally observable, stochastic, sequential, dynamic, continuous and multi-agent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E25F-9528-4E9B-870D-EBF4E51818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4F75B-9D79-4CC4-B872-9197124ED13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es the inside of the agent work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 = architecture + program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agents have the same skeleton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put = current percep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 = ac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= manipulates input to produce outpu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 difference with agent function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F49C-5325-491D-91FF-FA4C71ED92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3AE47-1AD5-4720-8F19-AEF74FB8CFC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BLE-DRIVEN_AGEN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sequence initially empt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table of actions, indexed by percept sequen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en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he end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KUP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665280" y="516564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approach is doomed to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5C5E-21EE-47F5-A844-6AF18E6E75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683C9-E226-4039-9F97-4272A1E40A0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s and environment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include human, robots, softbots, thermostats, et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ent 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ps percept sequence to actio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gent can perceive its own actions, but not always it effect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0680" y="3052800"/>
            <a:ext cx="418608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257800" y="38098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C10E-D72D-4AD1-B1F0-F5A0149AA5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D5B9B-EB89-4B4D-9EA2-AB440CB502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basic kind of agent programs will be discussed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ple reflex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-based reflex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-based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tility-based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these can be turned into learning agent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81EE-CEBB-477B-B984-7B51E25350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DAC3E-1F53-40BF-98CE-43E4AC752D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simple reflex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action on the basi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nly the curr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cep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the vacuum-age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reduction in possible percept/action situations(next page).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emented throug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dition-action rul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dirty then suck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0E3D-CD47-4D8D-A585-AB0AFB2AC9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3EAB5-43BB-4FCB-AD71-B25E0BDC5A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REFLEX-VACUUM-AGENT (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,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 return 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us == Dir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k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igh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f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Reduction from 4</a:t>
            </a:r>
            <a:r>
              <a:rPr b="0" lang="en-US" sz="2900" spc="-1" strike="noStrike" baseline="30000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 to 4 entries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63800" y="1989000"/>
            <a:ext cx="3781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6509-955F-48D8-9656-C5D76F8B6E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39E21-FC1F-4DA0-B7D1-563A8ADF85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simple reflex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IMPLE-REFLEX-AGEN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set of condition-action rul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RPRET-INPU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MATCH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ACTION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only work if the environment i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ully observabl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herwise infinite loops may occur.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512D-13D2-444B-9595-91DDFDE199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848E3-3722-4B3A-92F4-AEECDE0ED2A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reflex and stat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ackl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rtially observ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vironment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ntain internal stat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time update state using world knowledg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es the world change.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 actions affect wor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odel of Worl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87A5-C511-46E9-97B9-E34754212B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0BCD5-1449-4B2C-BA24-C9C30C8E368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reflex and stat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FLEX-AGENT-WITH-STATE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set of condition-action rul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a description of the current world stat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the most recent act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UPDATE-STATE(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MATCH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ACTION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7D9F-064E-4594-A593-52CD3B68AE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7B9FA-019A-4B07-89ED-CFB4314D25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goal-base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gent needs a goal to know which situations a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sir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ngs become difficult when long sequences of actions are required to find the goal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ically investigated 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earch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 difference: future is taken into accoun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more flexible since knowledge is represented explicitly and can be manipulate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DD52-E6E3-4F9B-BBA1-7B6B358C07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5F18C-5234-478F-8694-3012FF9B66C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utility-base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rtain goals can be reached in different way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re better, have a higher utility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ty function maps a (sequence of) state(s) onto a real number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s on goal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ecting between conflicting goal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ect appropriately between several goals based on likelihood of succes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1A33-7339-4CA4-816B-8BD4BC7561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E603B-0760-46A5-AA87-B0CE07C758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lear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revious agent-programs describe methods for select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t it does not explain the origin of these programs.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rning mechanisms can be used to perform this task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ach them instead of instructing them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antage is the robustness of the program toward initially unknown environment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90680" y="2529000"/>
            <a:ext cx="418608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804F-C635-409A-9125-44C90C404C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B8112-583A-4F09-8861-BE138E5FCB9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lear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arning 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ntroduce improvements in performance element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itic provides feedback on agents performance based on fixed performance standard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formance 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electing actions based on percepts. 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responds to the previous agent program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 genera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uggests actions that will lead to new and informative experienc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ploration vs. exploitation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18608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666E-EC17-4C83-8F41-4CD0734B2A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2BC12-9201-4B5B-9F2E-20F01ED3A80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s and environment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ent 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internally be represented by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ent progr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gent program runs on the physical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produc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0680" y="3052800"/>
            <a:ext cx="418608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1E25-E2B2-4584-BD53-D4583498BF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0554C-0241-4CB8-9319-34F1872BA33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: square A and B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cepts: [location and content] e.g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[A, Dirty]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left, right, suck, and no-op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63800" y="1989000"/>
            <a:ext cx="3781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387E-10A7-4954-ADDB-C817DBF691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DF1C9-1D9B-4778-8525-5081BD0FDB2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119400" cy="15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066680" y="3581280"/>
          <a:ext cx="6858000" cy="2425680"/>
        </p:xfrm>
        <a:graphic>
          <a:graphicData uri="http://schemas.openxmlformats.org/drawingml/2006/table">
            <a:tbl>
              <a:tblPr/>
              <a:tblGrid>
                <a:gridCol w="5058000"/>
                <a:gridCol w="180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ept 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Clea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 Dirt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B, Clea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B, Dirt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 Clean],[A, Clea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 Clean],[A, Dirt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C47D-2BFC-4087-AF7B-3941E68C4B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BD4D1-64BB-47D5-8628-5521DB37517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REFLEX-VACUUM-AGENT (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,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 return 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us == Dir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k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igh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f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ight function? Can it be implemented in a small agent program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63800" y="1989000"/>
            <a:ext cx="3781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0444-1761-46C1-8F86-B0885A18EB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AB978-DC33-4E09-A84C-DB6BD7E1123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concept of rationa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tional ag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ne that does the right thing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ry entry in the table is filled out correctly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right thing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ximation: the mos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ful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gen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easure of success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measure should be objectiv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the amount of dirt cleaned within a certain tim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how clean the floor i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erformance measure according to what is wanted in the environment instead of how the agents should behav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7237-3538-47FC-A1B0-67909079D8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4934C-0BFC-4949-931A-F80E6D59009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tionality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rational at a given time depends on four thing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measure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environment knowledge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cept sequence to date (sensors)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 rational agent chooses whichever action maximizes the expected value of the performance measure given the percept sequence to date and prior environment knowledg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4806-F0A8-4CBB-AFAD-DA2A6122E0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FDF5C-BE09-4E6A-9A76-6F6EB6FA5F7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3:59:04Z</dcterms:created>
  <dc:creator>ikke dikke</dc:creator>
  <dc:description/>
  <dc:language>en-US</dc:language>
  <cp:lastModifiedBy>ikke dikke</cp:lastModifiedBy>
  <cp:lastPrinted>2006-02-12T20:37:36Z</cp:lastPrinted>
  <dcterms:modified xsi:type="dcterms:W3CDTF">2006-02-12T20:47:08Z</dcterms:modified>
  <cp:revision>120</cp:revision>
  <dc:subject/>
  <dc:title>Artificial Intelligence I : Intelligent Agents</dc:title>
</cp:coreProperties>
</file>