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5.png" ContentType="image/png"/>
  <Override PartName="/ppt/media/image7.png" ContentType="image/png"/>
  <Override PartName="/ppt/media/image34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35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2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54EF-1648-414E-AB59-C98502E2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5A30-E248-45CF-8B4B-A940F49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1E60-78EE-48BB-B953-01D170F7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D318-0E39-4DBC-BF5F-5043DA62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0E379-FFEF-4BB8-A308-37FE7E02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F1940-2DDD-469E-83CE-08300F13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43152-C490-4D62-A7FE-295C51F9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72C44-9111-46AB-A85C-381ABF91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8696E-F671-472B-9585-3F9EB979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CFE8D-B1DF-4AD9-B6A8-3437422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4E9D7-80EE-48DE-96D3-07A64899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451B-C995-4245-ADA6-0EEBA5FD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D8B76-C271-46FD-932B-CC4882EB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20930-FE8E-4EA2-887D-1031D3A7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7CBEE-DB2C-474D-A087-5C8D2EF4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33FC8-FF07-47E9-B10F-DCE1CBD9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3F164-B193-4678-97D5-A19CE217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20A9-B7E8-4062-80D4-5E7B6165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2E23-71C4-4F7A-B52A-84FAAD3B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8D6C-EB92-4304-A8D1-A4FE5526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946B-EBAB-4BD8-9368-CB9DB557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1A49-6D88-49D3-8DF9-B111931A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D183-DF52-40E8-9AA1-69F7800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EC96-E566-4114-9238-09DEC10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2E7B-A59A-4598-AD59-71A0A3FEA67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93F-9E46-4F20-89E7-21EA5E46D61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B441-86B6-4E8E-A662-5BAA8F71E80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2358-DBF0-4017-904C-5CA287C2C80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I I: problem solving and search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state, start in #5. Solution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[Right, Suck]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ensorless: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in {1,2,3,4,5,6,7,8} e.g Right goes to {2,4,6,8}. Solution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tingency: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in {1,3}. (assume Murphy’s law, Suck can dirty a clean carpet and local sensing: [location,dirt] only. Solution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34080" y="2212920"/>
            <a:ext cx="418608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D27B-DD26-4568-9047-50337845DC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D8799-42F5-4A19-B482-26B11369BC9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formul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blem is defined b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itial 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.g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ra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uccessor func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(X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set of action-state pair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(Arad)={&lt;Ara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Zerind, Zerind&gt;,…}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ial state + successor function = state spac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oal 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an b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plicit, e.g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x=‘at bucharest’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icit, e.g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heckmate(x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Path cos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dditiv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sum of distances, number of actions executed, …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(x,a,y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he step cost, assumed to be &gt;= 0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a sequence of actions from initial to goal stat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ptimal solu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s the lowest path cos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F406-F1AB-4F90-AF63-33962F87C2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0980E-3C3C-4B15-A9F2-399FF82B81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lecting a state spa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 world is absurdly complex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 space must b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bstract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problem solving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stract) state = set of real stat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stract) action = complex combination of real action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Ar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erind represents a complex set of possible routes, detours, rest stops, etc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abstraction is valid if the path between two states is reflected in the real wor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stract) solution = set of real paths that are solutions in the real worl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abstract action should be “easier” than the real problem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E3F3-6D71-4A2F-B347-83EBABF2EF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94D33-03F2-485B-9E54-0EE9C26FEE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81080" y="1668600"/>
            <a:ext cx="464832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83EA-A230-4F39-AEBE-4EAFD3B314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17E48-278B-404F-AFAD-62F9C700BE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two locations with or without dirt: 2 x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8 stat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Any state can be initi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{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Check whether squares are clea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Number of actions to reach go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1668600"/>
            <a:ext cx="464832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587B-554B-4F35-8A88-927CEED0F1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E65EB-BB08-4FBA-A153-02003D7AC5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puzz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0B03-30ED-448F-9752-80566D9CC7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C0C2B-9287-4905-B9B5-113DF81F5F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puzz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Integer location of each tile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Any state can be initi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{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Check whether goal configuration is reach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Number of actions to reach go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3B07-036D-4560-84B0-917C2C65FA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1852F-3542-4702-9625-848BB1C6DDA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87920" y="198900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003C-2BE4-4A09-9DE5-EE690216CF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5D54A-A788-4D02-9A1C-06BD81DC680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crementa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 vs.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mplete-stat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87920" y="198900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5893-CBA9-4444-8878-B9042269EE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13309-BD00-4DD3-BF98-F84EAE5710F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crementa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 Any arrangement of 0 to 8 queens on the boar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No quee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Add queen in empty squa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8 queens on board and none attack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Non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ssible sequences to investigat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9FB2-CBC9-4DEC-8D82-AD948F2BE1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19228-E856-4A2A-8F0F-C63158A8EE3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-solving agent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kind of goal-based agen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typ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gle state (fully observable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arch with partial inform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formula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problem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search algorithm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nformed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1DB5-9F0F-48F6-B8B2-2B0B1CC2CB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1C493-6FF9-4F63-BCA2-EEDC6324AF6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crementa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 (alternative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(0≤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≤ 8) queens on the board, one per column in the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leftmost columns with no queen attacking another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dd queen in leftmost empty column such that is not attacking other quee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57 possible sequences to investigate; Yet makes no difference whe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100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87920" y="198900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15B8-1E5B-4278-A833-D2C4D8584E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D93ED-7680-41D6-8E12-FEA2C6A3D27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bot assembl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97080" y="1989000"/>
            <a:ext cx="5116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3CB6-9165-4921-9DD4-1F4236935F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5E0D8-A508-40D0-A56D-E9F12DAC4E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bot assembl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Real-valued coordinates of robot joint angles; parts of the object to be assemble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Any arm position and object configurat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Continuous motion of robot join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Complete assembly (without robot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Time to execut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97080" y="1989000"/>
            <a:ext cx="5116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C914-F8F3-4C48-A349-F1B9FF3C9F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59059-FD6F-4DFB-BF95-6F1AD94630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sic search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we find the solutions of previous problem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 the state space (remember complexity of space depends on state representation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re: search throug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xplicit tree genera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OT= initial stat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des and leafs generated through successor func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general search generates a graph (same state through multiple path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5699-D40F-429E-A508-37C11D6989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AA68A-9F86-4A2C-B642-24390A1501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ple tree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, strate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Initialize search tree to the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initial stat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of the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problem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 candidates for expans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oose leaf node for expansion according to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de contains goal sta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xpand the node and add resulting nodes to the search tre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74600" y="1989000"/>
            <a:ext cx="73612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7954-2676-4E07-BDD8-92F5A5F25B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58F4D-2A67-44BD-B1EC-2FF270D2A4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ple tree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, strate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 search tree to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itial sta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 candidates for expans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choose leaf node for expansion according to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de contains goal sta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expand the node and add resulting nodes to the search tre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09840" y="1989000"/>
            <a:ext cx="64897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6178-DB56-4CCA-B0CD-DFEA95388F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69865-3180-4E34-BBB3-F8AEE86FA42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ple tree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52984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, strate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 search tree to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itial sta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 candidates for expans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choose leaf node for expansion according to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de contains goal sta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expand the node and add resulting nodes to the search tre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85920" y="1989000"/>
            <a:ext cx="6939000" cy="1925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423120" y="5029200"/>
            <a:ext cx="215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s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6743-E908-4A55-993D-995FCF8BBE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16A30-411B-4853-8F81-BFC7983875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tate space vs. search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(representation of) a physical configuration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data structure belong to a search tre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node has a parent, children, … and ncludes path cost, depth, 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= &lt;state, parent-node, action, path-cost, depth&gt;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contains generated nodes which are not yet expande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te nodes with black outlin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9937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1ED0-27F9-4FB9-86B0-A55853F278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7E73E-F2EC-41D4-B54A-9CBEBBB3848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 search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,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ERT(MAKE-NODE(INITIAL-STATE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)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op do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MPTY?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 retur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MOVE-FIRS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AL-TEST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applied to STATE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succeed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LUTION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ERT-ALL(EXPAND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DDA2-0F04-45D6-ADA5-7B1C1C1415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E0D4B-F765-4B5C-84C8-ADF048304F9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 search algorithm (2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XPAND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,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et of node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empty se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 each &lt;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gt; 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CCESSOR-F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new 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ENT-NOD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TH-CO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TH-CO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 STEP-CO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, action,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TH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PTH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+1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1867-E3A8-4912-A630-986946AF4E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A683E-BEFB-45F6-B59D-7E327F9B186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mania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09760" y="1989000"/>
            <a:ext cx="668808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EA64-971E-40FC-B835-7EE3F8E24F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D8793-2EE1-4CF2-8282-CF1AE5A138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 strategi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is defined by picking the order of node expans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-solving performance is measured in four way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ness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es it always find a solution if one exists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ality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es it always find the least-cost solution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Complexity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nodes generated/expanded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e Complexity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nodes stored in memory during search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and space complexity are measured in terms of problem difficulty defined by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 - maximum branching factor of the search tre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 - depth of the least-cost solu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 - maximum depth of the state space (may b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75CE-7F21-4DAD-B491-D5FB126C5F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24255-CEA1-4FE2-816A-E118364F6B1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nformed search strateg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.k.a. blind search) = use only information available in problem definitio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trategies can determine whether one non-goal state is better than anoth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ormed search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tegories defined by expansion algorithm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dth-first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form-cost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th-first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th-limited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ive deepening search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directional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AAF5-2E59-47FF-B3F4-61CA7E54C4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3811B-ABCF-4076-9F6B-E76B013F4D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27200" y="3303720"/>
            <a:ext cx="3886200" cy="2695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95680" y="335268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A31E-EE37-4D2B-B53F-FFB91D805DE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4693B-5234-4D26-BBD7-DCF47985B1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4160" y="18284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3932280" cy="303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2692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2132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960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37B7-FEFE-4649-BE19-ABC49B1F0E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7AABC-624B-4A25-B261-D8FB5602CD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49560" y="3065400"/>
            <a:ext cx="3881520" cy="2930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14800" y="32004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886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46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956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9040" y="480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4578-BDED-4751-BFA1-A072C34E7A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7C90C-2839-4D43-A32F-ADE0D22086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49560" y="3044880"/>
            <a:ext cx="3865320" cy="2951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67080" y="3124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86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3100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1184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6483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4064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488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D0D7-3308-4416-8FF2-DE2BBE1180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236DA-3C1F-4452-9012-B9F1C5B1FF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oes it always find a solution if one exists?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shallowest goal node is at some finite depth 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: I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init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aximum num. Of succ. nodes is fini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BC68-29DE-402F-898A-F0C8D5EF24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BE153-9204-457D-ABDC-3D2204CC84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 (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fini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a state space where every state ha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uccessor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h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uccessors, each node at the next level has again b successors (total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…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e solution is at dept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st case; expand all but the last node at dept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numb. of nodes generated: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828800" y="5105520"/>
                <a:ext cx="5486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07DB-0E6F-4B9A-B16B-DBA44C628C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3EE3B-7B14-4428-9822-F8A7374461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S (i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inite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numb. of nodes generated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m if each node is retained in memor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3962520"/>
                <a:ext cx="5486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1A55-EB7D-4EFA-AEFB-0532864403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4E24F-6F5E-402B-AD2D-AEB836216E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 (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fini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tal numb. of nodes generated: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m if each node is retained in memor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oes it always find the least-cost solution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 Y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actions have different cost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76520" y="3352680"/>
                <a:ext cx="54864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C53F-7B4E-4BBB-8113-CE7EAF81AF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D3B0D-3A0A-4CEF-A585-C506FF76E0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mania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holiday in Romania; currently in Ara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ght leaves tomorrow from Buchares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 goal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 in Buchares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: various citi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: drive between citi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solu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of cities; e.g. Arad, Sibiu, Fagaras, Bucharest, 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4C7D-BCC1-4F48-9DC1-F0A6CE2E98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83A0A-044C-486C-BEBE-4FB05666422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wo lessons: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mory requirements are a bigger problem than its execution time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ponential complexity search problems cannot be solved by uninformed search methods for any but the smallest instances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3505320"/>
          <a:ext cx="5943600" cy="242568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  <a:gridCol w="1485720"/>
                <a:gridCol w="1486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ega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meg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min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gig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era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ter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pet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3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exa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63A7-B3AE-4C0D-967E-B19D775BCC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02E00-1196-4BF4-AF56-4C0DDB5543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form-co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nsion of BF-search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nd node wit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owest path cost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queue ordered by path cost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C-search is the same as BF-search when all step-costs are equal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0361-DA2F-4CFE-8194-D318A54F4E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06CFA-983D-408B-AD02-5C1A54E03E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form-co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ness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, if step-cost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smal positive constan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C* the cost of the optimal solu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that every action costs at leas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7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st-case: 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m to time complexit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ity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des expanded in order of increasing path cos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, if complet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19520" y="3962520"/>
                <a:ext cx="1218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40AA-EF31-41B1-9D8F-29F5EF8312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892DB-0791-4079-97B1-DCBE1D3941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97080" y="3152880"/>
            <a:ext cx="4579920" cy="2716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20440" y="287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92160" y="30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41E3-3256-4C82-AE26-4EE10C0A730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6197D-2C32-42A9-8D1D-C71CB083334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144960" y="3144960"/>
            <a:ext cx="4770360" cy="2851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96400" y="280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00760" y="3413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99080" y="38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80040" y="310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9908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47080" y="34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7540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8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A5204-C577-4EEA-8E11-C03AEE3A3AB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E1F15-8C92-49BE-841C-D1356C1E96B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499080" y="38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9908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7540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40000" y="3076560"/>
            <a:ext cx="4595760" cy="291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64084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35053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429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484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E5B8-51CC-4820-8B68-24CCB72044E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08908-2B86-48A5-BBE4-F1D1019F95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63760" y="3044880"/>
            <a:ext cx="4572000" cy="2951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6386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4440" y="356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48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51320" y="44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311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468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62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5029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FB38-7DE1-4507-9C49-C539E857FC7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0AEF1-ECA7-46F0-BD82-55982D35EB1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94200" y="3111480"/>
            <a:ext cx="4978080" cy="2884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72720" y="287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9040" y="356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74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836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5029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2200" y="5105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8044-6084-4CD0-9079-902387DD59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748F9-8458-4A8F-A4AB-724264257A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00320" y="3309840"/>
            <a:ext cx="4619520" cy="257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3718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15320" y="432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43434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029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3600" y="5029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1F27-A7F8-4684-BD3D-7E81177C01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DBE65-6BBC-490B-B953-E846FDD2CB2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036960" y="3303720"/>
            <a:ext cx="4759200" cy="2562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412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8480" y="356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8160" y="3489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1911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33920" y="417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4440" y="493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95480" y="486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53040" y="4861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3920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8E27-7D6A-40B8-B981-677CE3D6548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417B2-4CE2-4120-B805-F1D13305AC4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-solving ag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general steps in problem solving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 formul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re the successful world stat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 formul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ctions and states to consider given the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the possible sequence of actions that lead to the states of known values and then choosing the best sequenc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e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ive the solution perform the action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C5B9-DC2B-466F-A255-DC2284FC36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6B4E8-0582-476C-89D8-DC761962FC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154320" y="3182760"/>
            <a:ext cx="4681440" cy="2813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8640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8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4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88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976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396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4952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2920" y="4952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50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B97B-A931-4B72-A589-50DC3DEA7AA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97120-862A-42E7-8FB5-3CFFD0D4EA6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41800" y="3124080"/>
            <a:ext cx="4514760" cy="2872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6386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40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62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11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468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624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5029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1520" y="5029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364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4C0F-1767-4192-8F13-0ADBBAEF4C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D471D-66AE-4842-A0CB-7EA1F134D7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4902120" cy="2833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4100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432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4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311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204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5028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5257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520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0768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312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508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B29D-7FA4-435C-97C0-E887784A321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874E1-1FEA-4C60-B8C4-E99F1C4347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27200" y="3373560"/>
            <a:ext cx="5784840" cy="2562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4100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8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312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94720" y="435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65600" y="4359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4536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57600" y="5181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6600" y="5181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3136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312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73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1880" y="5181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6280" y="5181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5EA3-9B0B-4AE4-A5EA-9975175AFF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C8ACD-A828-4032-A711-52D1D486F2F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4755960" cy="2735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562720" y="30481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116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74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256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204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7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5181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888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3136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0" y="449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887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11880" y="5257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9960" y="5257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42CC-24BF-41B2-9C79-7771069B69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2705B-484F-4F6D-999B-B30839F9F05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oes it always find a solution if one exists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l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arch space is finite and no loops are possibl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5B56-73B7-4881-8634-AE1B5A450D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B3320-DCAF-48D3-BC46-B6F91E8DC35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unless search space is finit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rrible i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much larger th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depth of optimal  solution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many solutions, then faster than BF-search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3048120"/>
                <a:ext cx="8888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1EC60-0C76-49C5-BFBF-7F630215DA89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6250B-B12A-4122-8BAD-1363E8BBDA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unless search space is finit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tracking search uses even less memory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successor instead of all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572000" y="3657600"/>
                <a:ext cx="1360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419720" y="3124080"/>
                <a:ext cx="888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3F83-CA52-4461-9B26-001AA64ACE6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15A4F-455E-43BA-8B19-8265182340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unless search space is finit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allity; No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 issues as completeness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node J and C contain goal states 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572000" y="3733920"/>
                <a:ext cx="1360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572000" y="3124080"/>
                <a:ext cx="888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866A-6BD6-4FFA-8009-35A6D778A28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9AD45-82D5-4A13-A52C-547F5874F0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pth-limited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DF-search with depth limi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e. nodes at dep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no successor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knowledge can be us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es the infinite-path problem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 &lt; 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incompleteness result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 &gt; 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not optimal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4114800" y="480060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191120" y="5334120"/>
                <a:ext cx="8823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C24B-5A73-40D1-A7D5-0E0EFAF4D0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56383-1D90-415B-A7E5-C7E8D82910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-solving agen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IMPLE-PROBLEM-SOLVING-AGEN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n action sequenc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some description of the current world stat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 goal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 problem formula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UPDATE-STATE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empt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MULATE-GOAL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MULATE-PROBLEM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ARCH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IR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BA6C-BC9A-48C0-91CF-46FFCE9ACC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489FB-D1ED-4F57-9E44-6F83DC30D0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pth-limited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PTH-LIMITED-SEARCH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,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olution or failure/cutoff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RSIVE-DLS(MAKE-NODE(INITIAL-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URSIVE-DLS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, 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olution or failure/cutoff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_occurred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als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OAL-TE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(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 retur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UTION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PTH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==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for eac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XPAND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URSIVE-DLS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 == cutof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_occurred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tru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failu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hen 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_occurred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283F-B839-433A-ADC1-76921300AF4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2CB91-A75A-4848-B9BC-9D98B32F99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terative deepen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general strategy to find best depth limi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s is found at dep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depth of the shallowest goal-nod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in combination with DF-search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bines benefits of DF- en BF-search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2C74-2778-4362-9F60-B7E20D5AACF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CE35B-18A4-49CA-877D-8EEA96F4244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terative deepen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TERATIVE_DEEPENING_SEARCH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pth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 to ∞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PTH-LIMITED_SEARCH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p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sult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cuttoff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hen 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EC70-695D-4B93-8A99-BB32AA6B316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B74A3-A08A-437C-AB53-F42A191C6A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0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90680" y="3089160"/>
            <a:ext cx="8529480" cy="6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35E2-2558-4A76-8FE9-29311E01AFA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7CB87-1664-44E6-BE34-5DF08479DB2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1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229600" cy="109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21F2-2459-4437-9F66-FE1F571635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413A7-F2F7-4EBD-8B50-CD2907B89E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2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49440" y="2695680"/>
            <a:ext cx="8134200" cy="24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C2C3-A25C-41E4-9466-6E028491D0F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23C80-17A5-4640-B0F4-2CF479DE25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3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7391520" cy="35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AC0B-0A80-41BD-87CF-35C9FBF90F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5D953-D7FB-4E70-A70D-478E6F9AB8E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A7C2-6BD3-4B1F-A0D6-64E1FF1B9C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C26AC-61C6-4832-A920-E3E51FD443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gorithm seems costly due to repeated generation of certain stat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 generation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d: onc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d-1: 2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d-2: 3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2: d-1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1: d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733920" y="3657600"/>
                <a:ext cx="4781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D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F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114800" y="2743200"/>
                <a:ext cx="1035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124080" y="5181480"/>
                <a:ext cx="6019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D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345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F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999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11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3118680" y="4724280"/>
            <a:ext cx="5354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. Comparison for b=10 and d=5 solution at far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7F84-8698-490E-AF60-CF2958D4B5C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42616-44D0-4010-A93B-9305906B5D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fr. depth-first search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495680" y="2895480"/>
                <a:ext cx="838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648320" y="3505320"/>
                <a:ext cx="838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AE65-8B5D-42DF-9AA9-E87526E51B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892AF-5DA8-4E2D-ADF4-0AB8054BD2E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typ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istic, fully observa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single state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 knows exactly which state it will be in; solution is a sequenc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al knowledge of states and action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observabl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ensorless or conformant probl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 may have no idea where it is; solution (if any) is a sequenc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deterministic and/or partially observabl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contingency probl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cepts provid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formation about current state; solution is a tree or policy; often interleave search and execu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nown state spac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exploration problem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“online”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states and actions of the environment are unknow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7F0B-BAFF-43CA-BDA8-1D1FD7D6F1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3B9FA-9509-4C11-995D-7433551679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ality: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 if step cost is 1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extended to iterative lengthening search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e idea as uniform-cost searc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overhea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724280" y="2971800"/>
                <a:ext cx="838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724280" y="3581280"/>
                <a:ext cx="838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4DB4-25EF-42A5-984B-803EA48759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15A9A-C289-4DCC-A32A-0D75444AFC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idirection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simultaneous searches from start an go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ivation: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 whether the node belongs to the other fringe before expans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e complexity is the most significant weaknes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and optimal if both searches are BF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819520" y="1989000"/>
            <a:ext cx="3870360" cy="1925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743200" y="4419720"/>
                <a:ext cx="2209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¹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3570-F6A4-456B-990F-A3C2019DF3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4C2DF-0F8B-4E84-8129-65C7648064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ow to search backwards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decessor of each node should be efficiently computable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ctions are easily reversibl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819520" y="1989000"/>
            <a:ext cx="38703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AC53-9024-4464-A8FE-BE68B29DCF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33B4E-F519-4958-9680-ED52F36644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 of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533520" y="2590920"/>
          <a:ext cx="8280360" cy="3238560"/>
        </p:xfrm>
        <a:graphic>
          <a:graphicData uri="http://schemas.openxmlformats.org/drawingml/2006/table">
            <a:tbl>
              <a:tblPr/>
              <a:tblGrid>
                <a:gridCol w="1182600"/>
                <a:gridCol w="1182600"/>
                <a:gridCol w="1182600"/>
                <a:gridCol w="1184400"/>
                <a:gridCol w="1182600"/>
                <a:gridCol w="1182960"/>
                <a:gridCol w="1182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adth-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form-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-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-limi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rative deep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irectional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*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*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a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ADD5-A155-4ED6-B922-D8678B5DC773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328CF-CE2C-4860-9DCD-A4A1B0BD89F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eated stat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detect repeated states can turn a solvable problems into unsolvable on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042920" y="3324240"/>
            <a:ext cx="7494480" cy="24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22C5-FF53-46FC-AC48-9EA4A023FF3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B662A-88C9-4658-B8F9-28CD69947F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 search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ed list stores all expanded nod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H-SEARCH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,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os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 empty se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SERT(MAKE-NODE(INITIAL-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MPTY?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 retur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MOVE-FIR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OAL-TE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applied to 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succeed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OLUTION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is not i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os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to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osed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SERT-ALL(EXPAND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346E-9CAE-4D32-8A59-B8ACEC53370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E1A4C-42A1-47F6-8945-84687928AB3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mal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-SEARCH discard newly discovered path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may result in a sub-optimal solutio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T: when uniform-cost search or BF-search with constant step cost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and space complexity, 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rtional to the size of the state spac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may be much smaller th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(b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F- and ID-search with closed list no longer has linear space requirements since all nodes are stored in closed list!!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86E7-13CD-48F8-95FD-F732448F8A0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7E26C-A704-45BA-8A94-C67E9A71CE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 with partial infor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vious assumption: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vironment is fully observable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vironment is deterministic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 knows the effects of its actions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What if knowledge of states or actions is incomplet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7CA3-5BC1-4FB7-8DB1-7BA9422AFC7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F7524-0AEA-4337-BE07-0604AB24FE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 with partial infor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SLIDE 7) Partial knowledge of states and action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ensorless or conformant problem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gent may have no idea where it is; solution (if any) is a sequenc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ontingency problem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cepts provid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formation about current state; solution is a tree or policy; often interleave search and execu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uncertainty is caused by actions of another agent: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dversarial proble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ploration 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states and actions of the environment are unknow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BA09-306A-4CA1-B180-9FA5D568459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59041-9A8E-4F4F-80F7-BDBBB1A226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formant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in {1,2,3,4,5,6,7,8} e.g Right goes to {2,4,6,8}. Solution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[Right, Suck, Left,Suck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hen the world is not fully observable: reason about a set of states that migth be reached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belief stat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834080" y="2170080"/>
            <a:ext cx="4186080" cy="36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08F2-5488-46B9-8EC6-C067C16F996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55542-5CC7-4DE2-8E08-6CEDA5305E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state, start in #5. Solution?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34080" y="2212920"/>
            <a:ext cx="418608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3EF9-7D43-407E-B54D-7EC5C08577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C4CDC-89B7-441F-B05C-4026841DC7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formant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 space of belief stat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 = belief state with all members goal stat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s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lief stat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rphy’s law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k can dirty a clear squar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834080" y="2170080"/>
            <a:ext cx="4186080" cy="36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F05C-7648-468F-BDCF-BA281B494E6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DA30B-CD50-4775-AB04-A12982E801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lief state of vacuum-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01992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45F8-8DFE-4177-AF24-0CA442C2E42B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449D5-7014-495B-AC15-86E44389C8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tingenc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gency, start in {1,3}.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rphy’s law, Suck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irty a clean carpet.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 sensing: dirt, location only.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cept = [L,Dirty] ={1,3}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Suck] = {5,7}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Right] ={6,8}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Suck] in {6}={8} (Success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UT [Suck] in {8} = failur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ution??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lief-state: no fixed action sequence guarantees solution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lax requirement: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uc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f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[R,dirty]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then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uc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 actions based on contingencies arising during execution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34080" y="2170080"/>
            <a:ext cx="4186080" cy="36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A908-3512-4A54-B4F9-C0627588BF0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24A6F-4165-43D5-ABE9-3975C82EC1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state, start in #5. Solution?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[Right, Suck]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34080" y="2212920"/>
            <a:ext cx="418608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8D49-1FFD-4D9F-BF9F-CE0469FE16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A99D5-BE6E-4EC5-9524-13671AC0BA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9:57:02Z</dcterms:created>
  <dc:creator>ikke dikke</dc:creator>
  <dc:description/>
  <dc:language>en-US</dc:language>
  <cp:lastModifiedBy>ikke dikke</cp:lastModifiedBy>
  <cp:lastPrinted>2006-02-12T21:39:37Z</cp:lastPrinted>
  <dcterms:modified xsi:type="dcterms:W3CDTF">2006-02-24T15:27:29Z</dcterms:modified>
  <cp:revision>285</cp:revision>
  <dc:subject/>
  <dc:title>Artificial Intelli-gence I: problem-solving and search</dc:title>
</cp:coreProperties>
</file>