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35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2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7442-1DD8-4B43-84F5-47ED495C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D749-F8C5-46F3-AC44-F348DB8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7688-9362-4AE2-A7E2-F25C9935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CAC2-C612-4B39-B70E-A435B974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A9DE9-3B8C-4100-8F74-9D8C08A2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D5104-4F96-4A6E-A6B5-857075FA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82457-E324-4212-810F-1D7EBA8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F0779-A99C-49C5-A96E-88FF9E4D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4AEE9-A55D-4197-A51A-FD74C05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65ED3-1514-4293-A1BA-4F86E80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2A8F9-B15C-443D-B7F4-A2D005C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D1E2-6D91-49AA-B757-0BCB131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8BCA6-07B4-4ACA-B170-5782A98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F7F1C-DAC8-41C4-ACA1-ADC621E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B1B5B-DF17-4333-855E-12677841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87DC1-F2CF-45B8-AC7E-FED6BEAC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491BD-F391-4635-8FB3-D4B2E8D0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597B-F436-4BF0-BD55-279213C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D4F0-1E31-4F54-AD4B-2C9CB945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24A0-EE96-4E9D-AFE0-E13A13FF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F59F-04B6-4FAD-922D-BA76256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C101-6925-425D-A3AA-0B2CED0C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0966-4ED7-453A-A21A-5DADFE1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39C0-4E4A-4AB8-BFBB-FAD3F7B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57B1-6331-405B-83AE-9F998F6D4B3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86A-A09A-43A9-80EA-35E7FCA8180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007-F7EB-4679-9985-E9058331BFA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1623-3066-49E3-8D0F-EBE0349F091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I I: problem solving and search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[Right, Suck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ensorless: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in {1,2,3,4,5,6,7,8} e.g Right goes to {2,4,6,8}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tingency: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in {1,3}. (assume Murphy’s law, Suck can dirty a clean carpet and local sensing: [location,dirt] only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38C8-D3FD-4E25-93AA-431A052592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EE653-3DD4-4FAF-9252-60EAA90A80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formul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blem is defined b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itial 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.g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a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uccessor func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(X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set of action-state pai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(Arad)={&lt;Ara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Zerind, Zerind&gt;,…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ial state + successor function = state spac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oal 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an b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licit, 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x=‘at bucharest’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icit, 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heckmate(x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ath co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dditiv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sum of distances, number of actions executed, …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(x,a,y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step cost, assumed to be &gt;= 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equence of actions from initial to goal stat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ptimal solu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s the lowest path cos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94A7-996E-4E1E-9DFC-3B892F3CFE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9A42-C653-4B33-A8FE-98E43E4E64A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lecting a state spa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world is absurdly complex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space must b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bstrac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problem solving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state = set of real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action = complex combination of real action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Ar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rind represents a complex set of possible routes, detours, rest stops, etc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bstraction is valid if the path between two states is reflected in the real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solution = set of real paths that are solutions in the real worl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bstract action should be “easier” than the real proble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7E41-7D72-49BD-81D6-038B7E2D66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F620C-63A7-42C0-A2BE-6CBACB19016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1668600"/>
            <a:ext cx="464832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8877-5DD7-4C37-B710-2191BD6528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87E12-C45F-4176-87CC-D19550E161E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two locations with or without dirt: 2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8 stat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state can be initi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heck whether squares are clea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umber of actions to reach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668600"/>
            <a:ext cx="464832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89A3-8124-485E-8FED-739976B083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261C-C7AB-40C3-BEF9-02ABA97B17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puzz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C48F-9EF5-4AD4-B63E-417EAA78FE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54C1A-AD3F-4699-997D-CC676D02D4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puzz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Integer location of each tile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state can be initi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heck whether goal configuration is reach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umber of actions to reach go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C6D1-0B0F-470E-84DC-DFA15E4C0A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47863-D5CB-4BA4-87E0-E737B50C45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621E-A38C-4D15-91E0-AA74B646AD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7DF95-2626-4E60-B715-7D05F25B2E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 vs.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mplete-stat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CD77-D1FD-478A-86D5-F27C4A4319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EA94-CCA8-4CA8-B098-DDA797E53C8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 Any arrangement of 0 to 8 queens on the boar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No quee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Add queen in empty squa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8 queens on board and none attack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on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sible sequences to investiga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4A60-BE06-403E-8AD1-E49203389E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419A3-8BD8-4EC1-A0C8-D108EADC0F8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-solving agent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ind of goal-based agen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typ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gle state (fully observable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arch with partial inform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formul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search algorithm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nform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E3E4-0087-44E0-9D39-30034EBA3A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419F-F79E-4872-ADE4-88CE45587D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 (alternativ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(0≤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≤ 8) queens on the board, one per column in the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leftmost columns with no queen attacking another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dd queen in leftmost empty column such that is not attacking other quee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57 possible sequences to investigate; Yet makes no difference wh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100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2E2C-5F90-488D-9FB2-5A24CB0B7F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A7B13-CED5-4015-A59B-2F02CFF5164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bot assembl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97080" y="1989000"/>
            <a:ext cx="5116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611D-CE84-4F3C-945B-1E958664D5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873B7-3345-4D9F-A178-E1DF4F597E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bot assembl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Real-valued coordinates of robot joint angles; parts of the object to be assembl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arm position and object configura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Continuous motion of robot join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omplete assembly (without robot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Time to execu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97080" y="1989000"/>
            <a:ext cx="5116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9959-27DD-4E5F-AF04-D3AB209BD9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2B4BE-4A06-4673-A6AD-04A5527F622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sic search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find the solutions of previous problem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state space (remember complexity of space depends on state representatio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e: search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plicit tree genera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OT= initial stat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des and leafs generated through successor func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general search generates a graph (same state through multiple path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340A-6220-405B-9081-AFDE6B9F2B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75790-9359-40AD-BBBF-7FBC64EC2A3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74600" y="1989000"/>
            <a:ext cx="73612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529A-9903-40FE-B7E9-7287E8AA99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9F1B5-0CD2-4A8B-BA84-A6B33BF44A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09840" y="1989000"/>
            <a:ext cx="64897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EA43-6929-42AA-B8C0-61630F44D7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27506-64AC-4C7B-8616-5090CD36775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52984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85920" y="1989000"/>
            <a:ext cx="6939000" cy="1925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23120" y="5029200"/>
            <a:ext cx="215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s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8D4D-F102-4FA6-B512-5A0F280FA6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57271-0365-4439-9980-C2ED8D8E7B3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tate space vs. search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(representation of) a physical configurat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data structure belong to a search tre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node has a parent, children, … and ncludes path cost, depth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= &lt;state, parent-node, action, path-cost, depth&gt;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contains generated nodes which are not yet expande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te nodes with black outlin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9937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0582-8DA7-4286-A291-5CEF026E1A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E82D7-DDBC-40E5-9AF3-22CC78829E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 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,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ERT(MAKE-NODE(INITIAL-STATE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)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op do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TY?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MOVE-FIRS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applied to STATE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succeed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LUTION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ERT-ALL(EXPAND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3C1D-720E-4C25-B53A-A92BB73A10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1F393-A764-498D-A418-962AB4A9B6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 search algorithm (2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,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et of nod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empty se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 each &lt;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gt; 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CCESSOR-F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new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ENT-NOD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H-CO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TH-CO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 STEP-CO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, action,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+1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B2FF-3649-4797-85DD-BE262A5530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57C11-AB4F-465D-B484-AC54D65F189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mania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09760" y="1989000"/>
            <a:ext cx="668808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D69E-D674-49D5-8F1F-AE870BD5CB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C6E09-79FA-4E7F-96A6-5F4B0CE2814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strategi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is defined by picking the order of node expans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-solving performance is measured in four way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ness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al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es it always find the least-cost solution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Complex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nodes generated/expanded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Complex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nodes stored in memory during search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and space complexity are measured in terms of problem difficulty defined by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 - maximum branching factor of the search tre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 - depth of the least-cost solu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 - maximum depth of the state space (may b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2554-43EB-462D-83A0-52F6D0DDE6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6DB2D-337A-473C-ADFB-A649FFE66E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nformed search strateg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.k.a. blind search) = use only information available in problem defini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trategies can determine whether one non-goal state is better than anoth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ed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gories defined by expansion algorithm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th-fir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-co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-fir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-limited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ve deepening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directional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3B48-1947-46A8-9710-97C665FAE3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1E22-8C44-4E8B-BD05-250DBEB38FC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27200" y="3303720"/>
            <a:ext cx="3886200" cy="269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95680" y="33526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72A2-B558-48D0-B703-23B3638F32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DF1D9-4442-4E88-819C-F001E95D5A2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4160" y="18284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3932280" cy="30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2692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2132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960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89BA-06CF-496F-8C60-B51364470A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0EAD5-C341-4016-9251-E32DB0122C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49560" y="3065400"/>
            <a:ext cx="3881520" cy="2930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14800" y="3200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886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4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95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9040" y="480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1319-98B0-4C71-97E3-7467FD1B16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E2EDA-52E9-4B72-A29D-409E75B3F0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49560" y="3044880"/>
            <a:ext cx="3865320" cy="2951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6708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8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310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1184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6483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4064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488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92B5-EF78-4D21-A874-300E84029F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1120F-A49C-4468-9E34-2A096BF324B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shallowest goal node is at some finite depth 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: I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init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aximum num. Of succ. nodes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6D1E-405E-4312-949D-A7DE429652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EA04A-7A3A-4000-9F32-6CA311C60C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a state space where every state h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uccessor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h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uccessors, each node at the next level has again b successors (total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…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 solution is at dept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st case; expand all but the last node at dept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828800" y="5105520"/>
                <a:ext cx="5486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AF3F-D6D3-45B1-BE4E-95E84CCC97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EE197-88F5-4570-AC2E-45154E2ECB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m if each node is retained in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3962520"/>
                <a:ext cx="5486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5462-64B1-44E5-B8D8-8A8760F5D94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151D1-1302-4399-84A7-A7037CAC93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m if each node is retained in memor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oes it always find the least-cost solution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 Y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actions have different cos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6520" y="3352680"/>
                <a:ext cx="54864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9180-62B2-4100-9741-E07462FDA0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1634C-1C58-46DA-8C6E-8BD95C3BDE1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mania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holiday in Romania; currently in 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ght leaves tomorrow from Buchar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 goal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in Buchar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: various citi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: drive between citi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solu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cities; e.g. Arad, Sibiu, Fagaras, Bucharest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6D4D-BE84-4164-90FA-F30D0EF6EA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9DA54-5484-46F6-9148-A53FB299935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wo lessons: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y requirements are a bigger problem than its execution time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ponential complexity search problems cannot be solved by uninformed search methods for any but the smallest instances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3505320"/>
          <a:ext cx="5943600" cy="24256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  <a:gridCol w="1485720"/>
                <a:gridCol w="1486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eg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meg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min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gig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er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ter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pet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3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ex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9A1E-41D5-4159-ABF5-F9AA300EC8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D27D2-0C49-40C6-A154-B2865F1E5FA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form-co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nsion of BF-search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nd node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west path cost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queue ordered by path cost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C-search is the same as BF-search when all step-costs are equal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0B1B-DDBC-40B1-B09D-A92D4A45BE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56495-64D7-47F2-9ECF-908E7F96F4A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form-co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, if step-cost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mal positive constan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C* the cost of the optimal sol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that every action costs at leas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7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st-case: 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m to time complexit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ity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des expanded in order of increasing path cos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, if complet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3962520"/>
                <a:ext cx="1218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1E1E-1A34-4FE0-B98E-18FB6C65A1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3BA3-C71B-440A-ABEA-FEB660DC7E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97080" y="3152880"/>
            <a:ext cx="4579920" cy="2716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20440" y="287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216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AC22-A64C-45D4-8FFF-E4ABB81DDE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F2720-3FC8-4B55-A99A-845C4ED806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144960" y="3144960"/>
            <a:ext cx="4770360" cy="2851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96400" y="28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00760" y="341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9908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0040" y="310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9908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47080" y="34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7540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8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24FF-34A7-4FDD-9248-661D9BF402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B8F54-3E95-4FD1-BF75-D469EACACC5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49908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908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7540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0" y="3076560"/>
            <a:ext cx="4595760" cy="291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6408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5053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429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484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5776-3D8B-413E-86E1-1DCD7D885A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284A3-4200-4776-8C81-01FB20BB42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63760" y="3044880"/>
            <a:ext cx="4572000" cy="2951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6386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444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48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13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311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4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62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5029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E659-91F5-4CFF-BFA8-FE1A5B31C1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341CC-264E-4EF8-9A01-D4CC19E6A3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94200" y="3111480"/>
            <a:ext cx="4978080" cy="2884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72720" y="287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904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74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836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2200" y="5105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7CB1-EE9D-40F5-BB24-BDB50ABF77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3AD1A-BBF8-4E5F-B6C0-91077EBBF2D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00320" y="3309840"/>
            <a:ext cx="4619520" cy="257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371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5320" y="432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4343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3600" y="5029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F3A9-24D9-4888-B39B-9370FC0564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1FD93-93B9-4D29-8AA4-1C1A8C49785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036960" y="3303720"/>
            <a:ext cx="4759200" cy="2562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12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848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8160" y="3489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1911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33920" y="417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4440" y="493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95480" y="486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53040" y="486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3920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D49E-4E7B-49F4-99BC-86A1BC34A7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33F5D-60CB-46C6-A79C-A310499B226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-solving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general steps in problem solving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 formul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re the successful world stat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 formul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ctions and states to consider given the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ossible sequence of actions that lead to the states of known values and then choosing the best sequen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ive the solution perform the action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AF72-321D-4D99-8780-FA62A462D9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3BD5C-88E1-44DE-AA99-AB1BBF208A8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154320" y="3182760"/>
            <a:ext cx="4681440" cy="281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8640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8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88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976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396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52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2920" y="4952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50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0A9F-20C3-4FAC-9907-D2C8DFD8B7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B8568-CC87-4C22-8404-92AACAEBB13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41800" y="3124080"/>
            <a:ext cx="4514760" cy="2872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6386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0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2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11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4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62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1520" y="5029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36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4443-03E5-495D-9032-E94A80EFAF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60B83-67B3-4551-8D01-DD3E09780DF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4902120" cy="2833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4100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43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311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204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502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5257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520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076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31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50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0D72-6EFD-469F-85E7-B68D758E0D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54419-7E14-4C01-BE39-FFA8D99688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27200" y="3373560"/>
            <a:ext cx="5784840" cy="25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4100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8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312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94720" y="435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0" y="4359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53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5181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6600" y="5181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13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31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73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1880" y="518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6280" y="5181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2DE7-E83D-4305-8EC2-F4FE2A1D5C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42B1F-8E6C-4EF5-8BC4-79F77D16514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4755960" cy="2735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562720" y="30481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116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256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204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7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5181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888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313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87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1880" y="5257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9960" y="5257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FF35-DE18-46BF-8553-2257F913953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D315E-C6BC-4BFE-B487-99B0363847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arch space is finite and no loops are possibl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6733-CC09-4708-84B4-B00BB6D780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84B41-A061-48A3-8ED1-CD14C980E8E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rrible i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much larger th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depth of optimal  solution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many solutions, then faster than BF-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3048120"/>
                <a:ext cx="8888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A733-967B-4C7E-A454-323424015A81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082EF-09E1-4209-AEFF-497AF80182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tracking search uses even less memor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successor instead of al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572000" y="3657600"/>
                <a:ext cx="1360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419720" y="3124080"/>
                <a:ext cx="888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C841-6BFF-4C1B-9DBE-FA056D8BA9B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F1506-E4FE-48AC-8534-B92C2DA65D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allity; No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 issues as completenes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node J and C contain goal states 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572000" y="3733920"/>
                <a:ext cx="1360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572000" y="3124080"/>
                <a:ext cx="888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153D-73A7-4B6C-89D9-7F1DDDDE9B3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CFC17-5AB3-4104-8F7D-F57626DD3F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pth-limited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DF-search with depth limi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e. nodes at dep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no successor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knowledge can be us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s the infinite-path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 &lt;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incompleteness resul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 &gt;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not optima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114800" y="480060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191120" y="5334120"/>
                <a:ext cx="882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EC88-67EE-48C2-91A7-99E932EF77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A2070-10B2-4403-AA5D-6399FF6581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-solving agen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IMPLE-PROBLEM-SOLVING-AGEN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n action sequenc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some description of the current world stat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 go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 problem formula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PDATE-STATE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empt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MULATE-GOAL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MULATE-PROBLEM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IR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5A8F-882B-4D77-8CF0-F4AEF3A42C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E1531-860B-44F2-9037-A8105E2CDDC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pth-limited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-LIMITED-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/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SIVE-DLS(MAKE-NODE(INITIAL-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URSIVE-DLS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 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/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als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(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==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for eac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URSIVE-DLS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 == cutof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tru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failu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n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E70C-5D66-4859-BAB2-1049E62ADD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9E28B-94D8-4756-B7A8-1F9173725E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terative deepen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general strategy to find best depth limi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 is found at dep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depth of the shallowest goal-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combination with DF-search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bines benefits of DF- en BF-search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69F8-2A27-4B6D-AEA7-A6BEF1099D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EBF21-CC19-46AA-B568-761DD9B9A5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terative deepen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TERATIVE_DEEPENING_SEARCH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pth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to ∞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PTH-LIMITED_SEARCH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p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cuttof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n 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5C73-CD2B-41BB-9951-1DC680138F4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5D10B-2D75-491F-9F0E-984EBD9BB77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0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0680" y="3089160"/>
            <a:ext cx="8529480" cy="6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27ED-DE59-4A57-83A3-93D83483D63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0EAAD-D5CA-4495-9753-6B313DDC5E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1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229600" cy="109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BF50-DBFE-4934-8FAE-1EB7743E26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A6410-925B-4718-89B9-11E86413444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2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49440" y="2695680"/>
            <a:ext cx="813420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95E9-D470-4A85-84EB-4CF0625466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A434A-274F-4C5F-BDB8-A5AFB677DF4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3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39152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AA27-CEBC-4670-A490-791CDBE9C2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D2A81-27DC-4624-A3C7-70E8D3DBB8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6184-B4BE-43F1-A60C-62B7BB3D04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A4D42-FEC6-4597-8B09-272903F0C0B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seems costly due to repeated generation of certain stat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 generation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: o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-1: 2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-2: 3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2: d-1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1: 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733920" y="3657600"/>
                <a:ext cx="4781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F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114800" y="2743200"/>
                <a:ext cx="1035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124080" y="5181480"/>
                <a:ext cx="601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345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F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99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11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3118680" y="4724280"/>
            <a:ext cx="5354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. Comparison for b=10 and d=5 solution at far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3C06-52C6-48E6-A309-07A8CEE77B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0D3F4-612B-4BFA-B1C5-5AB8DBEA08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fr. depth-first search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495680" y="289548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648320" y="3505320"/>
                <a:ext cx="838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C467-02D9-4819-BAC5-1C998ED463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070FD-5723-4696-8213-8E778E077E2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typ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stic, fully observ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single stat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 knows exactly which state it will be in; solution is a sequenc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al knowledge of states and action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bservabl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ensorless or conformant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 may have no idea where it is; solution (if any) is a sequenc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deterministic and/or partially observabl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contingency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cepts provid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formation about current state; solution is a tree or policy; often interleave search and execu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nown state spac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exploration proble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“online”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states and actions of the environment are unknow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5266-3EB6-45F7-82E5-FEE379CAC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94BD4-C035-42D6-A5F1-C4122E790DE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ality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if step cost is 1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xtended to iterative lengthening search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idea as uniform-cost searc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overhea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724280" y="297180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724280" y="3581280"/>
                <a:ext cx="838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229F-FE6E-4C92-ABA5-D3682F2886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897E3-8F7B-48D7-960C-159F2FB5E7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idirection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simultaneous searches from start an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whether the node belongs to the other fringe before expans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complexity is the most significant weaknes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and optimal if both searches are BF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819520" y="1989000"/>
            <a:ext cx="3870360" cy="192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743200" y="4419720"/>
                <a:ext cx="2209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¹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6BD9-4853-4AAE-83F4-61183DE0A0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79FB2-F478-4423-8C06-8B0F61AD4A7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w to search backward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decessor of each node should be efficiently computable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ctions are easily reversibl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819520" y="1989000"/>
            <a:ext cx="3870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0770-B251-4D6C-BC35-B2585C1095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DD857-3962-4605-B15C-4FC47CE239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 of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2590920"/>
          <a:ext cx="8280360" cy="3238560"/>
        </p:xfrm>
        <a:graphic>
          <a:graphicData uri="http://schemas.openxmlformats.org/drawingml/2006/table">
            <a:tbl>
              <a:tblPr/>
              <a:tblGrid>
                <a:gridCol w="1182600"/>
                <a:gridCol w="1182600"/>
                <a:gridCol w="1182600"/>
                <a:gridCol w="1184400"/>
                <a:gridCol w="1182600"/>
                <a:gridCol w="1182960"/>
                <a:gridCol w="1182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adth-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-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-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-limi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ve deep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irectional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*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*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8D3A-00F6-42D4-A70D-AF69C365490D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9F0C8-DB44-486F-B914-B35980BB06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eated stat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detect repeated states can turn a solvable problems into unsolvable on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042920" y="3324240"/>
            <a:ext cx="749448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B145-C66C-4C4F-A6BA-DA32037F539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E76B8-5B8B-4850-B859-EE537725C70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 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list stores all expanded nod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H-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 empty se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(MAKE-NODE(INITIAL-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PTY?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MOVE-FIR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applied to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succeed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OLUTION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is not i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to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-ALL(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5310-D711-4C1B-89BE-7EC8DC9CA2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FDC6B-BA49-46DB-A04D-28FEAE13F19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al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-SEARCH discard newly discovered path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may result in a sub-optimal solutio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T: when uniform-cost search or BF-search with constant step cost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and space complexity, 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rtional to the size of the state spac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y be much smaller th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(b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F- and ID-search with closed list no longer has linear space requirements since all nodes are stored in closed list!!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1CFD-3AA7-49C5-A411-96CAE32F28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292B5-EC53-4C4F-A7C9-2B0BD3024BA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with partial infor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vious assumption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ironment is fully observable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ironment is deterministic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 knows the effects of its action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What if knowledge of states or actions is incomplet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51A6-397F-4EC0-B2C4-118DB70B19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1BFA2-9CC2-4A8A-8590-D686CBFBAE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with partial infor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SLIDE 7) Partial knowledge of states and action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ensorless or conformant proble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gent may have no idea where it is; solution (if any) is a sequen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ontingency proble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cepts provid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formation about current state; solution is a tree or policy; often interleave search and exec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uncertainty is caused by actions of another agent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dversarial proble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ploration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states and actions of the environment are unknow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5E28-E956-4CF0-BC69-7C213C85352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CD196-D21C-431B-B78A-FC708086206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formant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in {1,2,3,4,5,6,7,8} e.g Right goes to {2,4,6,8}. Solution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[Right, Suck, Left,Suck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hen the world is not fully observable: reason about a set of states that migth be reach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belief stat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E245-09CC-4018-9B16-5ABE889D022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A1676-4C30-410D-A8C4-2B3F922DAAD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8561-B42D-4827-A1DA-C2EF7EE8A5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1074F-7038-4727-8E51-5B618D3582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formant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space of belief stat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 = belief state with all members goal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lief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rphy’s law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 can dirty a clear squa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1D30-7957-4229-9664-9305562F54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A53CA-91D0-4D46-9369-9A56E886CEB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 of vacuum-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1992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6947-7228-479F-AAAF-9EE644424BB5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B0D7A-F75A-4101-B206-FF110E30EC4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tingenc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gency, start in {1,3}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rphy’s law, Suc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irty a clean carpet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sensing: dirt, location only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cept = [L,Dirty] ={1,3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Suck] = {5,7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Right] ={6,8}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Suck] in {6}={8} (Success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UT [Suck] in {8} = failur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?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lief-state: no fixed action sequence guarantees solution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lax requirement: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[R,dirty]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then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 actions based on contingencies arising during execution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60B3-0F12-410C-9F0F-3B78ECDBD5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7C39B-281A-4B35-82F8-D66539099E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[Right, Suck]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A983-21EA-4E19-BE83-BDD0E03E53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86869-5320-4B97-B8F2-7D6983AAAD3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9:57:02Z</dcterms:created>
  <dc:creator>ikke dikke</dc:creator>
  <dc:description/>
  <dc:language>en-US</dc:language>
  <cp:lastModifiedBy>ikke dikke</cp:lastModifiedBy>
  <cp:lastPrinted>2006-02-12T21:39:37Z</cp:lastPrinted>
  <dcterms:modified xsi:type="dcterms:W3CDTF">2006-02-24T15:27:29Z</dcterms:modified>
  <cp:revision>285</cp:revision>
  <dc:subject/>
  <dc:title>Artificial Intelli-gence I: problem-solving and search</dc:title>
</cp:coreProperties>
</file>