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5.png" ContentType="image/png"/>
  <Override PartName="/ppt/media/image7.png" ContentType="image/png"/>
  <Override PartName="/ppt/media/image34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35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2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EEDF-4D59-4E52-AD73-49F24288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15C3-D7C0-4A8E-99E3-7539548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C903-7079-4AC4-A667-79456B3B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0A3E-AA0D-422A-BE45-082067E4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C43A9-B61C-4ACE-920F-B1C1A6A6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EAB3C-DE2E-4920-9FA0-36D25C6C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E4975-AAF9-4007-8C3E-EF744DA9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1CA03-24E1-4781-B18F-342549DE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C6203-BAB2-4825-A258-1322996F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DAC8A-24CC-4204-9A61-EB5293D0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60A3C-B21B-4935-8E5B-4D5950A7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36A0-9FEA-43D2-BA20-299B3F5A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2D25D-CC22-4F41-9C1C-A2614FB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71ECD-6E51-4DB7-923D-820F5CD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671E1-1B5D-441D-9E06-620D16B2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F8FE3-544E-48BD-8399-4E4B4814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3BE11-1E65-4EB8-BD8B-58B43A13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5EEB-C7B5-43C9-A63A-6C6AB115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877B-E19E-4DAE-B67D-5DBEF636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08C7-1776-4AB4-A615-91FDBAA6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10AD-76D1-40C5-97ED-A4D747B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FD23-E8B0-4A55-B091-2D871444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5D0A-27A3-44DF-87E7-8AE014D3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6271-48D3-486E-B74E-C4C251C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03FF-F3D9-451C-A5EE-A2205EBC157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E059-BD26-4E6E-8395-D53ABB1CEC3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725C-7578-4AC9-A40B-CADA6D9DEECA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2A94-37AF-471A-85B2-F80DCD41E7F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0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I I: problem solving and search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state, start in #5. Solution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[Right, Suck]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ensorless: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in {1,2,3,4,5,6,7,8} e.g Right goes to {2,4,6,8}. Solution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tingency: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in {1,3}. (assume Murphy’s law, Suck can dirty a clean carpet and local sensing: [location,dirt] only. Solution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34080" y="2212920"/>
            <a:ext cx="418608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44AC-B220-4347-B0BD-DE60FE8BE2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90B59-1430-4A2C-98DB-48405F4477A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formul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blem is defined b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itial 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.g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ra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uccessor func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(X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set of action-state pair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(Arad)={&lt;Ara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Zerind, Zerind&gt;,…}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ial state + successor function = state spac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oal 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an b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plicit, e.g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x=‘at bucharest’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icit, e.g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heckmate(x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Path cos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dditiv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sum of distances, number of actions executed, …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(x,a,y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he step cost, assumed to be &gt;= 0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olu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a sequence of actions from initial to goal stat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Optimal solu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s the lowest path cos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4684-12D8-4484-A9F6-1CEE244979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748C4-B45B-4F82-8245-1E20175375D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lecting a state spa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 world is absurdly complex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 space must b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bstract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problem solving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stract) state = set of real stat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stract) action = complex combination of real action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 Ar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erind represents a complex set of possible routes, detours, rest stops, etc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abstraction is valid if the path between two states is reflected in the real wor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Abstract) solution = set of real paths that are solutions in the real worl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abstract action should be “easier” than the real problem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E44C-E853-4A5D-A7F3-1DF738A5E2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B6D45-0BA4-42B9-A47A-4DEF0B3F5E8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81080" y="1668600"/>
            <a:ext cx="464832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88D5-0317-46A2-9869-A680141F4B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45223-6610-48C6-8A9C-B0B070B24EB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two locations with or without dirt: 2 x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8 stat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Any state can be initi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{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Check whether squares are clea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Number of actions to reach go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1668600"/>
            <a:ext cx="464832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871F-C9F2-4567-B688-FF206CCC81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844A8-CBC7-46C8-82A1-77D5D9DF06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puzz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2B13-A83F-402E-B081-0111448AAD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433C1-9B1B-4F3B-829E-30B2AAE611D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puzz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Integer location of each tile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Any state can be initi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{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Check whether goal configuration is reach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Number of actions to reach goa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8E78-AE2E-45F5-9295-370FE1A08F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07652-AE47-498B-8708-04FE9A72DA0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87920" y="198900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533A-2B90-48A3-9EDE-8EB84DC7E4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EEF43-7109-45CA-AFCE-F18A26B48D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crementa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 vs.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mplete-stat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87920" y="198900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12EB-37A5-41EF-A883-9B388F196E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6F09F-04C4-49E3-8B7E-82123958AC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crementa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 Any arrangement of 0 to 8 queens on the boar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No quee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Add queen in empty squa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8 queens on board and none attack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Non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ssible sequences to investigat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8E12-7164-4F76-B9E4-33D97CBC67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B7523-4053-4F22-9DCB-94B0BB08B9E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-solving agent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kind of goal-based agen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typ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gle state (fully observable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arch with partial inform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formula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 problem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search algorithm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nformed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B0B7-8039-4A5A-A337-8FE3CB6F92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2C24E-C7C2-45F8-B758-1048F9BAC65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8-queens proble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crementa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ion (alternative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(0≤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≤ 8) queens on the board, one per column in the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leftmost columns with no queen attacking another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dd queen in leftmost empty column such that is not attacking other queen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57 possible sequences to investigate; Yet makes no difference whe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100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87920" y="1989000"/>
            <a:ext cx="1935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E8D4-E0B8-49FA-BB94-9023185D30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67317-C70F-4B1F-BD36-BD23D340774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bot assembl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es??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 state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s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te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h cost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97080" y="1989000"/>
            <a:ext cx="5116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2A77-416A-4E3B-97FC-197BEEBFF9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F9041-1657-45F3-8D35-68C4A3ECAA1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bot assembl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?? Real-valued coordinates of robot joint angles; parts of the object to be assembled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state?? Any arm position and object configurat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?? Continuous motion of robot join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 test?? Complete assembly (without robot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 cost?? Time to execut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97080" y="1989000"/>
            <a:ext cx="5116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75C2-A081-41FE-9A7A-6E8B9057E9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95CF7-2843-43BD-99E0-7797EFDDD22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asic search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we find the solutions of previous problem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rch the state space (remember complexity of space depends on state representation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re: search throug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xplicit tree genera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OT= initial stat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des and leafs generated through successor func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general search generates a graph (same state through multiple path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3723-DDB3-4D1C-B363-D0CF1AFF9F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BCDF5-BBFA-41A1-B773-62908DBBF54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ple tree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, strate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Initialize search tree to the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initial stat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of the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problem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 candidates for expans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oose leaf node for expansion according to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de contains goal sta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xpand the node and add resulting nodes to the search tre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74600" y="1989000"/>
            <a:ext cx="73612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8568-5A84-40A0-B373-AA4337A61F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70839-7F21-4485-8E88-FEC39BDAE69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ple tree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, strate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 search tree to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itial sta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 candidates for expans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choose leaf node for expansion according to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de contains goal sta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expand the node and add resulting nodes to the search tre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09840" y="1989000"/>
            <a:ext cx="64897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56D5-0232-4C45-A388-1F10C2F080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D23FF-A2E1-4C69-BE57-B984EFEFFEA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ple tree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52984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, strate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 search tree to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itial sta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 candidates for expans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choose leaf node for expansion according to </a:t>
            </a:r>
            <a:r>
              <a:rPr b="0" i="1" lang="en-US" sz="1600" spc="-1" strike="noStrike">
                <a:solidFill>
                  <a:srgbClr val="ff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de contains goal stat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expand the node and add resulting nodes to the search tre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d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85920" y="1989000"/>
            <a:ext cx="6939000" cy="1925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423120" y="5029200"/>
            <a:ext cx="215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s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DDE2-9C7B-42FD-AE8E-7BDD326116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5C131-5C3B-4498-A43F-BFA99B91A0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tate space vs. search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(representation of) a physical configuration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data structure belong to a search tre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node has a parent, children, … and ncludes path cost, depth, …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= &lt;state, parent-node, action, path-cost, depth&gt;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contains generated nodes which are not yet expande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te nodes with black outlin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9937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10A5-EFE4-485A-A7D5-F1D71F49D0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14AF3-5C65-464E-BC20-83ED669052B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 search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REE-SEARCH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,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ERT(MAKE-NODE(INITIAL-STATE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)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op do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MPTY?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 retur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MOVE-FIRST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AL-TEST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applied to STATE[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 succeed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 retur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LUTION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SERT-ALL(EXPAND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AB91-7B50-472C-B9AB-CC294C1AAA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9F8A7-AB20-4381-B427-D38F1CA96CE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ee search algorithm (2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XPAND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,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et of node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empty se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 each &lt;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gt; 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CCESSOR-F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new 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ENT-NOD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TH-CO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ATH-CO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 STEP-CO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, action,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TH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PTH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+1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F54E-338D-42A1-9F4E-81311D1024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FB119-5952-4B19-8620-425B9BF9FB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mania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09760" y="1989000"/>
            <a:ext cx="668808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4D84-2732-4A7D-ACD2-4049F5FE2B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7129B-BB8E-48B8-A761-7148D6CE3EC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 strategi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is defined by picking the order of node expans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-solving performance is measured in four way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ness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es it always find a solution if one exists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ality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oes it always find the least-cost solution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Complexity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nodes generated/expanded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e Complexity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nodes stored in memory during search?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and space complexity are measured in terms of problem difficulty defined by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 - maximum branching factor of the search tre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 - depth of the least-cost solu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 - maximum depth of the state space (may b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430D-96F0-4E34-B4FE-87E132118A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B46A6-A133-427A-AEEA-E7F330ED7C2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nformed search strateg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.k.a. blind search) = use only information available in problem definitio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strategies can determine whether one non-goal state is better than anoth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ormed search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tegories defined by expansion algorithm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dth-first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form-cost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th-first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th-limited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ive deepening search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directional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681E-BF8B-4B2F-BA1C-0106EC5481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9411C-D645-4A8A-BFE8-DA06709E1A1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27200" y="3303720"/>
            <a:ext cx="3886200" cy="2695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95680" y="3352680"/>
            <a:ext cx="2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4727-23AA-4996-A0C2-8693AFAB3F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B60AD-78A0-45EC-A936-05444935212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4160" y="18284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3932280" cy="303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2692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2132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960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A735-F48B-49EC-B1B4-1800A3826A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AFDBC-FC1A-4026-9DF5-791A33A5421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49560" y="3065400"/>
            <a:ext cx="3881520" cy="2930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114800" y="32004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886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46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956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9040" y="480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A8C2-B498-49C6-8BAA-02B699F0F0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2EB4E-2413-49AB-9F40-81A8F8E8C9F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hallow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IFO queu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49560" y="3044880"/>
            <a:ext cx="3865320" cy="2951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67080" y="3124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86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3100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1184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6483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4064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488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C5D2-48CE-4263-A390-733685291D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18DC3-A7F6-43A0-8A4F-55AEC6B4279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oes it always find a solution if one exists?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shallowest goal node is at some finite depth 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: I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init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aximum num. Of succ. nodes is fini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88DB-D135-42EC-BCEB-C7EB435D370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22F62-F056-4AA7-89A4-155026C689E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 (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fini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a state space where every state ha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uccessor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h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uccessors, each node at the next level has again b successors (total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, …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e solution is at dept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st case; expand all but the last node at dept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numb. of nodes generated: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828800" y="5105520"/>
                <a:ext cx="5486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6E01-C9F8-4B82-9C0C-C043215AEC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DA1C7-3B0E-4358-A20D-E37D6782392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S (i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inite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numb. of nodes generated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m if each node is retained in memor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3962520"/>
                <a:ext cx="5486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8DE4-C70F-4C32-B8A4-96DD090A3C1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F5241-EE07-4C26-A36F-F2832195AED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 (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finit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tal numb. of nodes generated: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m if each node is retained in memor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oes it always find the least-cost solution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 Y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actions have different cost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76520" y="3352680"/>
                <a:ext cx="54864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0088-6944-44B7-92A6-AAD56A21F28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82B3F-0CC9-4BAA-B16F-BB88FAB0ED2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Romania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holiday in Romania; currently in Ara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ight leaves tomorrow from Buchares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 goal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 in Buchares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ulate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: various citi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: drive between citi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solu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of cities; e.g. Arad, Sibiu, Fagaras, Bucharest, 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0ABA-245B-4092-A012-9AB843EB7D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9A977-B5DF-45FE-9E88-D428D8B1E1B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wo lessons: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mory requirements are a bigger problem than its execution time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ponential complexity search problems cannot be solved by uninformed search methods for any but the smallest instances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00200" y="3505320"/>
          <a:ext cx="5943600" cy="2425680"/>
        </p:xfrm>
        <a:graphic>
          <a:graphicData uri="http://schemas.openxmlformats.org/drawingml/2006/table">
            <a:tbl>
              <a:tblPr/>
              <a:tblGrid>
                <a:gridCol w="1485720"/>
                <a:gridCol w="1486080"/>
                <a:gridCol w="1485720"/>
                <a:gridCol w="1486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ega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seco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meg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min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gig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era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ter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peta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3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exaby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6D4E-9F9C-4C1A-AB02-AFC5C9CB48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DF8FA-E780-4D49-AD5A-FC7FE1B8CDD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form-co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nsion of BF-search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nd node wit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owest path cost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queue ordered by path cost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C-search is the same as BF-search when all step-costs are equal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82A4-67EC-4780-A49D-E6B9D7ECC62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6EAEC-EFBB-4105-A63C-96A11CAD7EE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form-co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ness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, if step-cost 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smal positive constan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C* the cost of the optimal solu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that every action costs at leas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7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st-case: 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m to time complexit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ity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des expanded in order of increasing path cos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ES, if complet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19520" y="3962520"/>
                <a:ext cx="1218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2DAB-FC67-405C-AA83-955E798051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7161F-9294-4236-8B6B-B268E051EFA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97080" y="3152880"/>
            <a:ext cx="4579920" cy="2716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20440" y="287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92160" y="30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08D1-F540-41D7-811D-4AEEDA93373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710FF-6EE6-4D57-B595-2EAB39612B5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144960" y="3144960"/>
            <a:ext cx="4770360" cy="2851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96400" y="280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00760" y="3413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99080" y="38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80040" y="310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9908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47080" y="34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7540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8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7832-EA59-4CEA-A6E0-19C295DC01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228E7-65D6-49F3-AC7B-5C5506B19E8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499080" y="38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9908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75400" y="372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40000" y="3076560"/>
            <a:ext cx="4595760" cy="291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64084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35053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429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484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EC6E-6AD6-4358-8BD0-27EA5D2B6AC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2EF13-5003-4254-9B73-D3D3B803AF8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63760" y="3044880"/>
            <a:ext cx="4572000" cy="2951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6386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4440" y="356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48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51320" y="44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311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468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62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5029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5517-6E82-45B2-B2ED-98A915D3163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A98D4-198E-461C-8312-1CED7EB12A4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94200" y="3111480"/>
            <a:ext cx="4978080" cy="2884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72720" y="287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9040" y="356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74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836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5029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2200" y="5105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4DF9-82E8-43E2-88BD-5D445454E1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5E969-546E-4670-A3E3-8E215CCCE14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00320" y="3309840"/>
            <a:ext cx="4619520" cy="257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3718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15320" y="432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43434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029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3600" y="5029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5A25-AEFD-4CB3-AF5B-3DE16DB909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6E1B1-BC47-4317-9D3A-0A2FF5AE835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036960" y="3303720"/>
            <a:ext cx="4759200" cy="2562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412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8480" y="356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58160" y="3489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1911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33920" y="417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4440" y="493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95480" y="486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53040" y="4861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3920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50BE-5E08-40F7-89BB-0EF354300A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8CF7F-09BB-4AD9-A04E-FCA538FF3F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-solving ag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general steps in problem solving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 formul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re the successful world stat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 formul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actions and states to consider given the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the possible sequence of actions that lead to the states of known values and then choosing the best sequenc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cute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ive the solution perform the action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8204-20D2-42C8-B5BF-9CB4739A25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80C3F-B387-40BE-B72E-DFAA465E883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154320" y="3182760"/>
            <a:ext cx="4681440" cy="2813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8640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8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4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88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976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396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4952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2920" y="4952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50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DD34-9318-4D77-B962-1BFB3F83A0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F29BA-0A47-4C29-9BBA-E79F4512FD1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41800" y="3124080"/>
            <a:ext cx="4514760" cy="2872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6386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40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62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11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4680" y="4343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624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5029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1520" y="5029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8364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4883-F88B-45DD-A3E7-642C449560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DC668-C908-456B-A4FC-7D5FAA8CB01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4902120" cy="2833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4100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432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4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311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204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5028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5257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520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0768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312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508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936A-8234-4DE7-9926-26E496AAC47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3CB49-1FAF-4369-8AC5-DD470316185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27200" y="3373560"/>
            <a:ext cx="5784840" cy="2562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410080" y="30481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8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312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94720" y="435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65600" y="4359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4536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57600" y="5181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6600" y="5181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3136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312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73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1880" y="5181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26280" y="5181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8088-0CEA-4C27-94B2-C64535CA93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A548D-7F20-43F4-B03E-9BAB78D144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, a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eep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expanded nod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: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LIFO queue (=stack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4755960" cy="2735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562720" y="30481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116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7400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2560" y="4495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204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7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5181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8880" y="5257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3136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6800" y="449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887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11880" y="5257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9960" y="5257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A78C-B04C-4AE4-87EB-16F1B8A1A6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96143-3997-42F8-8839-CD70376A1C5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oes it always find a solution if one exists?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l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arch space is finite and no loops are possibl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818C-C2E7-4367-8300-C7458C3905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DBA67-EEBC-4DF9-B703-9526C1463E1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unless search space is finit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rrible i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much larger th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depth of optimal  solution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many solutions, then faster than BF-search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3048120"/>
                <a:ext cx="8888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4E95-D8F6-4D5F-A423-E28DE1EE087E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E953F-511D-4C0C-ABBA-8DD333A0C8A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unless search space is finit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cktracking search uses even less memory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successor instead of all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572000" y="3657600"/>
                <a:ext cx="1360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419720" y="3124080"/>
                <a:ext cx="888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2643-DC30-441F-A421-4FB8D18DC1E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A097A-8D52-446F-91B6-9028EC78B3E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F-search;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unless search space is finit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;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allity; No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 issues as completeness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node J and C contain goal states 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572000" y="3733920"/>
                <a:ext cx="1360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572000" y="3124080"/>
                <a:ext cx="888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8AEE-BFF2-4AA8-AF40-EDA8359165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5B911-3CCD-47DB-B72C-A8BDB1A403F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pth-limited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DF-search with depth limi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e. nodes at dep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no successor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knowledge can be us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ves the infinite-path problem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 &lt; 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incompleteness result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 &gt; 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en not optimal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4114800" y="480060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191120" y="5334120"/>
                <a:ext cx="8823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F26B-3C12-4BD5-8C74-A19621AAF6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C0670-66A2-4927-A9F4-475EDA4FC09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-solving agen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IMPLE-PROBLEM-SOLVING-AGEN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n action sequenc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some description of the current world stat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 goal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 problem formula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UPDATE-STATE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empt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MULATE-GOAL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MULATE-PROBLEM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ARCH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IR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3DA8-3128-4828-8BC8-0EB2D96956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E2DFA-8306-416A-8F71-F2D47BE90D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pth-limited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PTH-LIMITED-SEARCH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,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olution or failure/cutoff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RSIVE-DLS(MAKE-NODE(INITIAL-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URSIVE-DLS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, 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olution or failure/cutoff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_occurred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als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OAL-TE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(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 retur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UTION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PTH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==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n retur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for eac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XPAND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URSIVE-DLS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cess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 == cutof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_occurred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tru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if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failu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hen 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_occurred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utof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42AF-EEFF-4AF6-8264-D9BB6941D3E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0BC5C-777A-414E-A587-3A9BB02C9EF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terative deepen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general strategy to find best depth limi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s is found at dep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depth of the shallowest goal-nod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in combination with DF-search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bines benefits of DF- en BF-search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70E1-AC4C-4441-8841-6BEFBFB6F5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7E012-301F-480D-9B0D-2D04F6245A7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terative deepen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TERATIVE_DEEPENING_SEARCH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pth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 to ∞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PTH-LIMITED_SEARCH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p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sult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cuttoff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hen 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1DC2-5FF0-471F-A2B9-F1DB2CE3D96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84648-C504-4F97-87AE-BB4A55AA587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0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90680" y="3089160"/>
            <a:ext cx="8529480" cy="6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1CDA-C6DE-41BB-9F37-2F66F2A3223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AF5C5-4353-4AB1-9D29-00675472303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1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229600" cy="109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7594-6434-46D7-9CBF-3849747C070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B2018-CC02-4E83-9B0A-937368893A4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2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49440" y="2695680"/>
            <a:ext cx="8134200" cy="24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C206-6255-4DED-8998-916F2746A1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DCCFB-6EAE-4BF1-9718-C49C932E158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imit=3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7391520" cy="35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D686-3243-4A05-B0C4-C1A8920754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6223A-3D42-4230-B03D-82B9D0070B9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E536-F580-41ED-A6EA-F08298B7EB1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693ED-F224-4518-8807-782D5BE833E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gorithm seems costly due to repeated generation of certain stat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 generation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d: onc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d-1: 2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d-2: 3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2: d-1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vel 1: d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733920" y="3657600"/>
                <a:ext cx="4781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D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F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114800" y="2743200"/>
                <a:ext cx="1035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124080" y="5181480"/>
                <a:ext cx="6019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D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345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F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999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11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3118680" y="4724280"/>
            <a:ext cx="5354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. Comparison for b=10 and d=5 solution at far 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4C1F-72B6-40EB-9E7C-D97F60E31C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AB8DA-EB55-41DE-8EA2-2C71D1F40BC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fr. depth-first search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495680" y="2895480"/>
                <a:ext cx="838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648320" y="3505320"/>
                <a:ext cx="838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D133-E5DB-4125-8A52-B8CB561A03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B1812-F288-423E-AC6D-15747105F65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blem typ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istic, fully observa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single state proble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 knows exactly which state it will be in; solution is a sequenc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al knowledge of states and action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observabl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ensorless or conformant probl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 may have no idea where it is; solution (if any) is a sequenc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deterministic and/or partially observabl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contingency probl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cepts provid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formation about current state; solution is a tree or policy; often interleave search and execu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nown state spac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exploration problem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“online”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states and actions of the environment are unknow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F237-4112-4FF2-9C0B-C051D3ED7F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77102-B9A4-44D5-B965-9D01B14C32F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D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tenes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 (no infinite paths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complex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timality: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 if step cost is 1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extended to iterative lengthening search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e idea as uniform-cost searc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overhea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724280" y="2971800"/>
                <a:ext cx="838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724280" y="3581280"/>
                <a:ext cx="838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AABA-9E46-4BCA-AA1D-E4C0F7130D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AB20B-D8E4-4378-A444-B34237B8A7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idirection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simultaneous searches from start an goa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ivation: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 whether the node belongs to the other fringe before expans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e complexity is the most significant weaknes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and optimal if both searches are BF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819520" y="1989000"/>
            <a:ext cx="3870360" cy="1925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743200" y="4419720"/>
                <a:ext cx="22096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¹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3534-5B18-46DA-9558-89FCDEB6C9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A5710-B54F-4275-BF67-AAFC05410AF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ow to search backwards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decessor of each node should be efficiently computable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ctions are easily reversible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819520" y="1989000"/>
            <a:ext cx="38703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10AB-F432-4879-911B-1CA8AA8C63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293AC-34A3-44EE-B209-34EB9E1A95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 of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533520" y="2590920"/>
          <a:ext cx="8280360" cy="3238560"/>
        </p:xfrm>
        <a:graphic>
          <a:graphicData uri="http://schemas.openxmlformats.org/drawingml/2006/table">
            <a:tbl>
              <a:tblPr/>
              <a:tblGrid>
                <a:gridCol w="1182600"/>
                <a:gridCol w="1182600"/>
                <a:gridCol w="1182600"/>
                <a:gridCol w="1184400"/>
                <a:gridCol w="1182600"/>
                <a:gridCol w="1182960"/>
                <a:gridCol w="1182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er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adth-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form-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-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-limi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rative deep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irectional 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*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C*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a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4A7D4-E1A0-41DA-B5C3-776DBC2D88DF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074B2-710B-4D81-A0F3-A6146B3B099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eated state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ilure to detect repeated states can turn a solvable problems into unsolvable on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042920" y="3324240"/>
            <a:ext cx="7494480" cy="240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0984-C558-4FCD-BCDF-80737811A2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4529F-39BE-44A6-930C-01343553AC8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 search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5298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ed list stores all expanded nod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H-SEARCH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,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solution or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os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 empty se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SERT(MAKE-NODE(INITIAL-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)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MPTY?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 retur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MOVE-FIRST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OAL-TEST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applied to 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succeed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OLUTION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is not i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os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STATE[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to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osed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SERT-ALL(EXPAND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004A-42EA-4C4E-8574-04FD23505E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5AB1E-A941-4074-A8F8-54638828816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aph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mal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PH-SEARCH discard newly discovered path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may result in a sub-optimal solutio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ET: when uniform-cost search or BF-search with constant step cost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and space complexity, 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rtional to the size of the state spac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may be much smaller th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(b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F- and ID-search with closed list no longer has linear space requirements since all nodes are stored in closed list!!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2A41-69C2-4C3D-83E2-08E59A6F590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DDF01-B482-4B30-90CA-550A4F6CD8D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 with partial infor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vious assumption: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vironment is fully observable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vironment is deterministic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 knows the effects of its actions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What if knowledge of states or actions is incomplet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4174-2131-4108-B708-9D3633B2E9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B874F-595B-4DF5-B5C9-D30FC1CEA0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arch with partial inform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SLIDE 7) Partial knowledge of states and actions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ensorless or conformant problem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gent may have no idea where it is; solution (if any) is a sequenc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ontingency problem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cepts provid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formation about current state; solution is a tree or policy; often interleave search and execu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uncertainty is caused by actions of another agent: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dversarial problem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ploration 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states and actions of the environment are unknow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585B-5AF8-4073-9724-051571A980F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590A1-D422-4A12-A606-CE02966FFB3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formant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in {1,2,3,4,5,6,7,8} e.g Right goes to {2,4,6,8}. Solution?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[Right, Suck, Left,Suck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hen the world is not fully observable: reason about a set of states that migth be reached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belief stat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834080" y="2170080"/>
            <a:ext cx="4186080" cy="36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CA19-3D57-411E-A140-8A20CE90FAE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FE17E-A1F6-49D5-AFCD-B23F7263092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state, start in #5. Solution?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34080" y="2212920"/>
            <a:ext cx="418608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2F07-EF84-4D08-A1F7-1EB58AC46B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7851D-6015-4980-A210-9DA5A811A51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formant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 space of belief state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 = belief state with all members goal stat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s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lief stat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rphy’s law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uck can dirty a clear squar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834080" y="2170080"/>
            <a:ext cx="4186080" cy="36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D5EF-8FB3-4CF6-805D-BD47EAF2FB4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61CFA-BD96-4BF9-8D70-F743F70261E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lief state of vacuum-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01992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4D8D-33DA-4454-B728-8794930B6F1A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D980A-9F4C-4783-AECA-2A1E99AA78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tingency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gency, start in {1,3}.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rphy’s law, Suck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irty a clean carpet.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 sensing: dirt, location only.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cept = [L,Dirty] ={1,3}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Suck] = {5,7}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Right] ={6,8}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[Suck] in {6}={8} (Success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UT [Suck] in {8} = failur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ution??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lief-state: no fixed action sequence guarantees solution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lax requirement: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uc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f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[R,dirty]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then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uc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 actions based on contingencies arising during execution.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34080" y="2170080"/>
            <a:ext cx="4186080" cy="36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685B-3240-4B93-BF06-ED57CF8F600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D006A-FB29-4F75-B6EA-E5D6C36798A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: vacuum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state, start in #5. Solution?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[Right, Suck]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34080" y="2212920"/>
            <a:ext cx="418608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3438-5AE5-454F-A63F-945BAB0C11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C7E47-89B7-457C-BA0A-F78A1CEB93B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19:57:02Z</dcterms:created>
  <dc:creator>ikke dikke</dc:creator>
  <dc:description/>
  <dc:language>en-US</dc:language>
  <cp:lastModifiedBy>ikke dikke</cp:lastModifiedBy>
  <cp:lastPrinted>2006-02-12T21:39:37Z</cp:lastPrinted>
  <dcterms:modified xsi:type="dcterms:W3CDTF">2006-02-24T15:27:29Z</dcterms:modified>
  <cp:revision>285</cp:revision>
  <dc:subject/>
  <dc:title>Artificial Intelli-gence I: problem-solving and search</dc:title>
</cp:coreProperties>
</file>