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28.jpeg" ContentType="image/jpe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D0BF2-838D-4207-9C5B-A578495E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7875C-7C87-4F59-AE7C-21C3E022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36E79-15A7-407D-8CAF-DBDB517C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5C324-E8EC-4471-A278-48B4DE0F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090B3-2ECD-40F5-8527-BBA3F6AF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A85C1-6C0B-4104-8069-EC025DC2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DAC93-C700-4A28-94FD-C30B7B30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46FF8-F628-496E-B8FA-3C3F48F2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2BB02-53E3-471F-A7F7-705160A5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F1761-5BF9-45FE-8353-60A60B44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B839F-7BEA-4C31-AAB5-C738C956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C8B06-5BCD-4ADC-9C2F-AF8C7969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76E1E-FB4A-48C5-B5DD-5BF92859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05073-D463-4CF9-AF32-80B7489E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65763-2695-4EE4-9E8F-4B92D5A7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5A0E0-F69B-4881-BC63-7C8546F6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4828F-4473-497C-8E22-97108C64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A3E04-E214-4D66-89AA-DB589D3C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09C47-9BCF-4AB2-AB41-6CAE7B4E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B2473-84E2-43A5-B51F-507A5A5A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55A72-B660-4B5F-BF5F-5C976962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63D2C-ACAD-49F8-80AF-4B939711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3438E-F13A-414B-AD6F-DE3A4C98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AF57C-3E96-4E69-AFA0-7A6CD253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C866-5BF4-4F99-8378-56CB46F76647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BC4F-489B-4BF5-8869-341E089DA47E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5DCC-4FEE-47B7-9BD1-BC048736DA47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9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345F-2821-48E9-99C5-2282722F44ED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0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0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rtificial intelligence 1: informed search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79280" y="4138200"/>
            <a:ext cx="7740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f Fagaras is expanded we get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ibiu and Bucharest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Goal reached !!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Yet not optimal (see Arad, Sibiu, Rimnicu Vilcea, Pitesti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71600" y="1714680"/>
            <a:ext cx="5688000" cy="2133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862520" y="15764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205740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b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52480" y="31003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ga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20760" y="3581280"/>
            <a:ext cx="6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b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5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840" y="3581280"/>
            <a:ext cx="10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cha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90720" y="34894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F39B2-41CA-40B3-8A79-6CB2B319207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2DCDE-FCFB-40AF-9150-0C6D9020D10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leteness: NO (cfr. DF-search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heck on repeated stat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Minimizing h(n) can result in false starts, e.g. Iasi to Fagara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95480" y="3139920"/>
            <a:ext cx="5207040" cy="3138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rot="2074200">
            <a:off x="5714640" y="3504960"/>
            <a:ext cx="2362320" cy="100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D6AC5-1A57-4509-8CB8-0F1F8C2EE83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42E9D-B65B-4510-ABBD-96CC51193DC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leteness: NO (cfr. DF-search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ime complexity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fr. Worst-case DF-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(with m is maximum depth of search space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ood heuristic can give dramatic improvement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876920" y="2819520"/>
                <a:ext cx="990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B71B2-9A23-4599-B0F8-A9302B7489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ADB79-6892-40CD-AC6C-E66BE7E210F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mpleteness: NO (cfr. DF-search)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ime complexity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pace complexity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Keeps all nodes in memory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572000" y="2590920"/>
                <a:ext cx="990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195720"/>
                <a:ext cx="990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F0207-8C83-4B9E-B29E-04A3359907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A4063-984A-47D6-8903-BD2EDF0C821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mpleteness: NO (cfr. DF-search)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ime complexity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pace complexity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Optimality? NO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ame as DF-search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72000" y="2514600"/>
                <a:ext cx="990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72000" y="2963880"/>
                <a:ext cx="990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370D1-BF9A-41E3-973B-10A502B7F3E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16C09-2A15-4C6B-A67A-F94166257EE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est-known form of best-first search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dea: avoid expanding paths that are already expensiv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valuation function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f(n)=g(n) + h(n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g(n)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the cost (so far) to reach the nod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h(n)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estimated cost to get from the node to the goal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f(n)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estimated total cost of path through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to goal.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C35D6-9B70-49AB-A50A-1233518DE45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200CB-EAE7-4937-A08C-5657965C3E9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* search uses an admissible heuristic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A heuristic is admissible if it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never overestimates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the cost to reach the goal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Are optimistic 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ormally: 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1.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h(n) &lt;= h*(n)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where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h*(n)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is the true cost from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n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2.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h(n) &gt;= 0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so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h(G)=0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for any goal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G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.g.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i="1" lang="en-US" sz="1600" spc="-1" strike="noStrike" baseline="-25000">
                <a:solidFill>
                  <a:srgbClr val="7f7358"/>
                </a:solidFill>
                <a:latin typeface="Verdana"/>
              </a:rPr>
              <a:t>SLD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(n)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never overestimates the actual road distance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DB8FC-5432-406B-A142-6FBB0978821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3D775-D874-46BB-BE77-C6A86D80125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omania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14400" y="1720800"/>
            <a:ext cx="7086600" cy="42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B67E2-11CF-4821-BC6F-437ECA28D23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36E8D-1DD8-4629-9808-62235B63C6E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Find Bucharest starting at Ara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(Arad) = c(??,Arad)+h(Arad)=0+366=366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5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5B7B5-F7D9-4015-8A05-EFFF8817C5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35D08-2402-424C-B662-CE3CCEF9949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Expand Arrad and determine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f(n)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for each nod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(Sibiu)=c(Arad,Sibiu)+h(Sibiu)=140+253=393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(Timisoara)=c(Arad,Timisoara)+h(Timisoara)=118+329=447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(Zerind)=c(Arad,Zerind)+h(Zerind)=75+374=449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Best choice is Sibiu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0680" y="2220840"/>
            <a:ext cx="8529480" cy="146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8552C-DDDC-4206-855B-4E3EA8CFB28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EFE68-32B1-47BC-8E16-7CE220F72C1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nformed = use problem-specific knowledg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Which search strategies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Best-first search and its variant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euristic functions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ow to invent them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Local search and optimiza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ill climbing, local beam search, genetic algorithms,…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Local search in continuous spac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nline search agent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035000" y="611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4769D-8056-44C2-92CD-E149855207D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76DE2-3D59-4383-92F6-4C2B9DB9599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Expand Sibiu and determine 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f(n)</a:t>
            </a: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 for each node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(Arad)=c(Sibiu,Arad)+h(Arad)=280+366=646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(Fagaras)=c(Sibiu,Fagaras)+h(Fagaras)=239+179=415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(Oradea)=c(Sibiu,Oradea)+h(Oradea)=291+380=671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(Rimnicu Vilcea)=c(Sibiu,Rimnicu Vilcea)+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h(Rimnicu Vilcea)=220+192=413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Best choice is Rimnicu Vilcea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7680" y="1989000"/>
            <a:ext cx="847404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BB020-1CBB-4F5E-BDFC-B8D1C485135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E42B3-C640-4002-9DD8-6AA8034A724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Expand Rimnicu Vilcea and determine </a:t>
            </a:r>
            <a:r>
              <a:rPr b="0" i="1" lang="en-US" sz="2600" spc="-1" strike="noStrike">
                <a:solidFill>
                  <a:srgbClr val="5f604a"/>
                </a:solidFill>
                <a:latin typeface="Verdana"/>
              </a:rPr>
              <a:t>f(n)</a:t>
            </a: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 for each node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(Craiova)=c(Rimnicu Vilcea, Craiova)+h(Craiova)=360+160=526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(Pitesti)=c(Rimnicu Vilcea, Pitesti)+h(Pitesti)=317+100=417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(Sibiu)=c(Rimnicu Vilcea,Sibiu)+h(Sibiu)=300+253=553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Best choice is Fagaras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1604880"/>
            <a:ext cx="6522840" cy="22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E9B20-B3F2-489C-B7AA-393F93C52A2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C1EF0-168D-4518-AFE4-73BCAEBBC67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Expand Fagaras and determine </a:t>
            </a:r>
            <a:r>
              <a:rPr b="0" i="1" lang="en-US" sz="2600" spc="-1" strike="noStrike">
                <a:solidFill>
                  <a:srgbClr val="5f604a"/>
                </a:solidFill>
                <a:latin typeface="Verdana"/>
              </a:rPr>
              <a:t>f(n)</a:t>
            </a: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 for each node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(Sibiu)=c(Fagaras, Sibiu)+h(Sibiu)=338+253=591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f(Bucharest)=c(Fagaras,Bucharest)+h(Bucharest)=450+0=450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604a"/>
                </a:solidFill>
                <a:latin typeface="Verdana"/>
              </a:rPr>
              <a:t>Best choice is Pitesti !!!</a:t>
            </a:r>
            <a:endParaRPr b="0" lang="en-US" sz="26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6383520" cy="22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A776-5690-4200-9AB4-1824D5E53F6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57BE6-7D76-4307-B038-7349372D68A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Expand Pitesti and determine 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f(n)</a:t>
            </a: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 for each node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7f7358"/>
                </a:solidFill>
                <a:latin typeface="Verdana"/>
              </a:rPr>
              <a:t>f(Bucharest)=c(Pitesti,Bucharest)+h(Bucharest)=418+0=418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Best choice is Bucharest !!!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Optimal solution (only if 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h(n)</a:t>
            </a: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 is admissable) 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Note values along optimal path !!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3880" y="1619280"/>
            <a:ext cx="5243760" cy="222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10BBF-DA6D-49A5-9175-BCC5C96DB98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039DC-D0D4-4764-95F3-9E0A7181D39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Optimality of A*(standard proof)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uppose suboptimal goal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G</a:t>
            </a:r>
            <a:r>
              <a:rPr b="0" i="1" lang="en-US" sz="24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in the queu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Let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be an unexpanded node on a shortest to optimal goal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f(G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2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= g(G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2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)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ince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h(G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2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)=0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&gt; g(G)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ince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G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is suboptimal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&gt;= f(n)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ince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is admissibl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05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ince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f(G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) &gt; f(n)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, A* will never select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G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for expansion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505320" cy="24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C80D2-3CD7-4318-8BDE-A35FDEC3E93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ECD5D-A722-4D1A-9478-2C41EB1AD3E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UT … graph search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Discards new paths to repeated state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Previous proof breaks down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Solution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Add extra bookkeeping i.e. remove more expsive of two paths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Ensure that optimal path to any repeated state is always first followed. 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xtra requirement on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h(n)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: consistency (monotonicity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EFD1B-2A03-49FD-A453-8F2A0CDD17B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A1E3F-0A31-4D6D-982A-D899A8F0C5D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sistency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heuristic is consistent if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f h is consistent, we hav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.e. f(n) is nondecreasing along any path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362320" y="2514600"/>
                <a:ext cx="3657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362320" y="3429000"/>
                <a:ext cx="4190760" cy="18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³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³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295720" cy="32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41771-F3D2-4B7C-9AB0-A06B75AD552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ABC67-64AD-491B-9FBA-8690D94C53B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ptimality of A*(more usefull)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* expands nodes in order of increasing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valu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178200" indent="-17820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tours can be drawn in state spac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386280" indent="-14832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Uniform-cost search adds circles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-14832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-contours are gradually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dded: 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1) nodes with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f(n)&lt;C*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2) Some nodes on the goal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Contour (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f(n)=C*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Contour I has all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Nodes with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f=f</a:t>
            </a:r>
            <a:r>
              <a:rPr b="0" i="1" lang="en-US" sz="1600" spc="-1" strike="noStrike" baseline="-25000">
                <a:solidFill>
                  <a:srgbClr val="7f7358"/>
                </a:solidFill>
                <a:latin typeface="Verdana"/>
              </a:rPr>
              <a:t>i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, where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f</a:t>
            </a:r>
            <a:r>
              <a:rPr b="0" i="1" lang="en-US" sz="1600" spc="-1" strike="noStrike" baseline="-25000">
                <a:solidFill>
                  <a:srgbClr val="7f7358"/>
                </a:solidFill>
                <a:latin typeface="Verdana"/>
              </a:rPr>
              <a:t>i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&lt; f</a:t>
            </a:r>
            <a:r>
              <a:rPr b="0" i="1" lang="en-US" sz="1600" spc="-1" strike="noStrike" baseline="-25000">
                <a:solidFill>
                  <a:srgbClr val="7f7358"/>
                </a:solidFill>
                <a:latin typeface="Verdana"/>
              </a:rPr>
              <a:t>i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+1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386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419720" y="3048120"/>
            <a:ext cx="4599000" cy="29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A663B-68BD-4442-AAD0-338FEB83F06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34883-8C2A-4939-B50F-B7199AE179B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mpleteness: YE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ince bands of increasing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f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are added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Unless there are infinitly many nodes with </a:t>
            </a:r>
            <a:r>
              <a:rPr b="0" i="1" lang="en-US" sz="2200" spc="-1" strike="noStrike">
                <a:solidFill>
                  <a:srgbClr val="7f7358"/>
                </a:solidFill>
                <a:latin typeface="Verdana"/>
              </a:rPr>
              <a:t>f&lt;f(G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86BE4-709D-491C-AF2B-B8E0966068C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934A2-9578-4379-B827-E9E2666B4E0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mpleteness: YE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ime complexity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Number of nodes expanded is still exponential in the length of the solution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21CFF-72CD-47AB-8BAC-22B5264BE0C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15700-4A52-40BC-8F72-DEA7F3D6C98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eviously: tree-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TREE-SEARCH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,fring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 solution or failur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NSERT(MAKE-NODE(INITIAL-STATE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),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loop do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EMPTY?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hen return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failur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REMOVE-FIRST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GOAL-TEST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 applied to STATE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 succeeds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SOLUTION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NSERT-ALL(EXPAND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od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,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ring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strategy is defined by picking </a:t>
            </a: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he order of node expans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900FC-6ABD-4BB8-989A-F348E72E40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86C9C-AE82-4DC9-BC25-D9CA63D7019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leteness: Y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ime complexity: (exponential with path length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pace complexit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t keeps all generated nodes in memory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ence space is the major problem not tim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2B8B5-166F-4069-BF1C-FAA3238C854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88EE3-511E-4348-BA3C-671F06D05D2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* search,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leteness: Y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ime complexity: (exponential with path length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pace complexity:(all nodes are stored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ptimality: Y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annot expand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f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i+1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until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f</a:t>
            </a:r>
            <a:r>
              <a:rPr b="0" i="1" lang="en-US" sz="2000" spc="-1" strike="noStrike" baseline="-25000">
                <a:solidFill>
                  <a:srgbClr val="7f7358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is finished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* expands all nodes with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f(n)&lt; C*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* expands some nodes with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f(n)=C*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* expands no nodes with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f(n)&gt;C*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lso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optimally efficient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(not including ties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2969-B398-43E9-88B6-8B58ADF10E6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CB0EC-185D-4E3A-8704-EB65BB165EF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Memory-bounded heuristic searc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ome solutions to A* space problems (maintain completeness and optimality)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Iterative-deepening A* (IDA*)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Here cutoff information is the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f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-cost (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g+h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 instead of depth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Recursive best-first search(RBFS)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cursive algorithm that attempts to mimic standard best-first search with linear spac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(simple) Memory-bounded A* ((S)MA*)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Drop the worst-leaf node when memory is full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239E6-EC55-4705-8783-F7A7AF5A01B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6CD53-338F-4672-BB02-533A8216AA3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cursive best-first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RECURSIVE-BEST-FIRST-SEARCH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a solution or failur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return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RFBS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,MAKE-NODE(INITIAL-STATE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),∞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RFBS(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roblem, node, f_limi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a solution or failure and a new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-cos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limit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GOAL-TEST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(STATE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node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)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then return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nod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successors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XPAND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node, problem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successors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is empty then return failure, ∞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for each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i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successors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do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max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g(s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+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h(s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node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repeat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the lowest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-value node in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successors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&gt; f_limi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failure,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lternative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 the second lowest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-value among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successors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 RBFS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(problem, best,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min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f_limit, alternative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failure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result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5B35E-4CBE-4C65-9D3A-AF6353A15CD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8B2AC-5AB8-418B-A6CD-9A2EDA72DAC8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cursive best-first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Keeps track of the f-value of the best-alternative path available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If current f-values exceeds this alternative f-value than backtrack to alternative path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Upon backtracking change f-value to best f-value of its children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Re-expansion of this result is thus still possible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AAB8A-3371-4D7B-A3C9-BC343EE3C12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1073F-82B3-436D-A77D-8FDC856ECE8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Recursive best-first search, ex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ath until Rumnicu Vilcea is already expanded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bove node;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-limit for every recursive call is shown on top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Below node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f(n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The path is followed until Pitesti which has a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-value worse than the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f-limi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38080" y="1647720"/>
            <a:ext cx="64864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47152-A5C9-4DA0-AA68-6ACDFAF2CB2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1D748-EA23-4E15-B0C6-D8703D818A3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Recursive best-first search, ex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Unwind recursion and store best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-value for current best leaf Pitesti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 RBFS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(problem, best,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min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_limit, alternative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is now Fagaras. Call RBFS for new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best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best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value is now  450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14400" y="1616040"/>
            <a:ext cx="628812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A5AF-5BA1-4166-AC3B-D80B190B49B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DC30F-EB3D-417B-B232-554CF613DC7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Recursive best-first search, ex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Unwind recursion and store best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-value for current best leaf Fagara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f 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2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 RBFS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(problem, best,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min(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f_limit, alternative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)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bes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now Rimnicu Viclea (again). Call RBFS for new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bes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ubtree is again expanded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Best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alternative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subtree is now through Timisoara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olution is found since because 447 &gt; 417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90720" y="1530360"/>
            <a:ext cx="5997600" cy="231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FCF27-D633-4DC2-B6A6-107D8ECE57E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23388-BF95-44C5-A9AC-E29B5EA3F63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BFS evalu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RBFS is a bit more efficient than IDA*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till excessive node generation (mind changes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Like A*, optimal if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h(n)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is admissibl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pace complexity is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O(bd)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DA* retains only one single number (the current f-cost limit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ime complexity difficult to characteriz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Depends on accuracy if h(n) and how often best path change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DA* en RBFS suffer from </a:t>
            </a:r>
            <a:r>
              <a:rPr b="1" i="1" lang="en-US" sz="2400" spc="-1" strike="noStrike">
                <a:solidFill>
                  <a:srgbClr val="5f604a"/>
                </a:solidFill>
                <a:latin typeface="Verdana"/>
              </a:rPr>
              <a:t>too little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memory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F76A0-249E-4328-A750-A5F85CCCEB2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04EF5-F306-48FE-B462-0AC398E17EE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(simplified) memory-bounded A*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Use all available memory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.e. expand best leafs until available memory is full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hen full, SMA* drops worst leaf node (highest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f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-valu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Like RFBS backup forgotten node to its parent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What if all leafs have the same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-value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ame node could be selected for expansion and deletion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MA* solves this by expanding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newest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best leaf and deleting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oldest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worst leaf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MA* is complete if solution is reachable, optimal if optimal solution is reachabl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E849-366D-41DE-9A99-C442923C699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4C5CF-3A75-4F1D-B107-F75B31E6A5B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est-first search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eneral approach of informed search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Best-first search: node is selected for expansion based on an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evaluation function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7f7358"/>
                </a:solidFill>
                <a:latin typeface="Times New Roman"/>
              </a:rPr>
              <a:t>f(n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dea: evaluation function measures distance to the goal.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hoose node which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appears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best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mplementation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f735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7f7358"/>
                </a:solidFill>
                <a:latin typeface="Times New Roman"/>
              </a:rPr>
              <a:t>fringe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is queue sorted in decreasing order of desirability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pecial cases: greedy search, A* searc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2EBE0-214E-47F4-B2EA-17660DC6BD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DE174-D2A1-4D8F-910E-C9AB97DE234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earning to search better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ll previous algorithms use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fixed strategies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gents can learn to improve their search by exploiting the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meta-level state space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ach meta-level state is a internal (computational) state of a program that is searching in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the object-level state space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n A* such a state consists of the current search tre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 meta-level learning algorithm from experiences at the meta-level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F11AD-5981-4FCE-B22F-42043C3BE4E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79352-B020-4D89-9178-522ADD48BC75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euristic functio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.g for the 8-puzzl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vg. solution cost is about 22 steps (branching factor +/- 3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xhaustive search to depth 22: 3.1 x 10</a:t>
            </a:r>
            <a:r>
              <a:rPr b="0" lang="en-US" sz="2000" spc="-1" strike="noStrike" baseline="30000">
                <a:solidFill>
                  <a:srgbClr val="7f7358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tate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good heuristic function can reduce the search proces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849400" y="1989000"/>
            <a:ext cx="38116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5A279-51C4-49BF-A212-47FB5DED7FC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A3640-6509-4DDD-A698-8A476F4A018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euristic functio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.g for the 8-puzzle knows two commonly used heuristic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= the number of misplaced tile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lang="en-US" sz="16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(s)=8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= the sum of the distances of the tiles from their goal positions (manhattan distance).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lang="en-US" sz="16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(s)=3+1+2+2+2+3+3+2=18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849400" y="1989000"/>
            <a:ext cx="38116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CCE1D-B3CF-4F66-899A-DF23B6905A2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FF22E-3D05-45A7-BE96-A7866E88A85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euristic qualit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ffective branching factor b*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Is the branching factor that a uniform tree of depth </a:t>
            </a:r>
            <a:r>
              <a:rPr b="0" i="1" lang="en-US" sz="2400" spc="-1" strike="noStrike">
                <a:solidFill>
                  <a:srgbClr val="7f7358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would have in order to contain </a:t>
            </a:r>
            <a:r>
              <a:rPr b="0" i="1" lang="en-US" sz="2400" spc="-1" strike="noStrike">
                <a:solidFill>
                  <a:srgbClr val="7f7358"/>
                </a:solidFill>
                <a:latin typeface="Verdana"/>
              </a:rPr>
              <a:t>N+1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nodes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Measure is fairly constant for sufficiently hard problems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an thus provide a good guide to the heuristic’s overall usefulnes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 good value of b* is 1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666880" y="3581280"/>
                <a:ext cx="4407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∗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46E8B-8999-4D4C-B1E9-4CBD7F91A99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FF676-E2B7-4B4F-BC51-0C20A47242A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Heuristic quality and dominanc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1200 random problems with solution lengths from 2 to 24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(n) &gt;= h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(n)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for all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(both admissible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n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 dominates h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and is better for search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429000" y="2438280"/>
            <a:ext cx="5715000" cy="23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5FC26-2154-4AE4-9A5A-825F3E650B4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81BC9-320F-4377-93D3-50AB401D629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nventing admissible heuristic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dmissible heuristics can be derived from the exact solution cost of a relaxed version of the problem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laxed 8-puzzle for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i="1" lang="en-US" sz="1800" spc="-1" strike="noStrike" baseline="-25000">
                <a:solidFill>
                  <a:srgbClr val="7f7358"/>
                </a:solidFill>
                <a:latin typeface="Verdana"/>
              </a:rPr>
              <a:t>1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: a tile can move anywher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s a result,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(n)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gives the shortest solution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laxed 8-puzzle for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i="1" lang="en-US" sz="18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: a tile can move to any adjacent squar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s a result,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h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(n) 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gives the shortest solution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he optimal solution cost of a relaxed problem is no greater than the optimal solution cost of the real problem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Courier New"/>
              </a:rPr>
              <a:t>ABSolver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found a usefull heuristic for the rubic cub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8AEA1-C389-4AF0-8B6D-AAA5479D14D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B9AA2-0F3C-4422-B6D8-EB10BE6508E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nventing admissible heuristic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dmissible heuristics can also be derived from the solution cost of a subproblem of a given problem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This cost is a lower bound on the cost of the real problem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attern databases store the exact solution to for every possible subproblem instanc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he complete heuristic is constructed using the patterns in the DB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3676680" cy="18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DC02E-FB28-48CF-B46A-A57C9C1ABDE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597F3-C111-4C06-8265-E261E344B73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nventing admissible heuristic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nother way to find an admissible heuristic is through learning from experience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Experience = solving lots of 8-puzzle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An inductive learning algorithm can be used to predict costs for other states that arise during search. 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0A4E2-A7A2-4072-9E4C-947230D9629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8A57C-4F64-4AB1-BA2A-A0F975FEC64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cal search and optimiz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reviously: systematic exploration of search spac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Path to goal is solution to problem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YET, for some problems path is irrelevant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.g 8-queen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ifferent algorithms can be use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Local search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858000" y="38862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30F6F-A2C3-4A4C-8F81-7FAAF491727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0ECBA-6C34-43FF-A968-9E653476AEEA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cal search and optimiz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Local search= use single current state and move to neighboring state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Use very little memory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nd often reasonable solutions in large or infinite state space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re also useful for pure optimization problem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nd best state according to some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objective function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.g. survival of the fittest as a metaphor for optimizatio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686F2-6CFA-47C9-A9AF-649F8A29509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96120-5F23-4641-8B26-9F5468B9F19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 heuristic func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[dictionary]</a:t>
            </a:r>
            <a:r>
              <a:rPr b="0" i="1" lang="en-US" sz="2800" spc="-1" strike="noStrike">
                <a:solidFill>
                  <a:srgbClr val="5f604a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A rule of thumb, simplification, or educated  guess that reduces or limits the search for solutions in  domains that are difficult and poorly understood.”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f735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7358"/>
                </a:solidFill>
                <a:latin typeface="Times New Roman"/>
              </a:rPr>
              <a:t>h(n)</a:t>
            </a:r>
            <a:r>
              <a:rPr b="0" lang="en-US" sz="2000" spc="-1" strike="noStrike">
                <a:solidFill>
                  <a:srgbClr val="7f73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= estimated cost of the cheapest path from node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to goal nod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f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is goal then</a:t>
            </a:r>
            <a:r>
              <a:rPr b="0" lang="en-US" sz="2000" spc="-1" strike="noStrike">
                <a:solidFill>
                  <a:srgbClr val="7f735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7f7358"/>
                </a:solidFill>
                <a:latin typeface="Times New Roman"/>
              </a:rPr>
              <a:t>h(n)=0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Times New Roman"/>
              </a:rPr>
              <a:t>More information later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91E5D-C160-4E15-8D2F-F5DF3AF761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139D3-DB23-4947-BCF4-090ADA4CDFF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cal search and optimiz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165320" y="1989000"/>
            <a:ext cx="718020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124C2-9BC4-49D2-9D6B-F1E1B80E7D70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A6CB2-D56A-469A-88D5-490B0BA1CD1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ill-climbing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s a loop that continuously moves in the direction of increasing value”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t terminates when a peak is reached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ill climbing does not look ahead of the immediate neighbors of the current stat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ill-climbing chooses randomly among the set of best successors, if there is more than on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ill-climbing a.k.a.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greedy local search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DAF7F-759A-41A6-AB53-4ABF43C8EBF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E92A4-9F04-44AD-9E67-648355C51F7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ill-climbing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HILL-CLIMBING(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 state that is a local maximum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nput: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, a problem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local variables: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, a node.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eighbor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, a node.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 </a:t>
            </a:r>
            <a:r>
              <a:rPr b="0" i="1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MAKE-NODE(INITIAL-STATE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loop do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eighbor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 highest valued successor of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VALUE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eighbor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 ≤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VALUE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STATE[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neighbor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F08D9-0B28-4A78-AB47-DDCF9D543C5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8D987-4BF4-4994-8147-D1D7299541E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ill-climb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8-queens problem (complete-state formulation)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uccessor function: move a single queen to another square in the same column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euristic function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h(n)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: the number of pairs of queens that are attacking each other (directly or indirectly)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03F9A-20C8-452E-93D4-00453AEBBF3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DED0E-7DA0-471C-B60A-EC4DBAE7A83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ill-climbing example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) shows a state of h=17 and the h-value for each possible successor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) A local minimum in the 8-queens state space (h=1)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616040" y="1989000"/>
            <a:ext cx="1935360" cy="1925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959440" y="1989000"/>
            <a:ext cx="1935360" cy="1925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71040" y="1736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67080" y="1736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CCAA9-DF89-4C5F-82FB-A9604657225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50172-B3C0-41A5-9629-33579FC8C4B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rawback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Ridge = sequence of local maxima difficult for greedy algorithms to navigat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Plateaux = an area of the state space where the evaluation function is flat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Gets stuck 86% of the tim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57160" y="1989000"/>
            <a:ext cx="3451320" cy="1925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465880" y="1989000"/>
            <a:ext cx="245088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0A9B0-2DA6-41A9-A411-E7BBF39A9B4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05725-D923-4676-AE9D-BEB40D51E4CB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ill-climbing variatio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tochastic hill-climbing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Random selection among the uphill moves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e selection probability can vary with the steepness of the uphill move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First-choice hill-climbing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cfr. stochastic hill climbing by generating successors randomly until a better one is found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Random-restart hill-climbing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ries to avoid getting stuck in local maxima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114D6-B02F-4AA2-8800-362CBBA70FDE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EFE73-5035-4369-85A4-EE70CF549AF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imulated anneal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Escape local maxima by allowing “bad” mov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dea: but gradually decrease their size and frequency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Origin; metallurgical annealing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Bouncing ball analogy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haking hard (= high temperature)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haking less (= lower the temperature)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f T decreases slowly enough, best state is reached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pplied for VLSI layout, airline scheduling, etc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E3DD7-9C1A-4181-B3DE-D44C5FE0F7B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84156-635A-43A2-931C-8C8A73A49C4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imulated anneal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SIMULATED-ANNEALING(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problem, schedule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a solution state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input: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, a problem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schedule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, a mapping from time to temperature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local variables: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a node.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next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a node.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T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a “temperature” controlling the probability of downward steps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urrent </a:t>
            </a:r>
            <a:r>
              <a:rPr b="0" i="1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MAKE-NODE(INITIAL-STATE[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problem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])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for t </a:t>
            </a:r>
            <a:r>
              <a:rPr b="1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 1 to ∞ do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T </a:t>
            </a:r>
            <a:r>
              <a:rPr b="0" i="1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 schedule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t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]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T = 0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urrent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next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a randomly selected successor of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urrent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∆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E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VALUE[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next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] - VALUE[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]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∆E &gt; 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0 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then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next 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5f604a"/>
                </a:solidFill>
                <a:latin typeface="Verdana"/>
              </a:rPr>
              <a:t>else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next </a:t>
            </a:r>
            <a:r>
              <a:rPr b="0" lang="en-US" sz="1400" spc="-1" strike="noStrike">
                <a:solidFill>
                  <a:srgbClr val="5f604a"/>
                </a:solidFill>
                <a:latin typeface="Verdana"/>
              </a:rPr>
              <a:t>only with probability </a:t>
            </a:r>
            <a:r>
              <a:rPr b="0" i="1" lang="en-US" sz="1400" spc="-1" strike="noStrike">
                <a:solidFill>
                  <a:srgbClr val="5f604a"/>
                </a:solidFill>
                <a:latin typeface="Verdana"/>
              </a:rPr>
              <a:t>e</a:t>
            </a:r>
            <a:r>
              <a:rPr b="0" i="1" lang="en-US" sz="1400" spc="-1" strike="noStrike" baseline="30000">
                <a:solidFill>
                  <a:srgbClr val="5f604a"/>
                </a:solidFill>
                <a:latin typeface="Verdana"/>
              </a:rPr>
              <a:t>∆E /T</a:t>
            </a: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AB950-94F8-4548-A33F-C4943C6470B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27B95-948E-4AC2-84FA-E8724B8F53F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cal beam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Keep track of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k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states instead of on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nitially: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random stat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Next: determine all  successors of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tat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f any of successors is goal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finishe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lse select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best  from successors and repeat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Major difference with random-restart search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nformation is shared among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earch thread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an suffer from lack of diversity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tochastic variant: choose k successors at proportionally to state succes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EBFB2-C72B-4A22-8B1D-F18D7CE27D7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5B1B4-92DA-4E90-8838-D2C6DEFC33B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omania with step costs in k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3554280" cy="16336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i="1" lang="en-US" sz="2400" spc="-1" strike="noStrike" baseline="-25000">
                <a:solidFill>
                  <a:srgbClr val="5f604a"/>
                </a:solidFill>
                <a:latin typeface="Verdana"/>
              </a:rPr>
              <a:t>SLD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=straight-line distance heuristic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i="1" lang="en-US" sz="2400" spc="-1" strike="noStrike" baseline="-25000">
                <a:solidFill>
                  <a:srgbClr val="5f604a"/>
                </a:solidFill>
                <a:latin typeface="Verdana"/>
              </a:rPr>
              <a:t>SLD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can </a:t>
            </a:r>
            <a:r>
              <a:rPr b="1" lang="en-US" sz="2400" spc="-1" strike="noStrike">
                <a:solidFill>
                  <a:srgbClr val="5f604a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be computed from the problem description itself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n this example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f(n)=h(n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xpand node that is closest to goal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= Greedy best-first search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90680" y="3718080"/>
            <a:ext cx="3778200" cy="226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22641-926E-4B69-A896-C54905333F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7C35D-5C7A-4E14-8E9F-459B4A25908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enetic algorith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Variant of local beam search with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exual recombination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505320" y="2514600"/>
            <a:ext cx="5105160" cy="353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64C81-4D07-4B14-BB23-7E5E4A19577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E0232-892E-44D6-8112-695888E4C39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enetic algorith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Variant of local beam search with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sexual recombination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378080" y="2362320"/>
            <a:ext cx="6386400" cy="1923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1295280" y="4495680"/>
            <a:ext cx="6364440" cy="186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B41FC-08FC-4D43-87DD-75A4CF701B6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66E41-6BEF-4B6F-9A66-236D48F3124F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enetic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GENETIC_ALGORITHM(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opulation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FITNESS-FN)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an individual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input: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opulatio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, a set of individuals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FITNESS-FN, a function which determines the quality of the individual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repeat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new_population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mpty set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loop for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i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from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1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to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SIZE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opulatio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do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x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RANDOM_SELECTION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opulatio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, FITNESS_FN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y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RANDOM_SELECTION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opulatio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, FITNESS_FN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child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REPRODUCE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x,y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(small random probability) 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then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child 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MUTATE(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child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add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child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to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new_population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opulation 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 new_population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until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some individual is fit enough or enough time has elapsed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the best individual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4DB3E-73F9-4501-9DCF-B59286758A6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531DA-61B8-4033-BAAC-D33FE11EF50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ploration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Until now all algorithms were offlin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Offline= solution is determined before executing it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Online = interleaving computation and act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nline search is necessary for dynamic and semi-dynamic environment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t is impossible to take into account all possible contingencie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Used for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exploration problems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Unknown states and action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.g. any robot in a new environment, a newborn baby,…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9DFFE-20D0-4144-B8D4-B6668FC9A07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130E7-EBFF-4951-81C3-D8E5E0D5231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search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5298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gent knowledge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CTION(s): list of allowed actions in state 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C(s,a,s’): step-cost function (! After s’ is determined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GOAL-TEST(s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n agent can recognize previous states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ctions are deterministic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ccess to admissible heuristic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h(s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.g. manhattan distanc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76800" y="3124080"/>
            <a:ext cx="3067200" cy="306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F8725-DCD0-4A17-8978-01F5DBB54AF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63E54-1FE1-4757-94B0-B4890C15AD20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search proble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90320" y="1989000"/>
            <a:ext cx="852948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bjective: reach goal with minimal cost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st = total cost of travelled path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mpetitive ratio=comparison of cost with cost of the solution path if search space is known.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an be infinite in case of the agent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ccidentally reaches dead end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429000"/>
            <a:ext cx="3067200" cy="306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DABDD-B991-4BD6-96FD-E6F61BD34DA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7F5A5-EEB0-48E2-9D60-397FA056AAB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adversary argumen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ssume an adversary who can construct the state space while the agent explores it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Visited states S and A.  What next?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Fails in one of the state spaces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No algorithm can avoid dead ends in all state spac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1925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072040" y="1989000"/>
            <a:ext cx="315900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447B7-1A20-460D-96C0-82A030FD627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5BAED-924C-402D-8C55-73FF8A6EF38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search agent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he agent maintains a map of the environment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Updated based on percept input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s map is used to decide next action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Note difference with e.g. A*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An online version can only expand the node it is physically in (local order)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000A3-5883-41C6-8DB6-8218502B543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C91FD-1F40-4342-A75D-7EFAEC04D4E1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ONLINE_DFS-AGENT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an action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nput: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, a percept identifying current state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static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: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, a table indexed by action and state, initially empty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explor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, a table that lists for each visited state, the action not yet tried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backtrack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, a table that lists for each visited state, the backtrack not yet tried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,a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, the previous state and action, initially null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GOAL-TEST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) 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then return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stop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is a new state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the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explor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ACTIONS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is not null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the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do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,s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add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to the front of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backedtrack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explor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 is empty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then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backtrack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 is empty 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then return 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stop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else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an action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b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such that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b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=POP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backtrack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else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 </a:t>
            </a:r>
            <a:r>
              <a:rPr b="0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POP(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unexplored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])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s </a:t>
            </a:r>
            <a:r>
              <a:rPr b="0" lang="en-US" sz="13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 s’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3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300" spc="-1" strike="noStrike">
                <a:solidFill>
                  <a:srgbClr val="5f604a"/>
                </a:solidFill>
                <a:latin typeface="Verdana"/>
              </a:rPr>
              <a:t>a</a:t>
            </a:r>
            <a:endParaRPr b="0" lang="en-US" sz="13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F8904-CF57-440F-A2EE-7C683EF2CCA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AFF04-94DD-4E34-A29C-2425A5291CE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ssume maze problem on 3x3 grid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’ = (1,1) is initial stat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Result, unexplored (UX), unbacktracked (UB), …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re empty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,a are also empty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A99B5-07CE-4946-A029-8622CC2ABB4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1A530-C712-41DA-BB02-F00E3B07047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ssume that we want to use greedy search to solve the problem of travelling from Arad to Bucharest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 initial state=Ara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0680" y="2604960"/>
            <a:ext cx="8529480" cy="692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87280" y="22096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ad (36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280C-1C8D-494A-BC6E-1152A217F1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091B2-BE59-45AF-A678-9C296A6A1CE3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GOAL-TEST((,1,1))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 not = G thus fals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(1,1) a new state?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Tru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CTION((1,1)) -&gt; UX[(1,1)]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{RIGHT,UP}</a:t>
            </a: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 is null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True (initially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UX[(1,1)] empty? 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False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POP(UX[(1,1)])-&gt;a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A=UP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s = (1,1)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Return a 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67652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=(1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08CB4-A164-4B72-9881-A84189D39AB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49B28-C301-490F-986B-C142C5268D4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GOAL-TEST((2,1))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 not = G thus fals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(2,1) a new state?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Tru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CTION((2,1)) -&gt; UX[(2,1)]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2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358"/>
                </a:solidFill>
                <a:latin typeface="Verdana"/>
              </a:rPr>
              <a:t>{DOWN}</a:t>
            </a: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 is null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false (s=(1,1)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result[UP,(1,1)] &lt;- (2,1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UB[(2,1)]={(1,1)}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UX[(2,1)] empty? 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False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A=DOWN, s=(2,1) return A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523880" y="449568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604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7652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=(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86F2E-3DCF-48B9-90C2-9F91000855D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D7AF4-BFC6-4488-AF45-8D83E0794216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GOAL-TEST((1,1))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 not = G thus fals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(1,1) a new state?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fals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 is null?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false (s=(2,1)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result[DOWN,(2,1)] &lt;- (1,1)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UB[(1,1)]={(2,1)}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UX[(1,1)] empty? 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False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A=RIGHT, s=(1,1) return A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523880" y="449568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6040" y="44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7652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=(1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70C62-A035-4399-883E-65C44F24737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2E2E4-40AE-4EED-844F-4E57170ED13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GOAL-TEST((1,2))?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S not = G thus false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(1,2) a new state? 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rue, UX[(1,2)]={RIGHT,UP,LEFT}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s is null?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false (s=(1,1))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result[RIGHT,(1,1)] &lt;- (1,2)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UB[(1,2)]={(1,1)}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UX[(1,2)] empty? 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False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A=LEFT, s=(1,2) return A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523880" y="449568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7800" y="44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=(1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F6077-40E5-4E52-9592-95D672BF23F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8A1B4-E281-4044-B01E-1F289239A984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,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GOAL-TEST((1,1))?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S not = G thus false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(1,1) a new state?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358"/>
                </a:solidFill>
                <a:latin typeface="Verdana"/>
              </a:rPr>
              <a:t>false</a:t>
            </a: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s is null?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false (s=(1,2)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result[LEFT,(1,2)] &lt;- (1,1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UB[(1,1)]={(1,2),(2,1)}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UX[(1,1)] empty? 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True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UB[(1,1)] empty? False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A= b for b in result[b,(1,1)]=(1,2)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B=RIGHT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=RIGHT, s=(1,1) …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523880" y="449568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26040" y="44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652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=(1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3C900-B59B-46DC-8F75-20070DF984C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9BDA8-F60F-455D-8D0B-0A676FE1D6E7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DF-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834080" y="1988640"/>
            <a:ext cx="41860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Worst case each node is visited twic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n agent can go on a long walk even when it is close to the solution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n online iterative deepening approach solves this problem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Online DF-search works only when actions are reversible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186080" cy="400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FAFE7-CB38-4F7E-BAE9-EF2A3E8777B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235C9-9919-4473-BEEB-16DAD22BA60D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local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Hill-climbing is already onlin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One state is stored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Bad performancd due to local maxima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Random restarts impossible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olution: Random walk introduces exploration (can produce exponentially many steps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90680" y="4230720"/>
            <a:ext cx="8529480" cy="16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CDAFA-99CD-4EBC-BD25-B126FABA7C7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D1E4F-E93D-42C0-A071-CEDAC8440A2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nline local search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olution 2: Add memory to hill climber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tore current best estimate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H(s)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of cost to reach goal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H(s)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is initially the heuristic estimate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h(s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fterward updated with experience  (see below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Learning real-time A* (LRTA*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854440" y="4070520"/>
            <a:ext cx="380052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A2DF-8DE1-4455-91AC-52566E7D6E3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8BA57-4963-4952-A7ED-58E89852860C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earning real-time A*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LRTA*-COST(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,a,s’,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an cost estimate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 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is undefined the return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h(s)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else return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c(s,a,s’)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+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]</a:t>
            </a:r>
            <a:r>
              <a:rPr b="1" i="1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function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LRTA*-AGENT(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an action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input: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, a percept identifying current state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static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: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, a table indexed by action and state, initially empty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, a table of cost estimates indexed by state, initially empty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,a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, the previous state and action, initially null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GOAL-TEST(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  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then return 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stop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if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is a new state (not in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then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2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(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unless 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 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is null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result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a,s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] </a:t>
            </a:r>
            <a:r>
              <a:rPr b="0" lang="en-US" sz="12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H[s] </a:t>
            </a:r>
            <a:r>
              <a:rPr b="0" lang="en-US" sz="12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    MIN  LRTA*-COST(s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,b,result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b,s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],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4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            </a:t>
            </a:r>
            <a:r>
              <a:rPr b="0" i="1" lang="en-US" sz="800" spc="-1" strike="noStrike">
                <a:solidFill>
                  <a:srgbClr val="5f604a"/>
                </a:solidFill>
                <a:latin typeface="Verdana"/>
              </a:rPr>
              <a:t>b</a:t>
            </a:r>
            <a:r>
              <a:rPr b="0" lang="en-US" sz="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8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800" spc="-1" strike="noStrike">
                <a:solidFill>
                  <a:srgbClr val="5f604a"/>
                </a:solidFill>
                <a:latin typeface="Verdana"/>
              </a:rPr>
              <a:t> ACTIONS(</a:t>
            </a:r>
            <a:r>
              <a:rPr b="0" i="1" lang="en-US" sz="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a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an action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b 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in ACTIONS(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 that minimizes LRTA*-COST(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s’,b,result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[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b,s’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]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,H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s </a:t>
            </a:r>
            <a:r>
              <a:rPr b="0" lang="en-US" sz="12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 s’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5f604a"/>
                </a:solidFill>
                <a:latin typeface="Verdana"/>
              </a:rPr>
              <a:t>return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200" spc="-1" strike="noStrike">
                <a:solidFill>
                  <a:srgbClr val="5f604a"/>
                </a:solidFill>
                <a:latin typeface="Verdana"/>
              </a:rPr>
              <a:t>a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006EB-F7F1-4CCF-8192-297E66F90A3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1528A-41F3-449C-B309-4A89C7902C89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 first expansion step produce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biu, Timisoara and Zerin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reedy best-first will select Sibiu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0680" y="1981080"/>
            <a:ext cx="8529480" cy="1922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64320" y="1752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13320" y="25750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biu(2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3040" y="335268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iso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75680" y="24224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ind(37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47089-CA43-4E37-BA26-7FB6B21F69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0E5AF-0EC8-4D33-9645-CD1F1661A1CE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reedy search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f Sibiu is expanded we get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rad, Fagaras, Oradea and Rimnicu Vilcea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reedy best-first search will select: Fagara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54280" y="1989000"/>
            <a:ext cx="6054480" cy="1925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031000" y="1828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8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b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4440" y="3352680"/>
            <a:ext cx="67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6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7440" y="35053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ga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7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3760" y="350532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a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000" y="342900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mnicu Vilc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9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9F27B-03C7-4F2B-8032-FFEFB474E1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68E63-DC3D-4C82-9DA0-8BCBB94E64B2}" type="datetime3">
              <a:rPr lang="en-US"/>
              <a:t>July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08:59:46Z</dcterms:created>
  <dc:creator>ikke dikke</dc:creator>
  <dc:description/>
  <dc:language>en-US</dc:language>
  <cp:lastModifiedBy>ikke dikke</cp:lastModifiedBy>
  <cp:lastPrinted>2004-10-27T12:02:35Z</cp:lastPrinted>
  <dcterms:modified xsi:type="dcterms:W3CDTF">2006-03-03T09:03:58Z</dcterms:modified>
  <cp:revision>390</cp:revision>
  <dc:subject/>
  <dc:title>Artificial intelligence 1: informed search</dc:title>
</cp:coreProperties>
</file>