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120E-27EA-4097-99E0-81605592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3DEE-B37D-41A2-8289-A2066BA9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6135-B893-447A-A14E-1F8CA011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C7F7-5206-4F23-8593-48E9DB5E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F195E-16F8-434F-B182-F3180F0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CE05D-21BB-4FF7-8F82-2D66F4BD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878DF-5CDD-48D6-A051-50B3E0A6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48C4-9174-47FA-9250-58F8B695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F659A-1CE4-4325-AC41-2D4E99A4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65DDA-54B6-411E-9FEC-EB16E3F5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D583-F314-48BB-BA15-E7733AE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C8A9-083A-4C48-8217-4C259ADE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A1A9-991C-45FC-B3BB-C268C06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6AE33-0DBA-423C-A591-8726434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FA1D-9BC9-4C53-A8F3-69AC1034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38E1-84A2-4CDA-B825-ABF54535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1DAA5-4D63-4694-846E-E49F4CCD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BCB5-397B-460C-A42A-CFE6AD6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BEFC-4ED5-4598-857A-814A769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F573-098D-40BF-BDD0-5B9F2ED4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AAE1-91B5-4620-8478-F681208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5299-9EB8-459E-A32D-EC1711D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50E1-EAB6-4B9D-9B5C-9A1D0D5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0786-8087-4E36-BC86-F391647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C40-3AB5-48BC-8C87-9B112AD3D48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B5F-F5BD-418B-9C52-79907A1301A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7DC7-AAA7-4944-B925-FE7335D9EC5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BBA-CF71-454C-B683-B00B5D24F9C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informe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Fagaras is expanded we get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ibiu and Buchare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oal reached !!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 not optimal (see Arad, Sibiu, Rimnicu Vilcea, Pitesti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5688000" cy="213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62520" y="15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0574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2480" y="3100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35812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840" y="358128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ch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0720" y="3489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7707-FA67-4D36-905E-74809FC66F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BCB6D-DC21-476B-BCEC-9D721446FA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eck on repeated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inimizing h(n) can result in false starts, e.g. Iasi to Fagara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3139920"/>
            <a:ext cx="5207040" cy="313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74200">
            <a:off x="5714640" y="3504960"/>
            <a:ext cx="2362320" cy="100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F73E-ED79-4F07-B67F-779A035794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018CC-82D6-4344-98B2-C2441AF60A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fr. Worst-case DF-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(with m is maximum depth of search spac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heuristic can give dramatic improvem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76920" y="2819520"/>
                <a:ext cx="99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4525-9932-4B0E-B3E7-B5E41D368E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C58F2-F504-493F-BA91-CA6D21AEE2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Keeps all nodes in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25909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1957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6D9C-32F8-456F-B3B9-BB07794453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47FF9-2EBD-4F50-92AA-371C4E60AD5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ptimality?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ame as D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251460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0" y="296388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8F8D-05E9-475C-91D8-15E423681A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71E16-64D3-4CA1-B566-E6B86561127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est-known form of best-first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avoid expanding paths that are already expensiv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valuation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(n)=g(n) + h(n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g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 cost (so far) to reach the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cost to get from the node to the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total cost of path throug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7ACF-BA04-4D10-9626-F704549163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3394-C91B-4F15-9019-BC526CF91D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* search uses an admissible heuristic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 heuristic is admissible if i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never overestimate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the cost to reach the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re optimistic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rmally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lt;= 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where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the true cost from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gt;= 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so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G)=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for any goal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SLD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never overestimates the actual road dista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E89A-30DF-409D-A44E-3DA69A113C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B5EF0-5A41-4371-B910-132928E1550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720800"/>
            <a:ext cx="7086600" cy="42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3B63-86D1-4CFD-925F-4563F872F8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259A9-D64F-4DDE-95A3-E13A7EC9D7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ind Bucharest starting at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(Arad) = c(??,Arad)+h(Arad)=0+366=366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4796-9BA1-464D-BF2B-74B2BC2104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F7657-5D2C-4A71-B81C-161963DC38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xpand Arrad and determin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Arad,Sibiu)+h(Sibiu)=140+253=39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Timisoara)=c(Arad,Timisoara)+h(Timisoara)=118+329=44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Zerind)=c(Arad,Zerind)+h(Zerind)=75+374=449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est choice is Sibiu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0680" y="2220840"/>
            <a:ext cx="85294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0973-9B27-4CE4-9424-F3110D8031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0E677-9D1D-4C6A-B379-6CAAD569688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formed = use problem-specific knowledg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ich search strategie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 and its varia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to invent th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and optimiz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ill climbing, local beam search, genetic algorithms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in continuous spac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ag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035000" y="611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887A-F1FD-4E02-A935-4644BF7346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87442-4E8E-42CF-9752-9D09F0E80A7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Sibiu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Arad)=c(Sibiu,Arad)+h(Arad)=280+366=646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Fagaras)=c(Sibiu,Fagaras)+h(Fagaras)=239+179=415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Oradea)=c(Sibiu,Oradea)+h(Oradea)=291+380=67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Rimnicu Vilcea)=c(Sibiu,Rimnicu Vilcea)+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(Rimnicu Vilcea)=220+192=41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Rimnicu Vilcea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7680" y="1989000"/>
            <a:ext cx="84740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A28E-0F8A-44A4-B693-C8DF10FE25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B03DE-4A34-4B84-A195-D126730F99D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Rimnicu Vilcea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Craiova)=c(Rimnicu Vilcea, Craiova)+h(Craiova)=360+160=526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Pitesti)=c(Rimnicu Vilcea, Pitesti)+h(Pitesti)=317+100=41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Rimnicu Vilcea,Sibiu)+h(Sibiu)=300+253=55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Fagara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604880"/>
            <a:ext cx="6522840" cy="22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50B6-A624-4240-BC83-042490B3DC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09B55-7F07-4924-BDB2-503B338C501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Fagaras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Fagaras, Sibiu)+h(Sibiu)=338+253=59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(Bucharest)=c(Fagaras,Bucharest)+h(Bucharest)=450+0=45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Pitesti !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38352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BAE4-D5C3-450D-92EB-9B379470CD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C3AB7-B5DF-45B0-B4FB-EA4B7757AAF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Pitesti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7f7358"/>
                </a:solidFill>
                <a:latin typeface="Verdana"/>
              </a:rPr>
              <a:t>f(Bucharest)=c(Pitesti,Bucharest)+h(Bucharest)=418+0=418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Bucharest !!!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Optimal solution (only if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is admissable)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Note values along optimal path !!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619280"/>
            <a:ext cx="524376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6AF5-EA95-4572-83C9-854F627A35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0CF6D-CCD0-4880-9AEF-66C50D8FA4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ptimality of A*(standard proof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uppose sub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n the queu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an unexpanded node on a shortest to 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= g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=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 g(G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suboptimal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=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admis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&gt;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A* will never selec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or expans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24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26E8-987E-44CC-A7C2-898CB525D1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B7E60-3F0D-4FDB-AC63-950F328612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T … graph search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iscards new paths to repeated stat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revious proof breaks dow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olutio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dd extra bookkeeping i.e. remove more expsive of two path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nsure that optimal path to any repeated state is always first followed.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tra requirement 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: consistency (monotonicity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6E88-EFBF-4512-B866-7474D95076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D02C4-4824-42E7-B8C0-F57FC13D74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istenc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heuristic is consistent if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h is consistent, we ha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.e. f(n) is nondecreasing along any pat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2514600"/>
                <a:ext cx="3657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429000"/>
                <a:ext cx="419076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9572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8771-F985-4EA4-A434-43CC24CB64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D6308-AEC8-43F8-B83A-19316CB7F05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ptimality of A*(more usefull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* expands nodes in order of increasing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ours can be drawn in state spa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niform-cost search adds circle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-contours are gradually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dded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) 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&lt;C*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) Some nodes on the goa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=C*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I has al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=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wher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&lt; 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+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59900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8A12-E89F-4450-BDDC-1BEE7C46C0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46C41-B972-4AC0-B6BF-BB622B8A8F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ince bands of increasing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Unless there are infinitly many nodes with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&lt;f(G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CF4C-B7C8-4FF6-ACA7-FD70101635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1F453-B72C-491A-9DC6-753C9D02B8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Number of nodes expanded is still exponential in the length of the solutio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9492-EFF9-4320-8AB8-8A5E5363E0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83A15-E258-4295-B6F0-30828F966E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eviously: tree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REE-SEARC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strategy is defined by picking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he order of node expans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2468-F3B1-43AF-8CEA-D445CD96BA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23AAA-DA35-49DD-9105-DEE3C159255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keeps all generated nodes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space is the major problem not ti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8853-F3B3-4CA6-B226-9B02793331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AFEA0-4B77-4BE2-8571-C863627C626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(all nodes are stored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timality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not expand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+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unti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finis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all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lt; 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some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=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no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gt;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so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ptimally efficient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(not including ties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9321-46FC-474C-BE65-B762E3886D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29AAD-FC89-449C-A2A5-502204164B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emory-bounded heuristic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ome solutions to A* space problems (maintain completeness and optimality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terative-deepening A* (ID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re cutoff information is th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cost (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g+h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instead of dept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ecursive best-first search(RBF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cursive algorithm that attempts to mimic standard best-first search with linear spa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(simple) Memory-bounded A* ((S)M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rop the worst-leaf node when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4948-4DF2-47FF-82DC-2D991408F3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19251-A3A0-40C2-B741-94BE01BD8C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ECURSIVE-BEST-FIRST-SEARCH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FBS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MAKE-NODE(INITIAL-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,∞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FBS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, node,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 and a new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-co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limi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(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XPAND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, 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s empty then return failure, ∞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or each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ax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node i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&gt;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the second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among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B828-EDB0-4782-9358-9DCAEBE8C6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8660E-374B-42DF-9624-10642775181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Keeps track of the f-value of the best-alternative path availabl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f current f-values exceeds this alternative f-value than backtrack to alternative path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Upon backtracking change f-value to best f-value of its childre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-expansion of this result is thus still possibl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EEC5-0EB0-41CF-AC2E-DCF34E4FC3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3C32F-3A65-404F-BE84-3E0CA561241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h until Rumnicu Vilcea is already expand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bove node;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limit for every recursive call is shown on top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low node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(n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path is followed until Pitesti which has a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worse than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-limi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1647720"/>
            <a:ext cx="64864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A0EC-FA82-44CD-93E1-32CEC0056E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3C06-F667-4999-97C1-C580F40BB0E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-value for current best leaf Pitesti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now Fagaras. Call RBFS for new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value is now  45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628812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BC73-0A39-46C2-853B-4FA7D9BE1D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391A-3845-45E5-9662-3B53808603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for current best leaf Fagara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w Rimnicu Viclea (again). Call RBFS for new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ubtree is again expande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es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lternative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subtree is now through Timisoara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 is found since because 447 &gt; 417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1530360"/>
            <a:ext cx="599760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1D8E-D760-4E7B-9DAF-18FAFD179F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A9641-5757-486A-A04A-B4A1264C676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BFS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BFS is a bit more efficient than IDA*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ill excessive node generation (mind change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ike A*, optimal i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admissibl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pace complexity is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O(bd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A* retains only one single number (the current f-cost limi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ime complexity difficult to characteriz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pends on accuracy if h(n) and how often best path chang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DA* en RBFS suffer from </a:t>
            </a:r>
            <a:r>
              <a:rPr b="1" i="1" lang="en-US" sz="2400" spc="-1" strike="noStrike">
                <a:solidFill>
                  <a:srgbClr val="5f604a"/>
                </a:solidFill>
                <a:latin typeface="Verdana"/>
              </a:rPr>
              <a:t>too litt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160F-287E-4F79-ADE7-FDFB68A817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7177F-A22C-4B3C-9F6F-CC15B119E5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(simplified) memory-bounded A*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se all available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.e. expand best leafs until available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en full, SMA* drops worst leaf node (highes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valu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ike RFBS backup forgotten node to its par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at if all leafs have the sam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-value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me node could be selected for expansion and dele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MA* solves this by expand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ew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best leaf and delet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old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orst leaf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MA* is complete if solution is reachable, optimal if optimal solution is reach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078C-CD3D-463C-9FC9-1537B83473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FD124-CA08-4965-8A4C-28A2D823FE2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st-first search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approach of informed search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: node is selected for expansion based on a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evaluation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(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evaluation function measures distance to the goal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oose node whic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ppears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mplementatio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ring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queue sorted in decreasing order of desirabi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pecial cases: greedy search, A*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7366-16E9-42C6-8CEA-44EA31C10F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6E65F-BE5A-4BEC-B555-0DB896B0F3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to search better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l previous algorithms us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ixed strategie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ents can learn to improve their search by exploiting th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eta-level state spac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meta-level state is a internal (computational) state of a program that is searching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he object-level state spac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A* such a state consists of the current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meta-level learning algorithm from experiences at the meta-leve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C6D4-D987-4DC8-B01A-A1094BB7496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0854E-3810-4079-882E-E9F75514B8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.g for the 8-puzz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vg. solution cost is about 22 steps (branching factor +/- 3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to depth 22: 3.1 x 10</a:t>
            </a:r>
            <a:r>
              <a:rPr b="0" lang="en-US" sz="2000" spc="-1" strike="noStrike" baseline="30000">
                <a:solidFill>
                  <a:srgbClr val="7f7358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od heuristic function can reduce the search pro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B7D9-B823-4565-95A9-53B545DEF6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51765-11EE-47C9-AD28-7112D2239F4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 for the 8-puzzle knows two commonly used heuristic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number of misplaced ti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sum of the distances of the tiles from their goal positions (manhattan distance)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3+1+2+2+2+3+3+2=1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95CF-0E2E-46DE-95E8-0818C12675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319C9-C8BC-4BBA-B458-C1A9C29C7C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qu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ective branching factor b*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s the branching factor that a uniform tree of depth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would have in order to contain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nod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easure is fairly constant for sufficiently hard problem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an thus provide a good guide to the heuristic’s overall usefulnes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 good value of b* is 1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666880" y="3581280"/>
                <a:ext cx="440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C833-8448-4997-9462-0A204274415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945CD-C4F0-4143-9A59-12B44378808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 quality and domina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200 random problems with solution lengths from 2 to 24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 &gt;=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for all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both admissible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dominates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nd is better for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571500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7AC2-DC0E-468C-A3C9-A53F113514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3D7D4-E454-4EEA-95CB-5A88EA2D34B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dmissible heuristics can be derived from the exact solution cost of a relaxed version of the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: a tile can move anywher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gives the shortest solut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: a tile can move to any adjacent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gives the shortest solution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 optimal solution cost of a relaxed problem is no greater than the optimal solution cost of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Courier New"/>
              </a:rPr>
              <a:t>ABSolver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und a usefull heuristic for the rubic cub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1633-472B-4027-954D-8CD6E6508ED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127B3-2830-4FE0-A9EB-534026692D2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missible heuristics can also be derived from the solution cost of a subproblem of a given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is cost is a lower bound on the cost of the real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tern databases store the exact solution to for every possible subproblem insta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mplete heuristic is constructed using the patterns in the D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67668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94FE-12A1-4198-AC85-AE751C072E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5BEBE-8A90-4CA7-96FE-8C11F45913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nother way to find an admissible heuristic is through learning from experience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Experience = solving lots of 8-puzzl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n inductive learning algorithm can be used to predict costs for other states that arise during search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76F7-61E6-43C5-97B6-3F06621DE5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7D752-BB8A-452A-8500-03C2C567CEE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eviously: systematic exploration of search spac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th to goal is solution to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, for some problems path is irrelevan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 8-quee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fferent algorithms can be us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ocal search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0B97-6869-4693-899D-29C1ADC226F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49100-AE68-451D-8FC0-7F3033CC46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= use single current state and move to neighboring st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se very little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often reasonable solutions in large or infinite state spac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re also useful for pure optimization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best state according to som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objective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survival of the fittest as a metaphor for optimiza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1AA4-FF1F-483A-A05B-AD4B5AACA9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1DC12-4D1E-4A1B-9500-CC14F839C26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heuristic func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[dictionary]</a:t>
            </a:r>
            <a:r>
              <a:rPr b="0" i="1" lang="en-US" sz="2800" spc="-1" strike="noStrike">
                <a:solidFill>
                  <a:srgbClr val="5f604a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 rule of thumb, simplification, or educated  guess that reduces or limits the search for solutions in  domains that are difficult and poorly understood.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 estimated cost of the cheapest path from nod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goal then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=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Times New Roman"/>
              </a:rPr>
              <a:t>More information later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7F09-C691-471B-BD7E-FDE769944C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A5853-24B8-433D-8594-04F57BCBC1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65320" y="1989000"/>
            <a:ext cx="7180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D417-EA4D-4D5E-A142-B58CFBF230B7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DD6A5-5786-4B41-BD6A-ED84E725A9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s a loop that continuously moves in the direction of increasing value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terminates when a peak is reac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 climbing does not look ahead of the immediate neighbors of the current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chooses randomly among the set of best successors, if there is more than o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a.k.a.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greedy local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5411-B8DE-436F-B570-6C344FC3B3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9000A-CAF8-4241-AFCD-97935136DF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HILL-CLIMBING(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tate that is a local maximu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highest valued successor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VALUE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≤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9214-C3A5-445B-8F30-D917BF6E16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51D73-A8F5-43EA-B330-C9A109E3B09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8-queens problem (complete-state formulation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uccessor function: move a single queen to another square in the same colum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the number of pairs of queens that are attacking each other (directly or indirectly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AED4-CDF5-4D63-B809-8E1039216A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6699-2DFA-439A-8B1E-45F871E32E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) shows a state of h=17 and the h-value for each possible successor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) A local minimum in the 8-queens state space (h=1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16040" y="1989000"/>
            <a:ext cx="1935360" cy="1925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9440" y="1989000"/>
            <a:ext cx="1935360" cy="192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1040" y="1736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7080" y="17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D80E-47FF-49B2-826D-0F9ED4E91C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D1872-3C83-4AD0-BE8A-F023AB2477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idge = sequence of local maxima difficult for greedy algorithms to navig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teaux = an area of the state space where the evaluation function is fla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ts stuck 86% of th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57160" y="1989000"/>
            <a:ext cx="3451320" cy="192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465880" y="1989000"/>
            <a:ext cx="24508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08B1-47C6-49CB-A322-0158C8D611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E1E3B-7253-4560-8C4A-FDA407F55A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varia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ochastic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andom selection among the uphill mov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e selection probability can vary with the steepness of the uphill mov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-choice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fr. stochastic hill climbing by generating successors randomly until a better one is found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andom-restart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ries to avoid getting stuck in local maxima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79E8-1343-4169-A0B1-25C2176EA0B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E8D23-5E67-45B6-BFB5-8C439473943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scape local maxima by allowing “bad” mo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ea: but gradually decrease their size and frequenc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rigin; metallurgical anneal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ouncing ball analog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hard (= high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less (= lower the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T decreases slowly enough, best state is reach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pplied for VLSI layout, airline scheduling, et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E1E2-77FA-4475-BD18-A3F91C52E2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ADC52-7177-4260-97F9-9CE800EB1E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SIMULATED-ANNEALING(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,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solution stat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mapping from time to temperatur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“temperature” controlling the probability of downward step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or t </a:t>
            </a:r>
            <a:r>
              <a:rPr b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1 to ∞ do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= 0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randomly selected successor of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 - 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E &gt;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0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only with probability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i="1" lang="en-US" sz="1400" spc="-1" strike="noStrike" baseline="30000">
                <a:solidFill>
                  <a:srgbClr val="5f604a"/>
                </a:solidFill>
                <a:latin typeface="Verdana"/>
              </a:rPr>
              <a:t>∆E /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192C-1C6B-4C84-9E1F-E3AF597EA9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60239-1F55-45E7-BADB-A51D0F9412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beam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Keep track o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states instead of on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itially: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random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ext: determine all  successors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ny of successors is goal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finish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lse select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  from successors and repea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jor difference with random-restart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formation is shared amo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earch thread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n suffer from lack of diversity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ochastic variant: choose k successors at proportionally to state suc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3792-92B5-4C10-B689-295A7E9BFB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39EC7-250A-4E83-8943-067AC95BF8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with step costs in k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3554280" cy="1633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=straight-line distance heuristi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can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computed from the problem description itsel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 this exampl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=h(n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pand node that is closest to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Greedy best-fir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0680" y="3718080"/>
            <a:ext cx="37782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67CF-15BB-4EDE-BF43-98ABFDC21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5A1E1-FCAC-43A9-B375-7CD8D2CEF3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105160" cy="35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D471-B12C-4E0A-995D-C445F16D0A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9D034-F6AC-4F14-A9F1-859A8BA215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78080" y="2362320"/>
            <a:ext cx="6386400" cy="1923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636444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A6C2-4E3A-4BA1-A8B4-FF43452735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59822-A16C-4872-BB0C-EC7197332F1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ENETIC_ALGORITHM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n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a set of individual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, a function which determines the quality of the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mpty se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loop for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ro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1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o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IZ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PRODUC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,y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(small random probability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MUTAT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 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until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ome individual is fit enough or enough time has elapsed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best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4ED9-E098-41BE-806F-F8C67F7791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AB709-3AA4-45B2-B7CA-7C627393C8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ation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til now all algorithms were offli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fline= solution is determined before executing i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ine = interleaving computation and 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is necessary for dynamic and semi-dynamic environm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is impossible to take into account all possible contingenci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for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exploration problem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states and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any robot in a new environment, a newborn baby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BAE9-7CFD-47EA-BE1A-22A68B82AD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16ACC-8302-49E0-87CE-11C8D3C5480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5298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gent knowledg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s): list of allowed actions in state 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(s,a,s’): step-cost function (! After s’ is determined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-TEST(s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recognize previous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tions are deterministi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cess to admissible heuristic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. manhattan dista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76800" y="312408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793D-FF6E-4E8E-9EE1-6EF01BCFB4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00989-7A55-4F84-B200-DCA6C0A12C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1989000"/>
            <a:ext cx="85294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jective: reach goal with minimal co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= total cost of travelled pat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etitive ratio=comparison of cost with cost of the solution path if search space is known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infinite in case of the ag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cidentally reaches dead en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6147-45F9-4E1C-9BA8-71DC0CF6FF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66EB-1F1A-4640-BAAA-B446B85B7DD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adversary argum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an adversary who can construct the state space while the agent explores i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Visited states S and A.  What next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ils in one of the state space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algorithm can avoid dead ends in all state spac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192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72040" y="1989000"/>
            <a:ext cx="3159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3E26-4DF4-45A1-8076-74EB0CBF05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D1C17-CD2A-4DB7-A213-CF92F50D832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ag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agent maintains a map of the environmen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pdated based on percept input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s map is used to decide next action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Note difference with e.g. A*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n online version can only expand the node it is physically in (local order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07E0-C92B-41FE-B75B-329554E9FF0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FC35F-275E-49AE-922A-1BDAE4DA6D4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ONLINE_DFS-AGEN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action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backtrack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is a new state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is not null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o the front of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ed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such that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=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1359-7C5D-4566-BE54-E4878DAA8B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9DEC1-D9B3-4E56-8749-4CAF41B4D8D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maze problem on 3x3 gri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’ = (1,1) is initial st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sult, unexplored (UX), unbacktracked (UB), …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re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,a are also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0CF1-8B0D-4B88-8FCF-290530CFC9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8BC82-D04B-46A3-AE64-27510334116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that we want to use greedy search to solve the problem of travelling from Arad to Buchares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initial state=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2604960"/>
            <a:ext cx="8529480" cy="69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7280" y="2209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 (3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D400-1BC8-475F-9B5B-B2952DC90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EB58E-6D6F-4A6E-8D1C-B35A5816DDD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,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1,1)) -&gt; UX[(1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RIGHT,UP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True (initially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POP(UX[(1,1)])-&gt;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=UP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 = (1,1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Return a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E804-784F-42FD-B24E-FAE1D476C3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FC2F1-441D-43B4-83C9-24D3D3F3E9E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2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2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2,1)) -&gt; UX[(2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DOWN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UP,(1,1)] &lt;- (2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2,1)]={(1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2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DOWN, s=(2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60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0B31-EC6F-4741-BBC1-0FA40F17DC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DADB-41CC-430B-AFB5-5E8098A301C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2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DOWN,(2,1)] &lt;- (1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1,1)]={(2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RIGHT, s=(1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7E5D-6324-44A3-AD2A-C8BD3C43F5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75FF5-185F-4C8E-A4FF-00027862FC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GOAL-TEST((1,2))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(1,2) a new state? 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rue, UX[(1,2)]={RIGHT,UP,LEFT}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result[RIGHT,(1,1)] &lt;- (1,2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UB[(1,2)]={(1,1)}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UX[(1,2)] empty?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=LEFT, s=(1,2) return A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780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090F-F8C0-4E3A-AE5B-03D0ACC1F7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C69C0-5BCE-4DD1-980E-33007F6B7BF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false (s=(1,2)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sult[LEFT,(1,2)] &lt;- (1,1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={(1,2),(2,1)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 empty? Fals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= b for b in result[b,(1,1)]=(1,2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=RIGH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=RIGHT, s=(1,1) …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D0F0-91A2-4F5E-A416-2E4692C631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CB751-E77C-4C7C-A311-3A46AA371E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orst case each node is visited twi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go on a long walk even when it is close to the solu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online iterative deepening approach solves this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ine DF-search works only when actions are reversibl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1F1A-B073-47D6-8FCC-AF63EECB14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2F3AC-5E99-45DF-9E31-DC363E2C3D5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ill-climbing is already onli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One state is stor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d performancd due to local maxim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andom restarts impossi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: Random walk introduces exploration (can produce exponentially many step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0680" y="4230720"/>
            <a:ext cx="852948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1007-F0C5-46F3-ACCA-51A2F85CD05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2B3D5-AD7B-4FEA-AA95-7504E20AA26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olution 2: Add memory to hill climbe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ore current best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f cost to reach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initially the heuristic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fterward updated with experience  (see below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rning real-time A* (LRTA*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854440" y="4070520"/>
            <a:ext cx="38005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6673-87AF-4FFC-AD14-D711ED9C3C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319E3-7DEC-4358-9908-2702E741EA4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real-time A*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,s’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cost estim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undefined the retur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else 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c(s,a,s’)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1" i="1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AGEN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of cost estimates indexed by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is a new state (not i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unles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H[s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MIN  LRTA*-COST(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        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n ACTIONS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that minimizes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0938-13E9-4732-A100-DA3D164672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0828F-736C-4CDE-960A-5D47DA004AC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first expansion step produc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biu, Timisoara and Zeri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will select Sibiu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0680" y="1981080"/>
            <a:ext cx="8529480" cy="192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64320" y="1752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3320" y="2575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iu(2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3040" y="335268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so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75680" y="2422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ind(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5BF2-D119-4DC9-AA3C-AE65FF35F0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72FA-732C-4E9E-8369-F9E5AE2D343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Sibiu is expanded we ge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rad, Fagaras, Oradea and Rimnicu Vilcea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search will select: Fagara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4280" y="1989000"/>
            <a:ext cx="6054480" cy="1925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31000" y="1828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440" y="33526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440" y="35053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3760" y="35053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000" y="34290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mnicu Vilc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84CB-0EEA-40E1-8802-5FFA05C2A3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B790B-FC6A-49AD-8B13-45DD73BCB12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59:46Z</dcterms:created>
  <dc:creator>ikke dikke</dc:creator>
  <dc:description/>
  <dc:language>en-US</dc:language>
  <cp:lastModifiedBy>ikke dikke</cp:lastModifiedBy>
  <cp:lastPrinted>2004-10-27T12:02:35Z</cp:lastPrinted>
  <dcterms:modified xsi:type="dcterms:W3CDTF">2006-03-03T09:03:58Z</dcterms:modified>
  <cp:revision>390</cp:revision>
  <dc:subject/>
  <dc:title>Artificial intelligence 1: informed search</dc:title>
</cp:coreProperties>
</file>