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28.jpeg" ContentType="image/jpeg"/>
  <Override PartName="/ppt/media/image5.png" ContentType="image/png"/>
  <Override PartName="/ppt/media/image29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6937C-CFAD-415F-8A56-8107E21DC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F164D-C62E-40D5-8518-91BC3A10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5B742-D27B-4419-833F-DE99203CE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5D63B-8CB0-4A6B-844B-E02F24DA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0E8F2-365B-489D-90F2-E5F44484E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5C861-4B32-45D2-9623-7EA3652D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0FD25-8A5A-497F-A33F-C31CC8F2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D3DF2-D807-4652-A30A-FC7FF54C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D0CEF-14B2-4ECD-96CD-E4D150D5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3DEF7-F9BE-40C2-A3A2-715D9818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872DC-E7F9-499A-AF55-AB3F7134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BEF58-8874-45E8-A048-F8B8FDF8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97564-C5E0-4B2D-A98C-887AE5D3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2D353-84D5-4A05-B115-39C2D3BA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7EC38-766C-46E4-BD1F-4D8427F1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DC3AD-4206-49FB-82C1-54C2FDA05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04D37-8231-4D12-93B5-592A0AE8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29426-EBAF-40B5-868E-9D3DCB20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60387-A224-44DD-BFEE-E309F16A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44532-49FB-45E1-997A-904E8669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3E71D-CB86-4FB4-8940-521B1618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246CD-85A4-40ED-88B0-B76F544F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C325A-EDF2-4650-BBAB-EF4D4018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5D1CB-1D8C-46BE-AA24-7A3E6754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07120"/>
            <a:ext cx="9140760" cy="647640"/>
          </a:xfrm>
          <a:prstGeom prst="rect">
            <a:avLst/>
          </a:prstGeom>
          <a:solidFill>
            <a:srgbClr val="abb202"/>
          </a:solidFill>
          <a:ln w="9360">
            <a:solidFill>
              <a:srgbClr val="abb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586800" indent="-22572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2" marL="90288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3" marL="126396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4" marL="1625040" indent="-180360">
              <a:spcBef>
                <a:spcPts val="1001"/>
              </a:spcBef>
              <a:buClr>
                <a:srgbClr val="7f7358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5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6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387F-F436-4D0B-AB10-1CE569726987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0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61892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D255-2516-47E0-84A3-839399178E50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219640" y="6207120"/>
            <a:ext cx="392292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46800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58920" y="651672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Verdana"/>
              </a:rPr>
              <a:t>Pa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0760" cy="5235480"/>
          </a:xfrm>
          <a:prstGeom prst="rect">
            <a:avLst/>
          </a:prstGeom>
          <a:solidFill>
            <a:srgbClr val="7f7358"/>
          </a:solidFill>
          <a:ln w="9360">
            <a:solidFill>
              <a:srgbClr val="7f73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FDAE-0E19-4DC4-B07E-DDC100CB7C3F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0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7A8F-D2AB-4453-8E81-182D1EEE18A4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18200" y="6638760"/>
            <a:ext cx="392256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81480" y="5541840"/>
            <a:ext cx="349092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7f7358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0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0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0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0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Artificial intelligence 1: informed search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79280" y="4138200"/>
            <a:ext cx="7740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ecturer: Tom Lenaerts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WITCH, Vlaams Interuniversitair Instituut voor Biotechnologie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reedy search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If Fagaras is expanded we get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ibiu and Bucharest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Goal reached !! 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Yet not optimal (see Arad, Sibiu, Rimnicu Vilcea, Pitesti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371600" y="1714680"/>
            <a:ext cx="5688000" cy="2133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862520" y="15764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2057400"/>
            <a:ext cx="8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bi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52480" y="31003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ga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20760" y="3581280"/>
            <a:ext cx="67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bi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5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8840" y="3581280"/>
            <a:ext cx="109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char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90720" y="34894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B9EED-34B9-4E11-9A9F-571E854D128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18A102-AB59-4E47-ACEB-7D0894872DD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reedy search,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ompleteness: NO (cfr. DF-search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heck on repeated state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Minimizing h(n) can result in false starts, e.g. Iasi to Fagara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895480" y="3139920"/>
            <a:ext cx="5207040" cy="3138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rot="2074200">
            <a:off x="5714640" y="3504960"/>
            <a:ext cx="2362320" cy="100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FB97D-D5EB-4EF1-B0BE-7307EF85E4B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DCB38-F613-49B2-95A4-7CCC09B6289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reedy search,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ompleteness: NO (cfr. DF-search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ime complexity?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fr. Worst-case DF-search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(with m is maximum depth of search space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Good heuristic can give dramatic improvement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876920" y="2819520"/>
                <a:ext cx="9903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BDF79-B1C1-43D6-B4AA-B66D6DF0951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23A01E-FF21-4457-BEE2-0FA6F628836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reedy search,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Completeness: NO (cfr. DF-search)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Time complexity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Space complexity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Keeps all nodes in memory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572000" y="2590920"/>
                <a:ext cx="990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72000" y="3195720"/>
                <a:ext cx="990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AD12F-24F1-4FA4-B710-47F436076F4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C475B3-FA05-46F6-BB0D-FE01D8B5BC0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reedy search,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Completeness: NO (cfr. DF-search)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Time complexity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Space complexity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Optimality? NO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Same as DF-search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72000" y="2514600"/>
                <a:ext cx="990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572000" y="2963880"/>
                <a:ext cx="990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CC8D0-7DAF-4163-9A30-7A87B490022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699138-E64E-458D-AFF9-90F79B39F6C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*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Best-known form of best-first search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Idea: avoid expanding paths that are already expensive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Evaluation function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f(n)=g(n) + h(n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g(n)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the cost (so far) to reach the node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h(n)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estimated cost to get from the node to the goal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f(n)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estimated total cost of path through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to goal. 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1991C-8E68-45DD-8471-FCB4C2AAC94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43F49-757B-467D-B752-D072E045C11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*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A* search uses an admissible heuristic 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A heuristic is admissible if it </a:t>
            </a:r>
            <a:r>
              <a:rPr b="0" i="1" lang="en-US" sz="2200" spc="-1" strike="noStrike">
                <a:solidFill>
                  <a:srgbClr val="7f7358"/>
                </a:solidFill>
                <a:latin typeface="Verdana"/>
              </a:rPr>
              <a:t>never overestimates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 the cost to reach the goal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Are optimistic 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Formally: 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1.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h(n) &lt;= h*(n)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where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h*(n)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is the true cost from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n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2.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h(n) &gt;= 0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so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h(G)=0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for any goal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G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e.g.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h</a:t>
            </a:r>
            <a:r>
              <a:rPr b="0" i="1" lang="en-US" sz="1600" spc="-1" strike="noStrike" baseline="-25000">
                <a:solidFill>
                  <a:srgbClr val="7f7358"/>
                </a:solidFill>
                <a:latin typeface="Verdana"/>
              </a:rPr>
              <a:t>SLD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(n)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never overestimates the actual road distance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9D578-56E0-4235-9EBD-7194A519C93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49F716-8FCE-4378-9C2A-520557EF551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omania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14400" y="1720800"/>
            <a:ext cx="7086600" cy="42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D3593-1208-4A2C-A503-63F1E6259B6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B419DF-798F-4D13-8FA6-EADA4EED3C6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* search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Find Bucharest starting at Arad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(Arad) = c(??,Arad)+h(Arad)=0+366=366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458200" cy="52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9D1B8-1955-4337-9F0C-FDE9D00F200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D38CCE-A8ED-4BAF-B0C1-FC5C2E2A69F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* search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Expand Arrad and determine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f(n)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for each node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f(Sibiu)=c(Arad,Sibiu)+h(Sibiu)=140+253=393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f(Timisoara)=c(Arad,Timisoara)+h(Timisoara)=118+329=447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f(Zerind)=c(Arad,Zerind)+h(Zerind)=75+374=449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Best choice is Sibiu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90680" y="2220840"/>
            <a:ext cx="8529480" cy="146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947ED-1BEE-4178-B25C-2BB365623EB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78DD44-26EA-4062-9FC5-7A8482A1EEC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utlin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Informed = use problem-specific knowledg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Which search strategies?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Best-first search and its variant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Heuristic functions?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How to invent them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Local search and optimization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Hill climbing, local beam search, genetic algorithms,…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Local search in continuous space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Online search agent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1035000" y="6114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D0201-74C5-4B83-AFC7-1FA2AE5EAEC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08D30-E53D-4D16-9227-E03E8F2407A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* search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Expand Sibiu and determine </a:t>
            </a:r>
            <a:r>
              <a:rPr b="0" i="1" lang="en-US" sz="2200" spc="-1" strike="noStrike">
                <a:solidFill>
                  <a:srgbClr val="5f604a"/>
                </a:solidFill>
                <a:latin typeface="Verdana"/>
              </a:rPr>
              <a:t>f(n)</a:t>
            </a: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 for each node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f(Arad)=c(Sibiu,Arad)+h(Arad)=280+366=646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f(Fagaras)=c(Sibiu,Fagaras)+h(Fagaras)=239+179=415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f(Oradea)=c(Sibiu,Oradea)+h(Oradea)=291+380=671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f(Rimnicu Vilcea)=c(Sibiu,Rimnicu Vilcea)+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h(Rimnicu Vilcea)=220+192=413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Best choice is Rimnicu Vilcea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17680" y="1989000"/>
            <a:ext cx="847404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572BE-46D4-427C-8EDE-58729DE0CEC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D5CAB4-690D-4AC8-9D2E-8BD63DF2EE0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* search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Expand Rimnicu Vilcea and determine </a:t>
            </a:r>
            <a:r>
              <a:rPr b="0" i="1" lang="en-US" sz="2600" spc="-1" strike="noStrike">
                <a:solidFill>
                  <a:srgbClr val="5f604a"/>
                </a:solidFill>
                <a:latin typeface="Verdana"/>
              </a:rPr>
              <a:t>f(n)</a:t>
            </a: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 for each node</a:t>
            </a: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f(Craiova)=c(Rimnicu Vilcea, Craiova)+h(Craiova)=360+160=526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f(Pitesti)=c(Rimnicu Vilcea, Pitesti)+h(Pitesti)=317+100=417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f(Sibiu)=c(Rimnicu Vilcea,Sibiu)+h(Sibiu)=300+253=553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Best choice is Fagaras</a:t>
            </a: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62120" y="1604880"/>
            <a:ext cx="6522840" cy="224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609E1-7F75-4DF8-8F5D-6A953FC3826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3C302-F562-4812-86BB-E84009C9AB0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* search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Expand Fagaras and determine </a:t>
            </a:r>
            <a:r>
              <a:rPr b="0" i="1" lang="en-US" sz="2600" spc="-1" strike="noStrike">
                <a:solidFill>
                  <a:srgbClr val="5f604a"/>
                </a:solidFill>
                <a:latin typeface="Verdana"/>
              </a:rPr>
              <a:t>f(n)</a:t>
            </a: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 for each node</a:t>
            </a: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f(Sibiu)=c(Fagaras, Sibiu)+h(Sibiu)=338+253=591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f(Bucharest)=c(Fagaras,Bucharest)+h(Bucharest)=450+0=450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Best choice is Pitesti !!!</a:t>
            </a: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6383520" cy="224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AB6B6-83CF-42C7-BB67-75D4E9EB66D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9586E-1B30-43AB-B77D-2D1F6B5D748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* search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Expand Pitesti and determine </a:t>
            </a:r>
            <a:r>
              <a:rPr b="0" i="1" lang="en-US" sz="2200" spc="-1" strike="noStrike">
                <a:solidFill>
                  <a:srgbClr val="5f604a"/>
                </a:solidFill>
                <a:latin typeface="Verdana"/>
              </a:rPr>
              <a:t>f(n)</a:t>
            </a: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 for each node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7f7358"/>
                </a:solidFill>
                <a:latin typeface="Verdana"/>
              </a:rPr>
              <a:t>f(Bucharest)=c(Pitesti,Bucharest)+h(Bucharest)=418+0=418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Best choice is Bucharest !!!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Optimal solution (only if </a:t>
            </a:r>
            <a:r>
              <a:rPr b="0" i="1" lang="en-US" sz="1700" spc="-1" strike="noStrike">
                <a:solidFill>
                  <a:srgbClr val="7f7358"/>
                </a:solidFill>
                <a:latin typeface="Verdana"/>
              </a:rPr>
              <a:t>h(n)</a:t>
            </a: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 is admissable) 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Note values along optimal path !!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23880" y="1619280"/>
            <a:ext cx="5243760" cy="222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7CA51-9F87-427F-8CCF-DB522D902F1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442820-869B-4B03-A9A0-74BE3E35C37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Optimality of A*(standard proof)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Suppose suboptimal goal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G</a:t>
            </a:r>
            <a:r>
              <a:rPr b="0" i="1" lang="en-US" sz="24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in the queue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Let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be an unexpanded node on a shortest to optimal goal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G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2" marL="105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f(G</a:t>
            </a:r>
            <a:r>
              <a:rPr b="0" i="1" lang="en-US" sz="1400" spc="-1" strike="noStrike" baseline="-25000">
                <a:solidFill>
                  <a:srgbClr val="7f7358"/>
                </a:solidFill>
                <a:latin typeface="Verdana"/>
              </a:rPr>
              <a:t>2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)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= g(G</a:t>
            </a:r>
            <a:r>
              <a:rPr b="0" i="1" lang="en-US" sz="1400" spc="-1" strike="noStrike" baseline="-25000">
                <a:solidFill>
                  <a:srgbClr val="7f7358"/>
                </a:solidFill>
                <a:latin typeface="Verdana"/>
              </a:rPr>
              <a:t>2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)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since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h(G</a:t>
            </a:r>
            <a:r>
              <a:rPr b="0" i="1" lang="en-US" sz="1400" spc="-1" strike="noStrike" baseline="-25000">
                <a:solidFill>
                  <a:srgbClr val="7f7358"/>
                </a:solidFill>
                <a:latin typeface="Verdana"/>
              </a:rPr>
              <a:t>2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)=0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05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&gt; g(G)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since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G</a:t>
            </a:r>
            <a:r>
              <a:rPr b="0" i="1" lang="en-US" sz="14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is suboptimal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05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&gt;= f(n)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since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h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is admissible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05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Since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f(G</a:t>
            </a:r>
            <a:r>
              <a:rPr b="0" i="1" lang="en-US" sz="14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) &gt; f(n)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, A* will never select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G</a:t>
            </a:r>
            <a:r>
              <a:rPr b="0" i="1" lang="en-US" sz="14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for expansion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505320" cy="245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DDBA6-B87D-40F7-8DA4-A4D6B320807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DB095D-4DDA-4458-A1D9-986AF827EBA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UT … graph search 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Discards new paths to repeated state.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Previous proof breaks down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Solution: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Add extra bookkeeping i.e. remove more expsive of two paths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Ensure that optimal path to any repeated state is always first followed. 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xtra requirement on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h(n)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: consistency (monotonicity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95AF5-0B9A-4F5D-9DF8-E8074E979E6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B00D21-FD7B-4384-950A-B72C3AF1687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onsistency 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 heuristic is consistent if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If h is consistent, we hav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i.e. f(n) is nondecreasing along any path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362320" y="2514600"/>
                <a:ext cx="36576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362320" y="3429000"/>
                <a:ext cx="4190760" cy="18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³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³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295720" cy="329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B5CA6-A2F7-40B8-AE7E-C8F6867CD40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4F06CE-F65E-4C4A-86EF-AA5348E0BFA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ptimality of A*(more usefull)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marL="178200" indent="-17820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* expands nodes in order of increasing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f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valu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178200" indent="-17820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ontours can be drawn in state spac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386280" indent="-14832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Uniform-cost search adds circles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38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386280" indent="-14832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F-contours are gradually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38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dded: 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38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1) nodes with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f(n)&lt;C*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38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2) Some nodes on the goal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38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Contour (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f(n)=C*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)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38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38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Contour I has all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38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Nodes with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f=f</a:t>
            </a:r>
            <a:r>
              <a:rPr b="0" i="1" lang="en-US" sz="1600" spc="-1" strike="noStrike" baseline="-25000">
                <a:solidFill>
                  <a:srgbClr val="7f7358"/>
                </a:solidFill>
                <a:latin typeface="Verdana"/>
              </a:rPr>
              <a:t>i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, where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38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f</a:t>
            </a:r>
            <a:r>
              <a:rPr b="0" i="1" lang="en-US" sz="1600" spc="-1" strike="noStrike" baseline="-25000">
                <a:solidFill>
                  <a:srgbClr val="7f7358"/>
                </a:solidFill>
                <a:latin typeface="Verdana"/>
              </a:rPr>
              <a:t>i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&lt; f</a:t>
            </a:r>
            <a:r>
              <a:rPr b="0" i="1" lang="en-US" sz="1600" spc="-1" strike="noStrike" baseline="-25000">
                <a:solidFill>
                  <a:srgbClr val="7f7358"/>
                </a:solidFill>
                <a:latin typeface="Verdana"/>
              </a:rPr>
              <a:t>i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+1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38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419720" y="3048120"/>
            <a:ext cx="4599000" cy="29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D42DB-13F9-4B76-802E-E63C33A9C4E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8E26D-D391-4061-B319-EBF70289CBF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* search,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Completeness: YES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Since bands of increasing </a:t>
            </a:r>
            <a:r>
              <a:rPr b="0" i="1" lang="en-US" sz="2200" spc="-1" strike="noStrike">
                <a:solidFill>
                  <a:srgbClr val="7f7358"/>
                </a:solidFill>
                <a:latin typeface="Verdana"/>
              </a:rPr>
              <a:t>f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 are added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Unless there are infinitly many nodes with </a:t>
            </a:r>
            <a:r>
              <a:rPr b="0" i="1" lang="en-US" sz="2200" spc="-1" strike="noStrike">
                <a:solidFill>
                  <a:srgbClr val="7f7358"/>
                </a:solidFill>
                <a:latin typeface="Verdana"/>
              </a:rPr>
              <a:t>f&lt;f(G)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265F8-16BB-4D7A-9B36-3A9469221EE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634554-9C77-49D7-A0BB-44B1359AEA1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* search,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Completeness: YES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Time complexity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Number of nodes expanded is still exponential in the length of the solution.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D5267-088A-434A-B55C-9FA95498ABB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B0C5EA-722A-4FA7-B88D-0B20611FF50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eviously: tree-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functio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TREE-SEARCH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problem,fringe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a solution or failur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fringe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INSERT(MAKE-NODE(INITIAL-STATE[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]),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fringe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loop do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EMPTY?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fringe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then return 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failur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REMOVE-FIRST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fringe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GOAL-TEST[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] applied to STATE[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] succeeds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then retur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SOLUTION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fringe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INSERT-ALL(EXPAND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,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fringe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 strategy is defined by picking 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the order of node expansion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E2BAE-B701-474D-B240-51A7BA4EE9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8B6B3-67C5-4262-9994-2402586500B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* search,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ompleteness: YE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ime complexity: (exponential with path length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Space complexity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t keeps all generated nodes in memory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Hence space is the major problem not time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5C0D4-EDEE-4396-8150-D11627DC7DD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C27A9A-9AD1-41AF-BA1A-E5B226CD6CA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* search,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ompleteness: YE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ime complexity: (exponential with path length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Space complexity:(all nodes are stored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Optimality: YE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annot expand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f</a:t>
            </a:r>
            <a:r>
              <a:rPr b="0" i="1" lang="en-US" sz="2000" spc="-1" strike="noStrike" baseline="-25000">
                <a:solidFill>
                  <a:srgbClr val="7f7358"/>
                </a:solidFill>
                <a:latin typeface="Verdana"/>
              </a:rPr>
              <a:t>i+1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until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f</a:t>
            </a:r>
            <a:r>
              <a:rPr b="0" i="1" lang="en-US" sz="2000" spc="-1" strike="noStrike" baseline="-25000">
                <a:solidFill>
                  <a:srgbClr val="7f7358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is finished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* expands all nodes with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f(n)&lt; C*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* expands some nodes with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f(n)=C*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* expands no nodes with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f(n)&gt;C*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lso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optimally efficient 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(not including ties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3C8AA-A59D-4E89-86FF-C3EDDA218C0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469D51-C305-422E-BA90-EE41D514AA2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Memory-bounded heuristic searc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Some solutions to A* space problems (maintain completeness and optimality)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Iterative-deepening A* (IDA*)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Here cutoff information is the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f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-cost (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g+h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 instead of depth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Recursive best-first search(RBFS)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Recursive algorithm that attempts to mimic standard best-first search with linear space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(simple) Memory-bounded A* ((S)MA*)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Drop the worst-leaf node when memory is full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8A6C1-8F5C-4D43-A9DB-BA48970A6D8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F713DD-E0AB-4117-8455-029DD585744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cursive best-first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29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function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RECURSIVE-BEST-FIRST-SEARCH(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a solution or failure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return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RFBS(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,MAKE-NODE(INITIAL-STATE[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]),∞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function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RFBS(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roblem, node, f_limit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a solution or failure and a new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f-cost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limit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GOAL-TEST[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](STATE[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node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]) 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then return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node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successors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XPAND(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node, problem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successors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is empty then return failure, ∞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for each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in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successors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do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f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] </a:t>
            </a:r>
            <a:r>
              <a:rPr b="0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max(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g(s)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+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h(s)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f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node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]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repeat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best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the lowest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f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-value node in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successors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f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best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]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&gt; f_limit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then return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failure,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f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best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lternative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 the second lowest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f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-value among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successors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result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f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best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] </a:t>
            </a:r>
            <a:r>
              <a:rPr b="0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 RBFS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(problem, best,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min(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f_limit, alternative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)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result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failure 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then return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result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97BBE-C7FD-45C7-B674-350B84F82A4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3EF0B-8180-43C6-ABEE-37D6476E4B6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cursive best-first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Keeps track of the f-value of the best-alternative path available.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If current f-values exceeds this alternative f-value than backtrack to alternative path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Upon backtracking change f-value to best f-value of its children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Re-expansion of this result is thus still possible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7E3EE-0559-4A36-91C1-63441D99BFA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CC2443-F4BB-4448-B34B-751087861FC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Recursive best-first search, ex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Path until Rumnicu Vilcea is already expanded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bove node;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f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-limit for every recursive call is shown on top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Below node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f(n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The path is followed until Pitesti which has a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f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-value worse than the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f-limit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838080" y="1647720"/>
            <a:ext cx="6486480" cy="22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9CB43-64C8-45CF-AEB5-AB7E43FD47C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99488-ED99-4DB6-9AA8-867C1831F44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Recursive best-first search, ex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Unwind recursion and store best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f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-value for current best leaf Pitesti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result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f 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best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]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 RBFS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(problem, best,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min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f_limit, alternative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best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is now Fagaras. Call RBFS for new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best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best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value is now  450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914400" y="1616040"/>
            <a:ext cx="6288120" cy="223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8C6B7-A11B-425E-8ACC-9D6377295D9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B223AC-E92E-4640-917D-BB219685456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Recursive best-first search, ex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Unwind recursion and store best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f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-value for current best leaf Fagara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result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f 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best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] </a:t>
            </a:r>
            <a:r>
              <a:rPr b="0" lang="en-US" sz="12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 RBFS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(problem, best,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min(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f_limit, alternative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))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best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is now Rimnicu Viclea (again). Call RBFS for new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best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Subtree is again expanded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Best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alternative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subtree is now through Timisoara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Solution is found since because 447 &gt; 417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990720" y="1530360"/>
            <a:ext cx="5997600" cy="231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B66EF-D66E-46E3-B57B-1F530771C8D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E34A9-BA20-406B-909D-CB93DA098B9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BFS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RBFS is a bit more efficient than IDA*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till excessive node generation (mind changes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Like A*, optimal if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h(n)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is admissible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Space complexity is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O(bd)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IDA* retains only one single number (the current f-cost limit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Time complexity difficult to characterize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Depends on accuracy if h(n) and how often best path changes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IDA* en RBFS suffer from </a:t>
            </a:r>
            <a:r>
              <a:rPr b="1" i="1" lang="en-US" sz="2400" spc="-1" strike="noStrike">
                <a:solidFill>
                  <a:srgbClr val="5f604a"/>
                </a:solidFill>
                <a:latin typeface="Verdana"/>
              </a:rPr>
              <a:t>too little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memory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945F2-CD13-46FC-99CD-4D249F1B3E9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6E313B-DE83-4A3B-9DBF-A8C0E6A30A9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(simplified) memory-bounded A*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Use all available memory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I.e. expand best leafs until available memory is full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When full, SMA* drops worst leaf node (highest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f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-value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Like RFBS backup forgotten node to its parent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What if all leafs have the same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-value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ame node could be selected for expansion and deletion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MA* solves this by expanding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newest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best leaf and deleting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oldest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worst leaf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SMA* is complete if solution is reachable, optimal if optimal solution is reachable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174E9-E36E-4A8D-9A48-11E1CDD0AF8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41223-296C-4735-834C-A24926863EE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est-first search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General approach of informed search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Best-first search: node is selected for expansion based on an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evaluation function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2200" spc="-1" strike="noStrike">
                <a:solidFill>
                  <a:srgbClr val="7f7358"/>
                </a:solidFill>
                <a:latin typeface="Times New Roman"/>
              </a:rPr>
              <a:t>f(n)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Idea: evaluation function measures distance to the goal. 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hoose node which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appears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best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Implementation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f735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7f7358"/>
                </a:solidFill>
                <a:latin typeface="Times New Roman"/>
              </a:rPr>
              <a:t>fringe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is queue sorted in decreasing order of desirability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pecial cases: greedy search, A* search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FD549-83ED-47DB-8430-D394826A15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E6EAD2-09ED-4E19-B49D-73492CAF1DA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Learning to search better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ll previous algorithms use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fixed strategies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gents can learn to improve their search by exploiting the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meta-level state space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ach meta-level state is a internal (computational) state of a program that is searching in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the object-level state space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n A* such a state consists of the current search tree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 meta-level learning algorithm from experiences at the meta-level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06819-BC01-4C37-9714-DE7DD49EC7E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9EC748-68F0-44F6-BE05-EC85054130A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euristic function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E.g for the 8-puzzl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vg. solution cost is about 22 steps (branching factor +/- 3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xhaustive search to depth 22: 3.1 x 10</a:t>
            </a:r>
            <a:r>
              <a:rPr b="0" lang="en-US" sz="2000" spc="-1" strike="noStrike" baseline="30000">
                <a:solidFill>
                  <a:srgbClr val="7f7358"/>
                </a:solidFill>
                <a:latin typeface="Verdana"/>
              </a:rPr>
              <a:t>10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state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 good heuristic function can reduce the search proces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849400" y="1989000"/>
            <a:ext cx="381168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CD2C7-C3D1-477A-B6BA-6E69BF59504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BBD39-C465-481C-8F97-23445DA8859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euristic function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E.g for the 8-puzzle knows two commonly used heuristic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h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= the number of misplaced tile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h</a:t>
            </a:r>
            <a:r>
              <a:rPr b="0" lang="en-US" sz="16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(s)=8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h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= the sum of the distances of the tiles from their goal positions (manhattan distance).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h</a:t>
            </a:r>
            <a:r>
              <a:rPr b="0" lang="en-US" sz="16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(s)=3+1+2+2+2+3+3+2=18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849400" y="1989000"/>
            <a:ext cx="381168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5BF56-9DA1-4D53-8476-8C835C18027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371BD-D114-431A-9F54-058F3820C07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euristic qualit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Effective branching factor b*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Is the branching factor that a uniform tree of depth </a:t>
            </a:r>
            <a:r>
              <a:rPr b="0" i="1" lang="en-US" sz="2400" spc="-1" strike="noStrike">
                <a:solidFill>
                  <a:srgbClr val="7f7358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 would have in order to contain </a:t>
            </a:r>
            <a:r>
              <a:rPr b="0" i="1" lang="en-US" sz="2400" spc="-1" strike="noStrike">
                <a:solidFill>
                  <a:srgbClr val="7f7358"/>
                </a:solidFill>
                <a:latin typeface="Verdana"/>
              </a:rPr>
              <a:t>N+1</a:t>
            </a: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 nodes.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Measure is fairly constant for sufficiently hard problems.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an thus provide a good guide to the heuristic’s overall usefulness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 good value of b* is 1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666880" y="3581280"/>
                <a:ext cx="44071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∗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C0743-7C7D-4480-A3CF-DBE55643E85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17F73-D17C-44C2-8300-0D62CD13D1D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Heuristic quality and dominanc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1200 random problems with solution lengths from 2 to 24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If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h</a:t>
            </a:r>
            <a:r>
              <a:rPr b="0" i="1" lang="en-US" sz="28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(n) &gt;= h</a:t>
            </a:r>
            <a:r>
              <a:rPr b="0" i="1" lang="en-US" sz="28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(n)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for all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(both admissible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hen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h</a:t>
            </a:r>
            <a:r>
              <a:rPr b="0" i="1" lang="en-US" sz="28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 dominates h</a:t>
            </a:r>
            <a:r>
              <a:rPr b="0" i="1" lang="en-US" sz="28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and is better for search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429000" y="2438280"/>
            <a:ext cx="5715000" cy="23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9327C-98FC-4FB4-A411-DC16B756052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BDD933-5B56-4643-9A2F-1E71A487F0A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nventing admissible heuristic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Admissible heuristics can be derived from the exact solution cost of a relaxed version of the problem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Relaxed 8-puzzle for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h</a:t>
            </a:r>
            <a:r>
              <a:rPr b="0" i="1" lang="en-US" sz="1800" spc="-1" strike="noStrike" baseline="-25000">
                <a:solidFill>
                  <a:srgbClr val="7f7358"/>
                </a:solidFill>
                <a:latin typeface="Verdana"/>
              </a:rPr>
              <a:t>1 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: a tile can move anywhere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As a result,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h</a:t>
            </a:r>
            <a:r>
              <a:rPr b="0" i="1" lang="en-US" sz="14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(n)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gives the shortest solution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Relaxed 8-puzzle for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h</a:t>
            </a:r>
            <a:r>
              <a:rPr b="0" i="1" lang="en-US" sz="18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: a tile can move to any adjacent square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As a result,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h</a:t>
            </a:r>
            <a:r>
              <a:rPr b="0" i="1" lang="en-US" sz="14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(n) 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gives the shortest solution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The optimal solution cost of a relaxed problem is no greater than the optimal solution cost of the real problem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Courier New"/>
              </a:rPr>
              <a:t>ABSolver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found a usefull heuristic for the rubic cube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E52AF-F594-4EC5-BA96-19742B153F6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0AB264-D3FF-40F2-8DD2-D916E1A846D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nventing admissible heuristic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dmissible heuristics can also be derived from the solution cost of a subproblem of a given problem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This cost is a lower bound on the cost of the real problem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Pattern databases store the exact solution to for every possible subproblem instance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The complete heuristic is constructed using the patterns in the DB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743200" y="4191120"/>
            <a:ext cx="3676680" cy="186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9E7CE-A13C-4717-AFF1-30D0747FC07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DBB35-889D-4A9E-BE11-2A31A240106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nventing admissible heuristic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Another way to find an admissible heuristic is through learning from experience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Experience = solving lots of 8-puzzles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An inductive learning algorithm can be used to predict costs for other states that arise during search. 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08B85-D2E7-4A64-95F4-9BA760CAE2E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1F9BDC-9E05-4F76-8F6A-2FD9B815636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Local search and optimiz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reviously: systematic exploration of search space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Path to goal is solution to problem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YET, for some problems path is irrelevant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.g 8-queen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Different algorithms can be used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Local search 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858000" y="388620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4D3A2-403E-4526-B0E0-27B5209E5B6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09F9FA-D53D-4E37-93C3-61E02B61DC7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Local search and optimiz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Local search= use single current state and move to neighboring states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Use very little memory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ind often reasonable solutions in large or infinite state space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re also useful for pure optimization problems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ind best state according to some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objective function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.g. survival of the fittest as a metaphor for optimization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DE04C-6F69-4039-B10A-4CAC8E8EBB6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243ACF-55CD-4174-AFDC-2FEE96C4740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 heuristic func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[dictionary]</a:t>
            </a:r>
            <a:r>
              <a:rPr b="0" i="1" lang="en-US" sz="2800" spc="-1" strike="noStrike">
                <a:solidFill>
                  <a:srgbClr val="5f604a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A rule of thumb, simplification, or educated  guess that reduces or limits the search for solutions in  domains that are difficult and poorly understood.”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f735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f7358"/>
                </a:solidFill>
                <a:latin typeface="Times New Roman"/>
              </a:rPr>
              <a:t>h(n)</a:t>
            </a:r>
            <a:r>
              <a:rPr b="0" lang="en-US" sz="2000" spc="-1" strike="noStrike">
                <a:solidFill>
                  <a:srgbClr val="7f73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= estimated cost of the cheapest path from node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to goal node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f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is goal then</a:t>
            </a:r>
            <a:r>
              <a:rPr b="0" lang="en-US" sz="2000" spc="-1" strike="noStrike">
                <a:solidFill>
                  <a:srgbClr val="7f735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7f7358"/>
                </a:solidFill>
                <a:latin typeface="Times New Roman"/>
              </a:rPr>
              <a:t>h(n)=0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Times New Roman"/>
              </a:rPr>
              <a:t>More information later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6ED19-C72D-4F8A-9EC1-4E0452D87A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B190DB-F174-4BF8-8BDE-4B3B24A8D8F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Local search and optimiz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165320" y="1989000"/>
            <a:ext cx="7180200" cy="400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1E104-3104-496F-8E58-C64C97802DE9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A66A5E-61BE-4669-8B31-DA28389A8E1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ill-climbing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is a loop that continuously moves in the direction of increasing value”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t terminates when a peak is reached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Hill climbing does not look ahead of the immediate neighbors of the current state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Hill-climbing chooses randomly among the set of best successors, if there is more than one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Hill-climbing a.k.a.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greedy local search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418E7-D1AD-4431-95CE-E0BAEE7B7DE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F659F5-DCB1-4993-AEC1-4F0D8B5BE25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ill-climbing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functio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HILL-CLIMBING(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a state that is a local maximum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input: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, a problem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local variables: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current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, a node.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neighbor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, a node.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current </a:t>
            </a:r>
            <a:r>
              <a:rPr b="0" i="1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MAKE-NODE(INITIAL-STATE[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]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loop do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neighbor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a highest valued successor of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current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VALUE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neighbor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]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 ≤ 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VALUE[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current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] 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then retur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STATE[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current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]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current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neighbor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5472C-B11A-4F52-B301-59F7A2E52B9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8EBE0-F88B-4F21-B65E-230DE0FA925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ill-climb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8-queens problem (complete-state formulation)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Successor function: move a single queen to another square in the same column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Heuristic function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h(n)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: the number of pairs of queens that are attacking each other (directly or indirectly)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5CFB5-3D39-46B2-ACAF-A063FE58F00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C44EB-FF9E-4D43-A14F-EF6AC0AD22B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ill-climbing example 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) shows a state of h=17 and the h-value for each possible successor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b) A local minimum in the 8-queens state space (h=1)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616040" y="1989000"/>
            <a:ext cx="1935360" cy="19256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5959440" y="1989000"/>
            <a:ext cx="1935360" cy="1925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71040" y="17366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67080" y="1736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B5DE0-41E2-403D-9998-1CDBA7272E6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3F6A6-63B9-4AD1-8E1D-FDB1EC733AE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rawback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Ridge = sequence of local maxima difficult for greedy algorithms to navigate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Plateaux = an area of the state space where the evaluation function is flat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Gets stuck 86% of the time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857160" y="1989000"/>
            <a:ext cx="3451320" cy="19256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5465880" y="1989000"/>
            <a:ext cx="245088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1D240-A8D2-4683-9493-F6957AE8128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D55FE-5118-461A-956C-5BB327F2A4E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ill-climbing variation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Stochastic hill-climbing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Random selection among the uphill moves.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The selection probability can vary with the steepness of the uphill move.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First-choice hill-climbing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cfr. stochastic hill climbing by generating successors randomly until a better one is found.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Random-restart hill-climbing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Tries to avoid getting stuck in local maxima.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2188E-B5A8-4FD6-AF69-4CCC14C5A247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9C9FE7-AA8D-488E-A0D5-49B54F49020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imulated anneal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Escape local maxima by allowing “bad” move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Idea: but gradually decrease their size and frequency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Origin; metallurgical annealing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Bouncing ball analogy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haking hard (= high temperature)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haking less (= lower the temperature)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If T decreases slowly enough, best state is reached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Applied for VLSI layout, airline scheduling, etc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6C610-20F9-4766-8CAF-304DF95636E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345BAE-3FCE-4DD3-BFB3-BC650AEF735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imulated anneal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function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SIMULATED-ANNEALING( 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problem, schedule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a solution state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input: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, a problem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schedule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, a mapping from time to temperature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local variables: 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current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a node.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next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a node.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T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a “temperature” controlling the probability of downward steps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current </a:t>
            </a:r>
            <a:r>
              <a:rPr b="0" i="1" lang="en-US" sz="14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MAKE-NODE(INITIAL-STATE[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])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for t </a:t>
            </a:r>
            <a:r>
              <a:rPr b="1" lang="en-US" sz="14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 1 to ∞ do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T </a:t>
            </a:r>
            <a:r>
              <a:rPr b="0" i="1" lang="en-US" sz="14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 schedule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t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]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T = 0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then return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current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next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a randomly selected successor of 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current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∆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E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VALUE[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next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] - VALUE[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current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]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∆E &gt; 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0 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then 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current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next 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else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current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next 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only with probability 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e</a:t>
            </a:r>
            <a:r>
              <a:rPr b="0" i="1" lang="en-US" sz="1400" spc="-1" strike="noStrike" baseline="30000">
                <a:solidFill>
                  <a:srgbClr val="5f604a"/>
                </a:solidFill>
                <a:latin typeface="Verdana"/>
              </a:rPr>
              <a:t>∆E /T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AFCF5-4C18-49A8-B750-7D6591BA89A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97476B-A8D4-4031-840B-10BFAA55D83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Local beam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Keep track of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k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states instead of on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nitially: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k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random state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Next: determine all  successors of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k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state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f any of successors is goal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finished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lse select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k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best  from successors and repeat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Major difference with random-restart search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nformation is shared among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k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search thread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an suffer from lack of diversity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tochastic variant: choose k successors at proportionally to state succes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E351D-3D1E-42E5-B6C1-0EE56AAF870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37B185-5AF7-4332-B74C-E9019815056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omania with step costs in k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90680" y="1989000"/>
            <a:ext cx="3554280" cy="16336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h</a:t>
            </a:r>
            <a:r>
              <a:rPr b="0" i="1" lang="en-US" sz="2400" spc="-1" strike="noStrike" baseline="-25000">
                <a:solidFill>
                  <a:srgbClr val="5f604a"/>
                </a:solidFill>
                <a:latin typeface="Verdana"/>
              </a:rPr>
              <a:t>SLD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=straight-line distance heuristic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h</a:t>
            </a:r>
            <a:r>
              <a:rPr b="0" i="1" lang="en-US" sz="2400" spc="-1" strike="noStrike" baseline="-25000">
                <a:solidFill>
                  <a:srgbClr val="5f604a"/>
                </a:solidFill>
                <a:latin typeface="Verdana"/>
              </a:rPr>
              <a:t>SLD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can </a:t>
            </a:r>
            <a:r>
              <a:rPr b="1" lang="en-US" sz="2400" spc="-1" strike="noStrike">
                <a:solidFill>
                  <a:srgbClr val="5f604a"/>
                </a:solidFill>
                <a:latin typeface="Verdana"/>
              </a:rPr>
              <a:t>NOT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be computed from the problem description itself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In this example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f(n)=h(n)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xpand node that is closest to goal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= Greedy best-first search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90680" y="3718080"/>
            <a:ext cx="3778200" cy="226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C92ED-28E5-4F8E-9F40-BB0695858D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825F37-4CB0-45CA-A797-14052333DC9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enetic algorithm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Variant of local beam search with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sexual recombination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505320" y="2514600"/>
            <a:ext cx="5105160" cy="353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6E7E6-B5B7-43F6-86E0-713C989DE04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7D4B05-1961-420A-8861-70DB94C88B3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enetic algorithm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Variant of local beam search with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sexual recombination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378080" y="2362320"/>
            <a:ext cx="6386400" cy="19238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1295280" y="4495680"/>
            <a:ext cx="6364440" cy="186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01552-0958-43BA-8183-6923E3312DB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C8FACC-8079-4774-919D-2B6CBA7AE16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enetic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function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GENETIC_ALGORITHM(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opulation,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FITNESS-FN) 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an individual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input: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opulation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, a set of individuals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FITNESS-FN, a function which determines the quality of the individual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repeat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new_population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mpty set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loop for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i 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from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1 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to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SIZE(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opulation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do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x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RANDOM_SELECTION(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opulation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, FITNESS_FN)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y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RANDOM_SELECTION(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opulation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, FITNESS_FN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child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REPRODUCE(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x,y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(small random probability) 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then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child 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MUTATE(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child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add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child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to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new_population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opulation 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 new_population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until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some individual is fit enough or enough time has elapsed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the best individual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6049F-8329-4F54-9E5D-286C806BF02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7DDAF5-4FEE-485C-81D2-8C05D24ECE1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ploration problem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Until now all algorithms were offline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Offline= solution is determined before executing it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Online = interleaving computation and action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Online search is necessary for dynamic and semi-dynamic environment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t is impossible to take into account all possible contingencie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Used for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exploration problems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Unknown states and action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.g. any robot in a new environment, a newborn baby,…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08A28-16D4-48B4-B4B8-54B7A33EE87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89BD9-D652-4C19-9C3A-3077CE85EFE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nline search problem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5298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gent knowledge: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CTION(s): list of allowed actions in state s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C(s,a,s’): step-cost function (! After s’ is determined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GOAL-TEST(s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n agent can recognize previous states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ctions are deterministic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ccess to admissible heuristic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h(s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e.g. manhattan distanc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076800" y="3124080"/>
            <a:ext cx="3067200" cy="306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3A701-56A3-4DBD-96B9-EF19CC6F820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E8CFB7-8351-4A06-9571-5637738E54F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nline search problem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90320" y="1989000"/>
            <a:ext cx="852948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Objective: reach goal with minimal cost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ost = total cost of travelled path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ompetitive ratio=comparison of cost with cost of the solution path if search space is known. 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an be infinite in case of the agent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ccidentally reaches dead end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867280" y="3429000"/>
            <a:ext cx="3067200" cy="306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0DAFA-4FB3-4B95-9628-EF62BB6B876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C0DC6-442F-4453-AB73-3DE408C2536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adversary argumen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Assume an adversary who can construct the state space while the agent explores it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Visited states S and A.  What next?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Fails in one of the state spaces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No algorithm can avoid dead ends in all state space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90680" y="1989000"/>
            <a:ext cx="4186080" cy="19256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5072040" y="1989000"/>
            <a:ext cx="315900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40F75-C413-4A5A-BC1F-697910EE007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ECBB61-4402-490B-A622-0A855D8078B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nline search agent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The agent maintains a map of the environment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Updated based on percept input.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This map is used to decide next action.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Note difference with e.g. A*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An online version can only expand the node it is physically in (local order)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01FF5-7FB8-4FA1-85FA-097D9E288D5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48B411-79DA-4F6A-8621-8E79F0FAFEB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nline DF-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function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ONLINE_DFS-AGENT(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an action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input: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, a percept identifying current state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static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result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, a table indexed by action and state, initially empty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unexplored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, a table that lists for each visited state, the action not yet tried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unbacktracked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, a table that lists for each visited state, the backtrack not yet tried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,a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, the previous state and action, initially null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GOAL-TEST(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)  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then return 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stop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is a new state 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then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unexplored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] </a:t>
            </a:r>
            <a:r>
              <a:rPr b="0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ACTIONS(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 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is not null 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then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do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result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,s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] </a:t>
            </a:r>
            <a:r>
              <a:rPr b="0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’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add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 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to the front of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unbackedtracked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]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unexplored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] is empty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then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unbacktracked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] is empty 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then return 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stop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else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an action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b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such that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result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b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]=POP(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unbacktracked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]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else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 </a:t>
            </a:r>
            <a:r>
              <a:rPr b="0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POP(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unexplored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]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s </a:t>
            </a:r>
            <a:r>
              <a:rPr b="0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 s’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BFFDD-4C21-40DC-9C2F-0F90A4A703D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8EC8D9-F5F2-4080-A766-EAF3C88D934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nline DF-search,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Assume maze problem on 3x3 grid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s’ = (1,1) is initial state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Result, unexplored (UX), unbacktracked (UB), … 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are empty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S,a are also empty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90680" y="1989000"/>
            <a:ext cx="4186080" cy="400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93875-682C-4734-B109-AB5C05166E7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17ED3-AE66-476D-8C55-D507C91B83E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reedy search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ssume that we want to use greedy search to solve the problem of travelling from Arad to Bucharest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he initial state=Arad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90680" y="2604960"/>
            <a:ext cx="8529480" cy="692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87280" y="220968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ad (36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14EDF-8980-4C91-B43D-5057234B16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63A8B-CE02-4679-B13E-57260E622BD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nline DF-search,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GOAL-TEST((,1,1))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S not = G thus false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(1,1) a new state?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True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ACTION((1,1)) -&gt; UX[(1,1)]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358"/>
                </a:solidFill>
                <a:latin typeface="Verdana"/>
              </a:rPr>
              <a:t>{RIGHT,UP}</a:t>
            </a:r>
            <a:endParaRPr b="0" lang="en-US" sz="1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s is null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True (initially)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UX[(1,1)] empty? 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False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POP(UX[(1,1)])-&gt;a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A=UP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s = (1,1)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Return a 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90680" y="1989000"/>
            <a:ext cx="4186080" cy="40071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676520" y="2133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’=(1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AAA03-27A2-48CE-8F14-780473E5EAE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928586-3A34-4959-9BA7-886F072F89F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nline DF-search,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GOAL-TEST((2,1))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S not = G thus false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(2,1) a new state?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True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ACTION((2,1)) -&gt; UX[(2,1)]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2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358"/>
                </a:solidFill>
                <a:latin typeface="Verdana"/>
              </a:rPr>
              <a:t>{DOWN}</a:t>
            </a:r>
            <a:endParaRPr b="0" lang="en-US" sz="1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s is null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false (s=(1,1))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result[UP,(1,1)] &lt;- (2,1)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UB[(2,1)]={(1,1)}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UX[(2,1)] empty? 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False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A=DOWN, s=(2,1) return A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90680" y="1989000"/>
            <a:ext cx="4186080" cy="40071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523880" y="449568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6040" y="37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76520" y="2133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’=(2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FF1B0-C77D-4277-B059-D69EB2A13B3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D7D9A9-2913-445A-BACD-40E27951D4B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nline DF-search,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GOAL-TEST((1,1))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S not = G thus false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(1,1) a new state?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false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s is null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false (s=(2,1))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result[DOWN,(2,1)] &lt;- (1,1)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UB[(1,1)]={(2,1)}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UX[(1,1)] empty? 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False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A=RIGHT, s=(1,1) return A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490680" y="1989000"/>
            <a:ext cx="4186080" cy="4007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523880" y="449568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26040" y="441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76520" y="2133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’=(1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76C39-D7AD-4272-B54D-E3901D2B6F3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4C8F13-1B53-494D-A473-D456B1819D0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nline DF-search,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GOAL-TEST((1,2))?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S not = G thus false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(1,2) a new state? 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True, UX[(1,2)]={RIGHT,UP,LEFT}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s is null?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false (s=(1,1))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result[RIGHT,(1,1)] &lt;- (1,2)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UB[(1,2)]={(1,1)}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UX[(1,2)] empty? 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False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A=LEFT, s=(1,2) return A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490680" y="1989000"/>
            <a:ext cx="4186080" cy="40071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1523880" y="449568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87800" y="441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520" y="2133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’=(1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82146-6676-4C8C-8E38-C39E170923B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3588F4-DB8A-4E74-95E2-C44D085398E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nline DF-search,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GOAL-TEST((1,1))?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S not = G thus false</a:t>
            </a: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(1,1) a new state? 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false</a:t>
            </a: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s is null?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false (s=(1,2))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result[LEFT,(1,2)] &lt;- (1,1)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UB[(1,1)]={(1,2),(2,1)}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UX[(1,1)] empty? 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True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UB[(1,1)] empty? False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A= b for b in result[b,(1,1)]=(1,2)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B=RIGHT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=RIGHT, s=(1,1) …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90680" y="1989000"/>
            <a:ext cx="4186080" cy="4007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1523880" y="449568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26040" y="441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76520" y="2133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’=(1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97945-ECFB-4F7A-B78E-EFF5600A4C9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B2890-7AAE-4975-874A-87D5FCBAB62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nline DF-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Worst case each node is visited twice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n agent can go on a long walk even when it is close to the solution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n online iterative deepening approach solves this problem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Online DF-search works only when actions are reversible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90680" y="1989000"/>
            <a:ext cx="4186080" cy="400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14EE4-CC96-4334-9598-6E5A0D8DB3E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47E8FA-08A2-4E9E-9C06-A24F3E07DF1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nline local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Hill-climbing is already onlin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One state is stored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Bad performancd due to local maxima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Random restarts impossible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Solution: Random walk introduces exploration (can produce exponentially many steps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90680" y="4230720"/>
            <a:ext cx="8529480" cy="160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4556D-1243-478C-AD4B-577C1BC726E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F21269-2C8F-41A9-B913-EE3C0280259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nline local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Solution 2: Add memory to hill climber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tore current best estimate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H(s)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of cost to reach goal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H(s)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is initially the heuristic estimate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h(s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fterward updated with experience  (see below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Learning real-time A* (LRTA*)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2854440" y="4070520"/>
            <a:ext cx="380052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438E3-7327-40F5-9350-132A81C82E4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1F78C0-A912-4953-9451-DFA1C9A2B2F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Learning real-time A*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29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function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LRTA*-COST(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s,a,s’,H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an cost estimate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if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s’ 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is undefined the return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h(s)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else return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c(s,a,s’)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+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H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]</a:t>
            </a:r>
            <a:r>
              <a:rPr b="1" i="1" lang="en-US" sz="12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function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LRTA*-AGENT(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an action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input: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, a percept identifying current state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static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: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result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, a table indexed by action and state, initially empty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H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, a table of cost estimates indexed by state, initially empty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s,a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, the previous state and action, initially null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GOAL-TEST(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)  </a:t>
            </a: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then return 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stop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is a new state (not in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H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then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H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] </a:t>
            </a:r>
            <a:r>
              <a:rPr b="0" lang="en-US" sz="12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h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(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unless 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s 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is null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result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a,s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] </a:t>
            </a:r>
            <a:r>
              <a:rPr b="0" lang="en-US" sz="12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s’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H[s] </a:t>
            </a:r>
            <a:r>
              <a:rPr b="0" lang="en-US" sz="12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    MIN  LRTA*-COST(s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,b,result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b,s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],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H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4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            </a:t>
            </a:r>
            <a:r>
              <a:rPr b="0" i="1" lang="en-US" sz="800" spc="-1" strike="noStrike">
                <a:solidFill>
                  <a:srgbClr val="5f604a"/>
                </a:solidFill>
                <a:latin typeface="Verdana"/>
              </a:rPr>
              <a:t>b</a:t>
            </a:r>
            <a:r>
              <a:rPr b="0" lang="en-US" sz="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800" spc="-1" strike="noStrike">
                <a:solidFill>
                  <a:srgbClr val="5f604a"/>
                </a:solidFill>
                <a:latin typeface="Symbol"/>
                <a:ea typeface="Symbol"/>
              </a:rPr>
              <a:t></a:t>
            </a:r>
            <a:r>
              <a:rPr b="0" lang="en-US" sz="800" spc="-1" strike="noStrike">
                <a:solidFill>
                  <a:srgbClr val="5f604a"/>
                </a:solidFill>
                <a:latin typeface="Verdana"/>
              </a:rPr>
              <a:t> ACTIONS(</a:t>
            </a:r>
            <a:r>
              <a:rPr b="0" i="1" lang="en-US" sz="8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lang="en-US" sz="8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a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an action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b 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in ACTIONS(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) that minimizes LRTA*-COST(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s’,b,result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b,s’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]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,H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s </a:t>
            </a:r>
            <a:r>
              <a:rPr b="0" lang="en-US" sz="12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 s’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a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ADCC4-82CA-432D-9E44-ABCC8FCB101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A42B8-AFEA-4443-87B3-CA473EFA714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reedy search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he first expansion step produces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ibiu, Timisoara and Zerind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Greedy best-first will select Sibiu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90680" y="1981080"/>
            <a:ext cx="8529480" cy="1922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64320" y="1752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13320" y="257508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biu(2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3040" y="335268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iso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2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75680" y="242244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ind(37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D34DE-3E14-4F4E-8AE6-C0D2A731EC2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1BDC52-E5B0-49E2-8370-4611BD8915F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reedy search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If Sibiu is expanded we get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rad, Fagaras, Oradea and Rimnicu Vilcea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Greedy best-first search will select: Fagara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54280" y="1989000"/>
            <a:ext cx="6054480" cy="1925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031000" y="18288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362320"/>
            <a:ext cx="89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bi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4440" y="3352680"/>
            <a:ext cx="67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36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7440" y="350532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ga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7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53760" y="3505320"/>
            <a:ext cx="8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ad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38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19000" y="342900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mnicu Vilc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9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E0D08-CF69-4E2F-AA1B-D731A6EF212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72A935-5E37-4DE9-B8E6-4839F0D48BB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08:59:46Z</dcterms:created>
  <dc:creator>ikke dikke</dc:creator>
  <dc:description/>
  <dc:language>en-US</dc:language>
  <cp:lastModifiedBy>ikke dikke</cp:lastModifiedBy>
  <cp:lastPrinted>2004-10-27T12:02:35Z</cp:lastPrinted>
  <dcterms:modified xsi:type="dcterms:W3CDTF">2006-03-03T09:03:58Z</dcterms:modified>
  <cp:revision>390</cp:revision>
  <dc:subject/>
  <dc:title>Artificial intelligence 1: informed search</dc:title>
</cp:coreProperties>
</file>