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ct" ContentType="image/x-pict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6D33-A42D-4801-AFD2-0CE13057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DDC5-AF6B-4AC8-AFC3-4838AAC5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84C8-F0B5-45AB-8A0E-3469B441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70FE-0982-43F1-B953-2C65B79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C56F-BA00-4101-8899-42DC0B95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60BF-0E62-4FCE-8E8D-798EFCFE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ECEAF-9C48-4913-B421-B75C0102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1387-D873-4A0A-B6AC-5852AA1B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390B-53AD-45F3-8FBE-0BAFA4A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D23A-1A04-4A14-A7A4-D764CF75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35B6D-72EC-43F7-8BD4-0415CF0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B3ADB-83E0-43A0-9EF2-97145ED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CA0E-FBBE-47B1-9111-AA10E58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F00E-A398-49A3-A0BD-A941345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F9AA6-FADD-4721-95D0-4B2F88B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81ABB-635C-4AC5-A91D-069ED3D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ED88-832D-43A8-BBF9-5BF06D7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3425C-A8E7-4F66-BCA3-85121AA1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DE5D6-1B8C-43B0-ACA0-F259E838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DBCB-2D85-4504-BA26-1FAA04F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C30E-947E-4CB7-8FA5-2FC4C48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0F04-0674-4C70-B729-1234C9F0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1956-4907-4BE4-8869-FCFB2EF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0348-941F-4C69-BD10-7B579E4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3C1C-AC87-44EE-81DC-027FEDA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8547-AA1A-4138-A5FD-E2A2972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7531-2547-431A-BE2F-05A757B6FB2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3487-7508-4891-8697-EAC2555137A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FA0-84A0-46B4-A10B-309A8FA712E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B2DF-D04B-4FBC-9BEF-0A1107E5CEE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Constraint Satisfaction pr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oblem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4114440"/>
            <a:ext cx="7740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; cryptharithmet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0320" y="1988640"/>
            <a:ext cx="8529480" cy="4007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62120" y="1905120"/>
            <a:ext cx="7543800" cy="3962160"/>
            <a:chOff x="762120" y="1905120"/>
            <a:chExt cx="7543800" cy="39621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762120" y="4624920"/>
              <a:ext cx="754380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762120" y="1905120"/>
              <a:ext cx="7543800" cy="332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26FE-555F-472D-90D8-9BE2EA4B73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DD2BD-4516-4E95-B8CA-43B8F6B79D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SP as a standard search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CSP can easily expressed as a standard search problem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ncremental formul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Initial State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the empty assignment {}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uccessor function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Assign value to unassigned variable provided that there is not conflict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Goal tes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the current assignment is comple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Path cos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as constant cost for every step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01D9-1596-42E1-A560-568D01B318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86672-0DAA-44EE-82C5-2469C7F8A2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SP as a standard search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is is the same for all CSP’s !!!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lution is found at dep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if there ar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variables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depth first search can be us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th is irrelevant, so complete state representation can also be us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ranching factor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t the top level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d.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=(n-l)d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t dep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henc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!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leaves (onl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complete assignments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20E1-E41B-459A-9EDD-9304B3ADA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245C8-66E4-42F3-AFD8-C44705776D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mutativ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SPs are commutativ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order of any given set of actions has no effect on the outcom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ample: choose colors for Australian territories one at a time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[WA=red then NT=green] same as [NT=green then WA=red]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 CSP search algorithms consider a single variable assignment at a time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re ar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i="1" lang="en-US" sz="20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leav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B03F-3BBB-4CC8-A50E-555CE908DA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2EBF0-59A8-44E7-81E4-E85414BAFEB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fr. Depth-first search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hooses values for one variable at a time and backtracks when a variable has no legal values left to assign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ninformed algorithm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No good general performance (see table p. 143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A17A-F5DD-47D0-8FBA-B1E0959953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E5910-F5EF-4C4E-9FEA-CB64770465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BACKTRACKING-SEARCH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ECURSIVE-BACK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} 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ECURSIVE-BACK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complete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SELECT-UNASSIGNED-VARIABLE(VARIABLE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or each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n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ORDER-DOMAIN-VALUE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, 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consistent with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ccording to CONSTRAINT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var=value}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o assignment 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RECURSIVE-BAC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result </a:t>
            </a:r>
            <a:r>
              <a:rPr b="0" i="1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failure 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resul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remove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var=value}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A6B0-183A-45A6-BE66-5F7E0F2DE8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EFC6-420B-4B0D-A9AF-95CB9E2B27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0680" y="1995480"/>
            <a:ext cx="8529480" cy="399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929C-1363-4CE4-9272-1B6641DEC8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022E1-9539-493E-9DA6-B440745BCC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0680" y="2338560"/>
            <a:ext cx="8529480" cy="33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9C73-3553-4959-AABF-B50BBD3E26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2E3E2-5977-4408-B5F8-7D688BBE51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7120" y="1989000"/>
            <a:ext cx="59166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C45C-5DA6-4B1C-8D9A-29963BE3F7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49352-A122-424C-9857-98BA118593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89160" y="1989000"/>
            <a:ext cx="51307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24E6-78FF-4957-9C10-E7AAA62490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E77A1-939D-4A07-88CD-BA3AD0CD01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SP?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Backtracking for CSP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Local search for CSP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Problem structure and decomposition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42AD-4280-4E48-A08F-3476BD53A0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00472-1C20-432D-B0DA-4753D93E446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mproving backtracking efficienc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Previous improvements </a:t>
            </a:r>
            <a:r>
              <a:rPr b="0" lang="en-US" sz="36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introduce heuristic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General-purpose methods can give huge gains in speed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ich variable should be assigned next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n what order should its values be tried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an we detect inevitable failure early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an we take advantage of problem structure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0E4E-C024-4A7B-8257-CE38481881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CF281-41B0-4D26-AE6C-31ED883393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imum remaining valu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SELECT-UNASSIGNED-VARIABLE(VARIABLES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.k.a. most constrained variable heurist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u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: choose variable with the fewest legal mov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Which variable shall we try first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0680" y="2085840"/>
            <a:ext cx="8529480" cy="17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0676-4BF4-4EEB-8459-099D06E6A6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F9C0F-E081-4796-9312-68398B9C58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gree heurist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se degree heuristic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select variable that is involved in the largest number of constraints on other unassigned variabl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gree heuristic is very useful as a tie breake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 what order should its values be tried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0680" y="2147760"/>
            <a:ext cx="8529480" cy="16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FD2B-8ABC-453F-95E4-9B1B277AA3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5F410-97AF-4C4F-ABF8-47B3C9996C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st constraining valu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st constraining value heurist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ule: given a variable choose the least constraing value i.e. the one that leaves the maximum flexibility for subsequent variable assignment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0680" y="2158920"/>
            <a:ext cx="852948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9C70-B57A-4029-B7CA-1D47E80F59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C85F0-DBE5-4D66-83FB-5C8FC6E017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n we detect inevitable failure early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nd avoid it later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orward checking idea: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keep track of remaining legal values for unassigned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erminate search when any variable has no legal valu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22480" y="1989000"/>
            <a:ext cx="66405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E110-2E62-4405-B432-C116E96867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811F5-57A6-472D-A1A1-0D0B6F27CC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ign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{WA=red}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T can no longer be 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can no longer be 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402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6933-50C8-4BB1-916B-0314171DC4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79728-B5F1-4F68-8D53-D4E11C482E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ign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{Q=green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T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SW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A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RV heuristic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will automatically select NT and SA next, why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01680" y="1989000"/>
            <a:ext cx="61182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3E42-9EDF-4BC6-B571-6CC1D67DBB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9F3BA-AD05-4A27-8C26-43573B6420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V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ssigned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b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A is empty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SW can no longer be bl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C has detected that partial assignment is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consist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with the constraints and backtracking can occu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22480" y="1989000"/>
            <a:ext cx="5778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7FFB-9763-4775-A032-4082947D0E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41101-4F70-4A85-9C15-38B8A27DC6D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16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16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186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187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C284-E595-4CF1-BF47-B97F480741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F5DD7-B69F-4DA4-A50D-E4CF05906CE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00" name="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9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20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32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1D0B-185A-4214-8C40-7477854A88B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4D955-5868-49C6-8C43-4C420111D4B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traint satisfaction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at is a CSP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set of variabl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,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set of variabl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, 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onemtpy domain of possible values for each variable </a:t>
            </a:r>
            <a:br>
              <a:rPr sz="2000"/>
            </a:b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 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constraint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limits the values that variables can take, e.g.,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≠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tat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defined as a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of values to some or all variabl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nsistent assignm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assignment does not not violate the constraints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E963-21E8-468E-AAFE-52EB9BC3D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CE2BE-FB31-4AE0-A804-FEB7E14883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59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72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F925-88D9-4569-89FF-A131E6C0CED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0D1F-21D4-4122-B5A9-D11851430C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80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81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99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300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46F8-8A60-42D1-905B-D0862D09AA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E5E0-F908-40D7-B9FB-8DCA07EE63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323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342" name="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343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0384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D0DD-A7C3-4698-A6F2-A5C4A87DF7E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3B340-9998-48A2-A217-ACDCDCDAC2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36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36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385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39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85FE-8CF8-4FB3-8A15-6758B90D387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2DEB6-D580-4CA4-8F48-99B9038016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0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0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425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43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91EB-BB89-4EA9-B8A3-260F44B1E32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A775D-4D2D-4298-89D1-5468E27499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4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4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465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46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47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F6CE-C371-4536-81D3-F9BF840FC95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65DBD-BE59-4D37-8499-C9C9C43172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89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90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508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509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521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55FF-498A-4DC2-9C29-FDE9C803013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E4E86-0B38-409B-A8B2-CBFE387198A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53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53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551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55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56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A633-0B2C-407A-A63A-4AD44D61039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36E68-C462-48CB-BE77-D532E9E486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57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596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597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609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16F2-31D1-4F11-A76C-7E806FFDA9E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36900-90C0-4E13-B434-DFA1478692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62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62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641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64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65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035B-4614-477C-BAB6-9EA3A204D7B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18C8-9D69-494B-B296-208E4DFCE7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traint satisfaction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 assignment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mplet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when every value is mentioned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to a CSP is a complete assignment that satisfies all constrain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me CSPs require a solution that maximizes a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bjective func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pplications: Scheduling the time of observations on the Hubble Space Telescope, Floor planning, Map coloring, Cryptograph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8ECE-B21D-4889-AA2D-99369454D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7EDA2-08A0-4FFD-B7F5-385C3AF940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traint propag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ving CSPs with combination of heuristics plus forward checking is more efficient than either approach alon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C checking propagates information from assigned to unassigned variables but does not provide detection for all failur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T and SA cannot be blue!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 propagation repeatedly enforces constraints local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281240" y="1989000"/>
            <a:ext cx="5635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E6A9-3E29-48E7-92B1-4F56D788AB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19F2D-EE28-40E9-B3D1-CDA79C526F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ever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valu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there is some allowe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A </a:t>
            </a:r>
            <a:r>
              <a:rPr b="0" i="1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NSW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A=blu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SW=r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965160" y="1989000"/>
            <a:ext cx="67438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321F-D689-4534-9D15-42D09922CD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4E5C8-5CCD-44DE-BAB9-D3ACE0763B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ver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here is some allowe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SA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=re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A=b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=blue and SA=?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965160" y="1989000"/>
            <a:ext cx="69105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7877-85B4-4944-93BF-AF55BEA533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2121-9528-4C9F-9C49-6420D42ED79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25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5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RECHECK neighbours !!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Remove red from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V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85960" y="1989000"/>
            <a:ext cx="68958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1B29-900F-4E0D-A2C0-7B865BB864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B0E87-E5E1-4B63-9F39-1E85854921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CHECK neighbours !!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move red from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V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rc consistency detects failure earlier than FC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Can be run as a preprocessor or after each assignment.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Repeated until no inconsistency remai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660680" y="1989000"/>
            <a:ext cx="61880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8B05-E921-4229-85AF-04251FCE5EF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7903D-C7C5-4D94-AAA8-29D94F7965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C-3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the CSP, possibly with reduced domains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puts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binary csp with variables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{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…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}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queue,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 queue of arcs initially the arcs i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cs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whil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queue is not empty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FIRS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queu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INCONSISTENT-VALUE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or each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k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NEIGHBORS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o queue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INCONSISTENT-VALUE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tru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iff we remove a valu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fals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or each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no value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llows (x,y) to satisfy the constraints betwee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delete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x from 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;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tru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27C7-E1F5-468C-8669-4F536B813A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B206-30A5-4DDE-AA98-33AF41D34E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-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rc consistency does not detect all inconsistenci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rtial assignmen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{WA=red, NSW=red}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inconsisten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tronger forms of propagation can be defined using the notion of k-consistenc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CSP is k-consistent if for any set of k-1 variables and for any consistent assignment to those variables, a consistent value can always be assigned to any kth vari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1-consistency or node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2-consistency or arc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3-consistency or path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8A2D-AD4C-4208-AC6D-55105600C0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FF427-5923-4A59-8B0F-FEFBAFB4D4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-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graph is strongly k-consistent if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is k-consistent a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s also (k-1) consistent, (k-2) consistent, … all the way down to 1-consist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is is ideal since a solution can be found in tim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(nd)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stead of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 O(n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3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o free lunch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any algorithm for establishing n-consistency must take time exponential in n, in the worst cas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8BA0-6AC0-4CCE-9881-6F5CD3D645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2874F-0479-4FE3-B43B-BD14646887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urther improvements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ecking special constraint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hecking Alldif(…) constraint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E.g. {WA=red, NSW=red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hecking Atmost(…) constrai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Bounds propagation for larger value domai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telligent backtrack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andard form is chronological backtracking i.e. try different value for preceding vari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ore intelligent, backtrack to conflict se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et of variables that caused the failure or set of previously assigned variables that are connected to X by constraint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ackjumping moves back to most recent element of the conflict s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ward checking can be used to determine conflict s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DF02-D767-4EA1-B847-78A5112AE2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F6C47-327D-40EE-BE7E-A9A97F4054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for CS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 complete-state represent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or CSP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ow states with unsatisfied constrai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perators </a:t>
            </a:r>
            <a:r>
              <a:rPr b="1" lang="en-US" sz="2000" spc="-1" strike="noStrike">
                <a:solidFill>
                  <a:srgbClr val="7f7358"/>
                </a:solidFill>
                <a:latin typeface="Verdana"/>
              </a:rPr>
              <a:t>reassig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variable valu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riable selection: randomly select any conflicted varia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lue selection: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in-conflicts heuristic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lect new value that results in a minimum number of conflicts with the other variabl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A067-3C5D-4860-BD85-DC42ED32D3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BA4DE-3264-4CBF-A512-C52A3B214B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SP example: map col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Variable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A, NT, Q, NSW, V, SA, 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omain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={red,green,blue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s:adjacent regions must have different color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WA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NT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if the language allows this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(WA,NT)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 {(red,green),(red,blue),(green,red),…}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956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3073-E858-446B-89EA-302A89140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CF8D-7626-430E-BAAA-5AB7A03D8A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for CS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MIN-CONFLICT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, 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nput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 a constraint satisfaction problem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 the number of steps allowed before giving u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an initial complete assignment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=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1 to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a solution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hen 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a randomly chosen, conflicted variable from VARIABLE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the value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hat minimize CONFLICT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,v,current,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set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 = 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B7C2-40DB-4E6E-8E6E-2912BED293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FA85A-C90F-48D8-96D9-0DDB479F70B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-conflicts example 1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 of min-conflicts heuristic in hill-climbing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477800" y="1989000"/>
            <a:ext cx="6553440" cy="192564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1904760" y="2286000"/>
            <a:ext cx="1066680" cy="457200"/>
            <a:chOff x="1904760" y="2286000"/>
            <a:chExt cx="1066680" cy="457200"/>
          </a:xfrm>
        </p:grpSpPr>
        <p:sp>
          <p:nvSpPr>
            <p:cNvPr id="697" name=""/>
            <p:cNvSpPr/>
            <p:nvPr/>
          </p:nvSpPr>
          <p:spPr>
            <a:xfrm>
              <a:off x="1905120" y="2361960"/>
              <a:ext cx="22824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286000" y="2361600"/>
              <a:ext cx="22824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66880" y="2361960"/>
              <a:ext cx="30456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904760" y="22860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2361600" y="27432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98252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65200" y="2286000"/>
            <a:ext cx="609840" cy="380880"/>
            <a:chOff x="4165200" y="2286000"/>
            <a:chExt cx="609840" cy="380880"/>
          </a:xfrm>
        </p:grpSpPr>
        <p:sp>
          <p:nvSpPr>
            <p:cNvPr id="704" name=""/>
            <p:cNvSpPr/>
            <p:nvPr/>
          </p:nvSpPr>
          <p:spPr>
            <a:xfrm>
              <a:off x="4165560" y="2361960"/>
              <a:ext cx="22860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4546440" y="2361600"/>
              <a:ext cx="22860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4165200" y="22860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24296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77120" y="232416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452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0E80-445A-443E-8276-E5F2A9511C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58356-CC10-442D-A967-D7659E14EC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-conflicts example 2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 two-step solution for an 8-queens problem using min-conflicts heuristi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t each stage a queen is chosen for reassignment in its colum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algorithm moves the queen to the min-conflict square breaking ties randomly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1544760" y="1989000"/>
            <a:ext cx="64213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2B1F-2EE9-48A4-8995-723DF95C97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B0D33-3CFF-4736-858E-7B6A52BBCA3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Advantages of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The runtime of min-conflicts is roughly independent of problem size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358"/>
                </a:solidFill>
                <a:latin typeface="Verdana"/>
              </a:rPr>
              <a:t>Solving the millions-queen problem in roughly 50 step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Local search can be used in an online sett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358"/>
                </a:solidFill>
                <a:latin typeface="Verdana"/>
              </a:rPr>
              <a:t>Backtrack search requires more time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651C-E98B-488F-B504-9F56639F03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1FCD1-4E9B-4851-BE6B-2AF46EB150A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structur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ow can the problem structure help to find a solution quickly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ubproblem identification is important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loring Tasmania and mainland are independent subproblem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dentifiable as connected components of constrained graph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mproves performance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2464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33F5-AE70-4231-8846-8C945A8A1AC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D5230-81BD-4998-96D4-FD843C86A7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structur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uppose each problem has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variables out of a total of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Worst case solution cost is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O(n/c d</a:t>
            </a:r>
            <a:r>
              <a:rPr b="0" i="1" lang="en-US" sz="2200" spc="-1" strike="noStrike" baseline="30000">
                <a:solidFill>
                  <a:srgbClr val="5f604a"/>
                </a:solidFill>
                <a:latin typeface="Verdana"/>
              </a:rPr>
              <a:t>c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, i.e. linear i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stead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O(d 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),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xponential in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.g.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= 80, c= 20, d=2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600" spc="-1" strike="noStrike" baseline="30000">
                <a:solidFill>
                  <a:srgbClr val="7f7358"/>
                </a:solidFill>
                <a:latin typeface="Verdana"/>
              </a:rPr>
              <a:t>8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4 billion years at 1 million nodes/sec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4 * 2</a:t>
            </a:r>
            <a:r>
              <a:rPr b="0" lang="en-US" sz="1600" spc="-1" strike="noStrike" baseline="30000">
                <a:solidFill>
                  <a:srgbClr val="7f7358"/>
                </a:solidFill>
                <a:latin typeface="Verdana"/>
              </a:rPr>
              <a:t>2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= .4 second at 1 million nodes/se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2464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75A1-22E5-4A50-9E00-25B0BC83D8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8D14D-C66A-4F4F-9E6B-0C25736FF00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Theorem: if the constraint graph has no loops then CSP can be solved in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O(nd </a:t>
            </a:r>
            <a:r>
              <a:rPr b="0" i="1" lang="en-US" sz="2600" spc="-1" strike="noStrike" baseline="30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tim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Compare difference with general CSP, where worst case is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O(d </a:t>
            </a:r>
            <a:r>
              <a:rPr b="0" i="1" lang="en-US" sz="26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2854440" y="1989000"/>
            <a:ext cx="3801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DD08-D876-4011-BC10-82D2BEAC0FB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1A269-75CE-4C72-B482-1B6E885D47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 most cases subproblems of a CSP are connected as a tre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y tree-structured CSP can be solved in time linear in the number of variabl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hoose a variable as root, order variables from root to leaves such that every node’s parent precedes it in the ordering. (label var from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to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rom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down to 2, apply 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REMOVE-INCONSISTENT-VALUES(Parent(</a:t>
            </a:r>
            <a:r>
              <a:rPr b="0" i="1" lang="en-US" sz="1400" spc="-1" strike="noStrike">
                <a:solidFill>
                  <a:srgbClr val="7f7358"/>
                </a:solidFill>
                <a:latin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),</a:t>
            </a:r>
            <a:r>
              <a:rPr b="0" i="1" lang="en-US" sz="1400" spc="-1" strike="noStrike">
                <a:solidFill>
                  <a:srgbClr val="7f7358"/>
                </a:solidFill>
                <a:latin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rom 1 to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assign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consistently with Parent(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j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90680" y="2001960"/>
            <a:ext cx="8529480" cy="18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437D-8054-486A-A315-167658E001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CA561-E4A5-4F5D-9BEF-875E74227D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an more general constraint graphs be reduced to trees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wo approach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move certain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llapse certain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CCBE-F44B-4ABF-9675-8C75600E255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7C2FD-9D2E-46E9-BFDE-9BF91C7E4E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dea: assign values to some variables so that the remaining variables form a tre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ume that we assig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{SA=x}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ycle cutse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d remove any values from the other variables that are inconsistent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selected value for SA could be the wrong one so we have to try all of them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CBF3-2205-4E25-900F-77B4EEC173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CFE52-C74F-4663-9C1E-7856616EE8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SP example: map col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s are assignments satisfying all constraints, e.g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{WA=red,NT=green,Q=red,NSW=green,V=red,SA=blue,T=green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09624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23D4-82BA-4671-A461-BBF7835948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2B379-FC3A-4972-9021-D53821B517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This approach is worthwhile if cycle cutset is small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Finding the smallest cycle cutset is NP-hard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pproximation algorithms exist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is approach is called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utset condition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D5C8-46FE-4812-A537-2568C715025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DC0AB-6060-4DFA-92C8-0AB6D0BE6C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ree decomposition of the constraint graph in a set of connected subproblem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ach subproblem is solved independent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ulting solutions are combin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Necessary requirement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very variable appears in ar least one of the subproblem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f two variables are connected in the original problem, they must appear together in at least one subproblem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f a variable appears in two subproblems, it must appear in each node on the path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E4AE-818F-4EF6-8A7F-6BD85E2340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393D7-7848-49FB-BE17-146C75F53D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SPs are a special kind of problem: states defined by values of a fixed set of variables, goal test defined by constraints on variable valu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cktracking=depth-first search with one variable assigned per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ward checking prevents assignments that lead to failur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 propagation does additional work to constrain values and detect inconsistenci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CSP representation allows analysis of problem structur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ree structured CSPs can be solved in linear tim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terative min-conflicts is usually effective in practi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10C5-FBAF-4D00-B6EA-FBE986A171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CEAE0-78B9-46CD-AFB6-C86BF7C1700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Taak 2: CSP and sudoku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7520" cy="400716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830480" y="1988640"/>
            <a:ext cx="4189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Variabelen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81 vakj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omeinen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Tussen 1-9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Constraint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Tussen elke twee variabelen in dezelfde rij, kolom en 3x3 group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747" name=""/>
          <p:cNvSpPr/>
          <p:nvPr/>
        </p:nvSpPr>
        <p:spPr>
          <a:xfrm>
            <a:off x="1133280" y="1523880"/>
            <a:ext cx="76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arti.vub.ac.be/cursus/2005-2006/AI1/taak2/sudoku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2682-FD20-4FD7-AA1A-79F2F5B161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9559D-A4A7-411A-A798-24F3D9CFF0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Taak 2: CSP and sudoku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7520" cy="400716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30480" y="1988640"/>
            <a:ext cx="4189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EEL 1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CSP oplossen met forward checking en MGU heuristiek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EEL 2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Local search op basis van Evolutionary transition algorithm (ETA)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Schrijf versla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F954-FED4-49B9-B717-8A5786F8D3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BC11F-3D78-458C-B682-4C2C6B829E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traint grap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880" y="2224080"/>
            <a:ext cx="537048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SP benefi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andard representation patter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ic goal and successor func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ic heuristics (no domain specific expertise)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429000" cy="2941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36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aint graph = nodes are variables, edges show constra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 can be used to simplify sear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asmania is an independent sub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23C2-9CE3-4ED5-A70F-F1015D24F5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042E-03B8-4FE1-B29E-47195464D85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rieties of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 variabl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domains; siz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O(d</a:t>
            </a:r>
            <a:r>
              <a:rPr b="0" i="1" lang="en-US" sz="20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mplete assignmen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Boolean CSPs, include. Boolean satisfiability (NP-complete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finite domains (integers, strings, etc.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job scheduling, variables are start/end days for each jo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eed a constraint language e.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tartJob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+5 ≤ StartJob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3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Linear constraints solvable, nonlinear undecidable.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tinuous variabl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start/end times for Hubble Telescope observa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inear constraints solvable in poly time by LP method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D475-D474-4467-9549-6AF8436DC6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B5035-A65B-4413-89DE-050F768F7F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rieties of constrai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ary constraints involve a single vari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gree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inary constraints involve pairs of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</a:t>
            </a:r>
            <a:r>
              <a:rPr b="0" i="1" lang="en-US" sz="23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2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WA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igher-order constraints involve 3 or more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cryptharithmetic column constrai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reference (soft constraints) e.g.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e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better than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ree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ten representable by a cost for each variable assignment </a:t>
            </a:r>
            <a:r>
              <a:rPr b="0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constrained optimization problem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B6B0-6C0C-4C2A-8263-E95105DCFF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89C00-C3B1-4FBE-BF3B-4A40EC1AEE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8:58Z</dcterms:created>
  <dc:creator>ikke dikke</dc:creator>
  <dc:description/>
  <dc:language>en-US</dc:language>
  <cp:lastModifiedBy>ikke dikke</cp:lastModifiedBy>
  <cp:lastPrinted>2006-03-09T14:47:17Z</cp:lastPrinted>
  <dcterms:modified xsi:type="dcterms:W3CDTF">2006-03-17T12:44:33Z</dcterms:modified>
  <cp:revision>198</cp:revision>
  <dc:subject/>
  <dc:title>Artificial Intelligence 1: Constraint Satis- faction problems</dc:title>
</cp:coreProperties>
</file>