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4.jpeg" ContentType="image/jpeg"/>
  <Override PartName="/ppt/media/image25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ct" ContentType="image/x-pict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47A0-E70B-4CB8-892C-564869922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DE7D-DA0E-49ED-8965-206C6AE75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A36F-0485-4C3E-8593-FE226360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7301-B457-4767-A781-9ACAE51F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68FF0-7DFD-49F7-ACF0-5185E858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C830-423D-47AA-804A-4D55CD35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69513-067C-4C82-95C5-2AF81C9C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3194C-910A-4960-A323-0F478367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B136F-028A-48AD-96CA-C069A90F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8A109-F82F-4AAC-A25B-855D7745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BFA13-8772-4C23-BCF1-9456665B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371BC-9AA9-4CFE-8B71-3CE8D200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CD2C9-DD7A-4AD7-953B-BFAFAC86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0FE5F-5A1D-4703-8E84-40CC6605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27A53-DCE9-4EC8-9BA8-86B87DF1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DEC3E-407B-4C9A-8FD0-5F708122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F506B-AFA1-46D8-B67A-33998025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4979C-3EE8-43E2-BD1D-045E39AF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82B89-5E1D-4103-9383-F6667528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D3F3C-3121-404E-9BC7-9E88080D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93D47-FE0A-4995-A59B-4EDC147A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93C95-52AA-4EA5-B999-0DDD2EBC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B9730-F9A1-4F78-8499-AD9FD8A9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46048-F9A1-4385-80CC-FB8BE51B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DA9F-9B56-4DA2-9D7D-F7AA667C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B09D2-7F22-404D-AC41-2C830DFD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D507-0897-4888-940C-086C13E80D5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09B9-C3B9-4AF0-9190-818C9C604B6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D369-1E09-4DF1-BB43-BCA6D5F6672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4702-27E7-4236-A500-927694D8F289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0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0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0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0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0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Artificial Intelligence 1: Constraint Satisfaction pr</a:t>
            </a: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oblems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4114440"/>
            <a:ext cx="77407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; cryptharithmet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0320" y="1988640"/>
            <a:ext cx="8529480" cy="40071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762120" y="1905120"/>
            <a:ext cx="7543800" cy="3962160"/>
            <a:chOff x="762120" y="1905120"/>
            <a:chExt cx="7543800" cy="396216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762120" y="4624920"/>
              <a:ext cx="754380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762120" y="1905120"/>
              <a:ext cx="7543800" cy="332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A124D-DEC5-4F48-81D7-08F5D743EDA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EAAE9-C6C1-43A1-B05B-81EC6CA6A0A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SP as a standard search problem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 CSP can easily expressed as a standard search problem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Incremental formulati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Initial State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: the empty assignment {}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Successor function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: Assign value to unassigned variable provided that there is not conflict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Goal test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: the current assignment is complete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Path cost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: as constant cost for every step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53DE-76DC-424E-828E-C65056D744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6BC13-C79D-43CD-9346-69EA13959FF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SP as a standard search problem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is is the same for all CSP’s !!!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olution is found at depth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(if there are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variables)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ence depth first search can be used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ath is irrelevant, so complete state representation can also be used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ranching factor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at the top level is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nd.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b=(n-l)d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at depth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l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, hence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n!d</a:t>
            </a:r>
            <a:r>
              <a:rPr b="0" i="1" lang="en-US" sz="2800" spc="-1" strike="noStrike" baseline="30000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leaves (only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d</a:t>
            </a:r>
            <a:r>
              <a:rPr b="0" i="1" lang="en-US" sz="2800" spc="-1" strike="noStrike" baseline="30000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complete assignments)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E9878-265C-4843-9FCA-11AEEC3D47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0A2F7-8F1B-426A-9C07-1FD38B20102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mmutativit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CSPs are commutative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The order of any given set of actions has no effect on the outcome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Example: choose colors for Australian territories one at a time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[WA=red then NT=green] same as [NT=green then WA=red]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ll CSP search algorithms consider a single variable assignment at a time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there ar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d</a:t>
            </a:r>
            <a:r>
              <a:rPr b="0" i="1" lang="en-US" sz="2000" spc="-1" strike="noStrike" baseline="30000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leave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4661-88B5-43AA-ACC9-C010C45194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65900-FDBE-45FE-8DD3-9C328EDB1F8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tracking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Cfr. Depth-first search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Chooses values for one variable at a time and backtracks when a variable has no legal values left to assign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Uninformed algorithm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No good general performance (see table p. 143)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4B49-6F18-4A87-B0ED-D1AC7F88E2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3597F-A425-495B-AD59-1CCFE23D86A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tracking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BACKTRACKING-SEARCH(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a solution or failure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RECURSIVE-BACKTRACKING(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{} , 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RECURSIVE-BACKTRACKING(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assignment, 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a solution or failure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assignment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is complete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assignment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r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SELECT-UNASSIGNED-VARIABLE(VARIABLES[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],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assignment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,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for each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lue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in 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ORDER-DOMAIN-VALUES(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r, assignment, 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lue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is consistent with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assignment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according to CONSTRAINTS[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then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add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{var=value}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to assignment 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RRECURSIVE-BACTRACKING(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assignment, 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 result </a:t>
            </a:r>
            <a:r>
              <a:rPr b="0" i="1" lang="en-US" sz="15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 failure 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 result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remove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{var=value}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from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assignment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return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failure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845B-8227-49D2-9580-A933BB0628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ADCFC-9DAC-4733-A015-A6278172CA0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track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0680" y="1995480"/>
            <a:ext cx="8529480" cy="3992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449568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FBCE-15B2-4D71-8AD9-2ED3CD384F4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DCDEE-F803-4CE3-AB62-7D93BC889BF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track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0680" y="2338560"/>
            <a:ext cx="8529480" cy="330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B9E79-05F0-4883-BD3E-26DDD8D608E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AA8F4-4AC5-42BB-A42E-78D022808B6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track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97120" y="1989000"/>
            <a:ext cx="591660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7A11-A591-482F-B19E-646544F5C18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FDB01-C86C-49F5-98DF-FE142F1914C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cktrack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89160" y="1989000"/>
            <a:ext cx="513072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75ACC-738D-4439-8E77-A56ECB3C777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16AB3-16D2-4400-9581-A3190EA59E1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SP?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Backtracking for CSP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Local search for CSPs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Problem structure and decomposition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7D37-8DEC-4B1B-9BC4-F95080C9B4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F612B-68C3-42C9-85DF-2E80E6AFEFD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Improving backtracking efficienc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Previous improvements </a:t>
            </a:r>
            <a:r>
              <a:rPr b="0" lang="en-US" sz="3600" spc="-1" strike="noStrike">
                <a:solidFill>
                  <a:srgbClr val="5f604a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 introduce heuristics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General-purpose methods can give huge gains in speed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Which variable should be assigned next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In what order should its values be tried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Can we detect inevitable failure early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Can we take advantage of problem structure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99AE4-86DA-4B4D-9F3F-0F05F1562A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6B779-6BC7-4748-8EBA-B3B816C1E62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inimum remaining valu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var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SELECT-UNASSIGNED-VARIABLE(VARIABLES[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],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assignmen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,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.k.a. most constrained variable heuristic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Rule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: choose variable with the fewest legal move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Which variable shall we try first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90680" y="2085840"/>
            <a:ext cx="8529480" cy="173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0E10-5C19-4A44-9D81-2E62A62ED45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A15CD-F102-462E-9D13-0DCBBCB122F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egree heurist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Use degree heuristic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Rul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: select variable that is involved in the largest number of constraints on other unassigned variabl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Degree heuristic is very useful as a tie breaker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In what order should its values be tried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0680" y="2147760"/>
            <a:ext cx="8529480" cy="160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C89C-FE22-4A4A-8CBA-D06077ECA2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AC975-A33F-400D-B916-5E88BCFC6FC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east constraining valu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east constraining value heuristic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ule: given a variable choose the least constraing value i.e. the one that leaves the maximum flexibility for subsequent variable assignment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90680" y="2158920"/>
            <a:ext cx="8529480" cy="15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8394-35FA-45E2-95F6-38C8162F17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7E3D8-C907-48DE-98F1-6BC4FC72DC8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eck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an we detect inevitable failure early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nd avoid it later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Forward checking idea: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keep track of remaining legal values for unassigned variabl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erminate search when any variable has no legal valu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22480" y="1989000"/>
            <a:ext cx="66405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0FE6-7CA8-4E7E-92F3-CDCE2C6D149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E8E05-3C45-47EB-B92D-C14614B2779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eck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ssign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 {WA=red}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Effects on other variables connected by constraints with WA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NT can no longer be re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A can no longer be re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8402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5E67-63B9-434C-8242-7965E17BA21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84FEA-E16D-4609-9BCA-CC3AC259606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eck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ssign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{Q=green}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s on other variables connected by constraints with WA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NT can no longer be green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NSW can no longer be green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SA can no longer be green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MRV heuristic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will automatically select NT and SA next, why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01680" y="1989000"/>
            <a:ext cx="61182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B7CA-1397-4CD4-AA27-6131669FBE5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7054E-CD1A-4497-9224-EFC7F9FB2B9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rward check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V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ssigned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blu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s on other variables connected by constraints with WA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SA is empty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NSW can no longer be blu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FC has detected that partial assignment is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inconsisten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with the constraints and backtracking can occur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22480" y="1989000"/>
            <a:ext cx="57783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FE35-FA00-4D58-A3A2-8F47814F39D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86B7A-6183-4F1C-A523-A9DE3B7E772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167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168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186" name="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187" name="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4-Queens slides copied from B.J. Dorr  CMSC 421 course on 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4E27-8DD1-4763-BBB8-1510F53B7FA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B0A84-FD0D-4F5B-880B-272425F938A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17160" y="2666880"/>
            <a:ext cx="2135520" cy="2210040"/>
            <a:chOff x="1217160" y="2666880"/>
            <a:chExt cx="2135520" cy="2210040"/>
          </a:xfrm>
        </p:grpSpPr>
        <p:grpSp>
          <p:nvGrpSpPr>
            <p:cNvPr id="200" name=""/>
            <p:cNvGrpSpPr/>
            <p:nvPr/>
          </p:nvGrpSpPr>
          <p:grpSpPr>
            <a:xfrm>
              <a:off x="1523880" y="3048120"/>
              <a:ext cx="1828800" cy="1828800"/>
              <a:chOff x="1523880" y="3048120"/>
              <a:chExt cx="1828800" cy="1828800"/>
            </a:xfrm>
          </p:grpSpPr>
          <p:sp>
            <p:nvSpPr>
              <p:cNvPr id="201" name=""/>
              <p:cNvSpPr/>
              <p:nvPr/>
            </p:nvSpPr>
            <p:spPr>
              <a:xfrm>
                <a:off x="1523880" y="304812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81080" y="304812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38280" y="441972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81080" y="396252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23880" y="350532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895480" y="396252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438280" y="350532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523880" y="441972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895480" y="304812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217160" y="304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17160" y="3962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7160" y="3505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7160" y="4419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219" name="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220" name="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32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146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718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718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146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362E-DC0F-4D57-879F-5728F2C996A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8E3EE-936B-49B0-9D30-5A9616B7F14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onstraint satisfaction problem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What is a CSP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nite set of variables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V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, V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, …, V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nite set of variables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, C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, …, C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Nonemtpy domain of possible values for each variable </a:t>
            </a:r>
            <a:br>
              <a:rPr sz="2000"/>
            </a:b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D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V1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, D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V2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, … D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V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ach constraint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limits the values that variables can take, e.g.,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V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1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≠ V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tate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is defined as a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assignment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of values to some or all variable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Consistent assignment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 assignment does not not violate the constraints.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B7F0A-26AF-458C-93E7-C8D047627A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1AE10-4A5E-4C7B-B407-EA6BABE187A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40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41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04520" y="2133720"/>
            <a:ext cx="3623400" cy="3263760"/>
            <a:chOff x="4304520" y="2133720"/>
            <a:chExt cx="3623400" cy="3263760"/>
          </a:xfrm>
        </p:grpSpPr>
        <p:grpSp>
          <p:nvGrpSpPr>
            <p:cNvPr id="259" name=""/>
            <p:cNvGrpSpPr/>
            <p:nvPr/>
          </p:nvGrpSpPr>
          <p:grpSpPr>
            <a:xfrm>
              <a:off x="4304520" y="2133720"/>
              <a:ext cx="3623400" cy="3263760"/>
              <a:chOff x="4304520" y="2133720"/>
              <a:chExt cx="3623400" cy="3263760"/>
            </a:xfrm>
          </p:grpSpPr>
          <p:sp>
            <p:nvSpPr>
              <p:cNvPr id="260" name=""/>
              <p:cNvSpPr/>
              <p:nvPr/>
            </p:nvSpPr>
            <p:spPr>
              <a:xfrm>
                <a:off x="430452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604200" y="213372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72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146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718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718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146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0A6B8-C928-47CD-841A-5BDF081F781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059C9-B2C3-4AEC-BFC2-112D3EB1528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80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81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304520" y="2133720"/>
            <a:ext cx="3623400" cy="3263760"/>
            <a:chOff x="4304520" y="2133720"/>
            <a:chExt cx="3623400" cy="3263760"/>
          </a:xfrm>
        </p:grpSpPr>
        <p:grpSp>
          <p:nvGrpSpPr>
            <p:cNvPr id="299" name=""/>
            <p:cNvGrpSpPr/>
            <p:nvPr/>
          </p:nvGrpSpPr>
          <p:grpSpPr>
            <a:xfrm>
              <a:off x="4304520" y="2133720"/>
              <a:ext cx="3623400" cy="3263760"/>
              <a:chOff x="4304520" y="2133720"/>
              <a:chExt cx="3623400" cy="3263760"/>
            </a:xfrm>
          </p:grpSpPr>
          <p:sp>
            <p:nvSpPr>
              <p:cNvPr id="300" name=""/>
              <p:cNvSpPr/>
              <p:nvPr/>
            </p:nvSpPr>
            <p:spPr>
              <a:xfrm>
                <a:off x="430452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03840" y="2133720"/>
                <a:ext cx="13240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D47A-46BD-44D4-A32C-E85A78B5876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E9317-243D-44A7-8C79-3051740FB54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323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324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304160" y="2133720"/>
            <a:ext cx="3623400" cy="3263760"/>
            <a:chOff x="4304160" y="2133720"/>
            <a:chExt cx="3623400" cy="3263760"/>
          </a:xfrm>
        </p:grpSpPr>
        <p:grpSp>
          <p:nvGrpSpPr>
            <p:cNvPr id="342" name=""/>
            <p:cNvGrpSpPr/>
            <p:nvPr/>
          </p:nvGrpSpPr>
          <p:grpSpPr>
            <a:xfrm>
              <a:off x="4304160" y="2133720"/>
              <a:ext cx="3623400" cy="3263760"/>
              <a:chOff x="4304160" y="2133720"/>
              <a:chExt cx="3623400" cy="3263760"/>
            </a:xfrm>
          </p:grpSpPr>
          <p:sp>
            <p:nvSpPr>
              <p:cNvPr id="343" name="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31520" y="4572000"/>
                <a:ext cx="12934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0384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03480" y="2133720"/>
                <a:ext cx="13240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810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F5CD-9761-419E-A881-697FE9A9F07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C304C-E314-4B66-9716-1AA2BD0CBA7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366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367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385" name="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5719680" y="25146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19680" y="49528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43360" y="2971800"/>
              <a:ext cx="9140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719320" y="2971800"/>
              <a:ext cx="8377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398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D52E-9106-44E9-9EBF-68931161CE3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D8A14-386B-4D63-BF8B-18590C11BB2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406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407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311000" y="2133720"/>
            <a:ext cx="3625200" cy="3263760"/>
            <a:chOff x="4311000" y="2133720"/>
            <a:chExt cx="3625200" cy="3263760"/>
          </a:xfrm>
        </p:grpSpPr>
        <p:grpSp>
          <p:nvGrpSpPr>
            <p:cNvPr id="425" name=""/>
            <p:cNvGrpSpPr/>
            <p:nvPr/>
          </p:nvGrpSpPr>
          <p:grpSpPr>
            <a:xfrm>
              <a:off x="4311000" y="2133720"/>
              <a:ext cx="3625200" cy="3263760"/>
              <a:chOff x="4311000" y="2133720"/>
              <a:chExt cx="3625200" cy="3263760"/>
            </a:xfrm>
          </p:grpSpPr>
          <p:sp>
            <p:nvSpPr>
              <p:cNvPr id="426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97360" y="4572000"/>
                <a:ext cx="133884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11040" y="213372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438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AC24-D0EF-42FB-8602-59DC74B3467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000CA-53A3-446E-B1D3-9DE2E806887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446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447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311000" y="2133720"/>
            <a:ext cx="3625200" cy="3263760"/>
            <a:chOff x="4311000" y="2133720"/>
            <a:chExt cx="3625200" cy="3263760"/>
          </a:xfrm>
        </p:grpSpPr>
        <p:grpSp>
          <p:nvGrpSpPr>
            <p:cNvPr id="465" name=""/>
            <p:cNvGrpSpPr/>
            <p:nvPr/>
          </p:nvGrpSpPr>
          <p:grpSpPr>
            <a:xfrm>
              <a:off x="4311000" y="2133720"/>
              <a:ext cx="3625200" cy="3263760"/>
              <a:chOff x="4311000" y="2133720"/>
              <a:chExt cx="3625200" cy="3263760"/>
            </a:xfrm>
          </p:grpSpPr>
          <p:sp>
            <p:nvSpPr>
              <p:cNvPr id="466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97360" y="4572000"/>
                <a:ext cx="133884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478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1709-4E73-44F4-B7FC-5EA07B5C2DD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F9ED7-C1B0-4B69-A2E3-4E26AFEF3D8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489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490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4311000" y="2133720"/>
            <a:ext cx="3616920" cy="3263760"/>
            <a:chOff x="4311000" y="2133720"/>
            <a:chExt cx="3616920" cy="3263760"/>
          </a:xfrm>
        </p:grpSpPr>
        <p:grpSp>
          <p:nvGrpSpPr>
            <p:cNvPr id="508" name=""/>
            <p:cNvGrpSpPr/>
            <p:nvPr/>
          </p:nvGrpSpPr>
          <p:grpSpPr>
            <a:xfrm>
              <a:off x="4311000" y="2133720"/>
              <a:ext cx="3616920" cy="3263760"/>
              <a:chOff x="4311000" y="2133720"/>
              <a:chExt cx="3616920" cy="3263760"/>
            </a:xfrm>
          </p:grpSpPr>
          <p:sp>
            <p:nvSpPr>
              <p:cNvPr id="509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  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521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1450-70A4-40FE-9F66-0F87431449A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8EB8D-BD9A-4600-B9E8-BD4D968028B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532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533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311000" y="2133720"/>
            <a:ext cx="3616920" cy="3263760"/>
            <a:chOff x="4311000" y="2133720"/>
            <a:chExt cx="3616920" cy="3263760"/>
          </a:xfrm>
        </p:grpSpPr>
        <p:grpSp>
          <p:nvGrpSpPr>
            <p:cNvPr id="551" name=""/>
            <p:cNvGrpSpPr/>
            <p:nvPr/>
          </p:nvGrpSpPr>
          <p:grpSpPr>
            <a:xfrm>
              <a:off x="4311000" y="2133720"/>
              <a:ext cx="3616920" cy="3263760"/>
              <a:chOff x="4311000" y="2133720"/>
              <a:chExt cx="3616920" cy="3263760"/>
            </a:xfrm>
          </p:grpSpPr>
          <p:sp>
            <p:nvSpPr>
              <p:cNvPr id="552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564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CBB9C-BEF4-4791-AF05-406C791E249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00C1D-F413-47B9-A5F6-14D487B44FE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577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11000" y="2133720"/>
            <a:ext cx="3608640" cy="3263760"/>
            <a:chOff x="4311000" y="2133720"/>
            <a:chExt cx="3608640" cy="3263760"/>
          </a:xfrm>
        </p:grpSpPr>
        <p:grpSp>
          <p:nvGrpSpPr>
            <p:cNvPr id="596" name=""/>
            <p:cNvGrpSpPr/>
            <p:nvPr/>
          </p:nvGrpSpPr>
          <p:grpSpPr>
            <a:xfrm>
              <a:off x="4311000" y="2133720"/>
              <a:ext cx="3608640" cy="3263760"/>
              <a:chOff x="4311000" y="2133720"/>
              <a:chExt cx="3608640" cy="3263760"/>
            </a:xfrm>
          </p:grpSpPr>
          <p:sp>
            <p:nvSpPr>
              <p:cNvPr id="597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611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3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609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0974-37B2-48C2-8A0E-093C7ED78A2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16A1B-C6C9-451C-B64B-C7927FC4510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4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622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623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311000" y="2133720"/>
            <a:ext cx="3608640" cy="3263760"/>
            <a:chOff x="4311000" y="2133720"/>
            <a:chExt cx="3608640" cy="3263760"/>
          </a:xfrm>
        </p:grpSpPr>
        <p:grpSp>
          <p:nvGrpSpPr>
            <p:cNvPr id="641" name=""/>
            <p:cNvGrpSpPr/>
            <p:nvPr/>
          </p:nvGrpSpPr>
          <p:grpSpPr>
            <a:xfrm>
              <a:off x="4311000" y="2133720"/>
              <a:ext cx="3608640" cy="3263760"/>
              <a:chOff x="4311000" y="2133720"/>
              <a:chExt cx="3608640" cy="3263760"/>
            </a:xfrm>
          </p:grpSpPr>
          <p:sp>
            <p:nvSpPr>
              <p:cNvPr id="642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11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654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8954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CDE6-2606-4BB8-83C4-509D3CDBE3A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51D9F-5797-42C4-B96B-3B9E46176B8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onstraint satisfaction problem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n assignment is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complete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when every value is mentioned.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to a CSP is a complete assignment that satisfies all constraint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ome CSPs require a solution that maximizes a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objective functio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pplications: Scheduling the time of observations on the Hubble Space Telescope, Floor planning, Map coloring, Cryptography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5CA04-7BB9-47DA-8C3C-15670F8631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3B801-9F76-4E4E-98D1-CA58B828C31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straint propag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olving CSPs with combination of heuristics plus forward checking is more efficient than either approach alon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FC checking propagates information from assigned to unassigned variables but does not provide detection for all failur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NT and SA cannot be blue!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straint propagation repeatedly enforces constraints locally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1281240" y="1989000"/>
            <a:ext cx="56354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CAF1-3C62-4019-B110-7E20D8CB58A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E86B8-4EC4-4ADA-BB2A-C23005538B0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rc consisten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i="1" lang="en-US" sz="2400" spc="-1" strike="noStrike">
                <a:solidFill>
                  <a:srgbClr val="5f604a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 Y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is consistent iff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for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every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valu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of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there is some allowed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SA </a:t>
            </a:r>
            <a:r>
              <a:rPr b="0" i="1" lang="en-US" sz="2400" spc="-1" strike="noStrike">
                <a:solidFill>
                  <a:srgbClr val="5f604a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 NSW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is consistent iff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SA=blue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NSW=red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965160" y="1989000"/>
            <a:ext cx="67438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B77F6-7DDE-4CB3-93B9-A18F4C04A0C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AD233-89BB-4044-97CA-13FCA864669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rc consisten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Y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consistent iff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for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every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value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o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here is some allowed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y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SW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SA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consistent iff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SW=red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and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SA=blu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SW=blue and SA=?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rc can be made consistent by removing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blu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from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SW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965160" y="1989000"/>
            <a:ext cx="69105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7457-F1C5-472A-91DC-DDF35C645A5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183D3-E6A2-4333-827E-8CE6B6D8EAF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rc consisten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Arc can be made consistent by removing </a:t>
            </a:r>
            <a:r>
              <a:rPr b="0" i="1" lang="en-US" sz="2500" spc="-1" strike="noStrike">
                <a:solidFill>
                  <a:srgbClr val="5f604a"/>
                </a:solidFill>
                <a:latin typeface="Verdana"/>
              </a:rPr>
              <a:t>blue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from </a:t>
            </a:r>
            <a:r>
              <a:rPr b="0" i="1" lang="en-US" sz="2500" spc="-1" strike="noStrike">
                <a:solidFill>
                  <a:srgbClr val="5f604a"/>
                </a:solidFill>
                <a:latin typeface="Verdana"/>
              </a:rPr>
              <a:t>NSW</a:t>
            </a:r>
            <a:endParaRPr b="0" lang="en-US" sz="25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RECHECK neighbours !!</a:t>
            </a:r>
            <a:endParaRPr b="0" lang="en-US" sz="25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Remove red from </a:t>
            </a:r>
            <a:r>
              <a:rPr b="0" i="1" lang="en-US" sz="1900" spc="-1" strike="noStrike">
                <a:solidFill>
                  <a:srgbClr val="7f7358"/>
                </a:solidFill>
                <a:latin typeface="Verdana"/>
              </a:rPr>
              <a:t>V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885960" y="1989000"/>
            <a:ext cx="68958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C53CF-22D5-4D49-AAAF-7B8A48A8C8A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994A4-5284-4EC6-9564-C9CF5F3CFFD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rc consisten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rc can be made consistent by removing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blu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from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SW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RECHECK neighbours !!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Remove red from 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V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Arc consistency detects failure earlier than FC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Can be run as a preprocessor or after each assignment.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Repeated until no inconsistency remain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660680" y="1989000"/>
            <a:ext cx="61880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1485B-2D5F-4708-ABB9-2EDA627B58E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D915D-DDFA-4298-8338-6F273731C20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rc consistency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AC-3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the CSP, possibly with reduced domains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nputs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a binary csp with variables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{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, 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, …, 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n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}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local variables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queue,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a queue of arcs initially the arcs in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csp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while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queue is not empty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, 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j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REMOVE-FIRST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queue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REMOVE-INCONSISTENT-VALUES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, 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j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for each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k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n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NEIGHBORS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add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, 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j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to queue 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REMOVE-INCONSISTENT-VALUES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, 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j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true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iff we remove a value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remov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false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for each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DOMAIN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no value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y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in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DOMAIN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allows (x,y) to satisfy the constraints between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and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j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 delete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x from DOMAIN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i="1" lang="en-US" sz="13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;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remov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true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return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removed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19BE9-78E4-49A0-A747-4C27B2F2251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00F5D-E7C0-458F-90F4-AF041CFB4F8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K-consisten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rc consistency does not detect all inconsistencies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artial assignment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{WA=red, NSW=red}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is inconsistent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tronger forms of propagation can be defined using the notion of k-consistency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 CSP is k-consistent if for any set of k-1 variables and for any consistent assignment to those variables, a consistent value can always be assigned to any kth variabl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 1-consistency or node-consistency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 2-consistency or arc-consistency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 3-consistency or path-consistency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D034-CAA9-4CD3-A0B9-70399F9BFF1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98FBB-FF64-419B-9016-3B35AD9829B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K-consisten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graph is strongly k-consistent if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t is k-consistent an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s also (k-1) consistent, (k-2) consistent, … all the way down to 1-consisten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is is ideal since a solution can be found in time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O(nd)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nstead of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  O(n</a:t>
            </a:r>
            <a:r>
              <a:rPr b="0" i="1" lang="en-US" sz="2800" spc="-1" strike="noStrike" baseline="30000">
                <a:solidFill>
                  <a:srgbClr val="5f604a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d</a:t>
            </a:r>
            <a:r>
              <a:rPr b="0" i="1" lang="en-US" sz="2800" spc="-1" strike="noStrike" baseline="30000">
                <a:solidFill>
                  <a:srgbClr val="5f604a"/>
                </a:solidFill>
                <a:latin typeface="Verdana"/>
              </a:rPr>
              <a:t>3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YET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no free lunch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 any algorithm for establishing n-consistency must take time exponential in n, in the worst cas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C0F8-2BD3-4A0E-B1E4-761D4FE6F2C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C71A0-919D-4692-BA40-20CF73F89F0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urther improvements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hecking special constraint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hecking Alldif(…) constraint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E.g. {WA=red, NSW=red}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hecking Atmost(…) constrain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Bounds propagation for larger value domain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ntelligent backtracking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andard form is chronological backtracking i.e. try different value for preceding variabl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More intelligent, backtrack to conflict set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et of variables that caused the failure or set of previously assigned variables that are connected to X by constraints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Backjumping moves back to most recent element of the conflict set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Forward checking can be used to determine conflict set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100C-FA65-42D0-9CF1-3EC6E2D68A9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7D822-45AC-4692-8DF2-C7A189464A5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cal search for CSP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se complete-state representa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For CSP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llow states with unsatisfied constraint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perators </a:t>
            </a:r>
            <a:r>
              <a:rPr b="1" lang="en-US" sz="2000" spc="-1" strike="noStrike">
                <a:solidFill>
                  <a:srgbClr val="7f7358"/>
                </a:solidFill>
                <a:latin typeface="Verdana"/>
              </a:rPr>
              <a:t>reassig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variable valu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Variable selection: randomly select any conflicted variabl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Value selection: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min-conflicts heuristic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lect new value that results in a minimum number of conflicts with the other variabl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5FA7B-7D96-4FCF-8174-FD9F638C5DE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685DF-F5EA-4349-BBD9-8DCB3869A55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SP example: map color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Variables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WA, NT, Q, NSW, V, SA, 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Domains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D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={red,green,blue}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straints:adjacent regions must have different color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E.g. 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WA </a:t>
            </a:r>
            <a:r>
              <a:rPr b="0" i="1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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NT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(if the language allows this)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E.g. 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(WA,NT) </a:t>
            </a:r>
            <a:r>
              <a:rPr b="0" i="1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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 {(red,green),(red,blue),(green,red),…}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495680" cy="266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1E118-3A98-4385-8CDD-42303C9361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D4823-1FC1-4297-A248-012F73D43C0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cal search for CSP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MIN-CONFLICTS(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, max_steps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solution or failure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inputs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: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, a constraint satisfaction problem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max_steps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, the number of steps allowed before giving u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an initial complete assignment for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for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i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= 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1 to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max_steps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is a solution for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then return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urrent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r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 a randomly chosen, conflicted variable from VARIABLES[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lue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 the value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for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r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that minimize CONFLICTS(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r,v,current,csp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set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var = value</a:t>
            </a:r>
            <a:r>
              <a:rPr b="0" lang="en-US" sz="1500" spc="-1" strike="noStrike">
                <a:solidFill>
                  <a:srgbClr val="5f604a"/>
                </a:solidFill>
                <a:latin typeface="Verdana"/>
              </a:rPr>
              <a:t> in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current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500" spc="-1" strike="noStrike">
                <a:solidFill>
                  <a:srgbClr val="5f604a"/>
                </a:solidFill>
                <a:latin typeface="Verdana"/>
              </a:rPr>
              <a:t>return </a:t>
            </a:r>
            <a:r>
              <a:rPr b="0" i="1" lang="en-US" sz="1500" spc="-1" strike="noStrike">
                <a:solidFill>
                  <a:srgbClr val="5f604a"/>
                </a:solidFill>
                <a:latin typeface="Verdana"/>
              </a:rPr>
              <a:t>failure</a:t>
            </a: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3937-712C-494D-A784-64583CF7A95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1395F-C958-422C-9AC0-6A3302D556F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in-conflicts example 1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411480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se of min-conflicts heuristic in hill-climbing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1477800" y="1989000"/>
            <a:ext cx="6553440" cy="1925640"/>
          </a:xfrm>
          <a:prstGeom prst="rect">
            <a:avLst/>
          </a:prstGeom>
          <a:ln w="0">
            <a:noFill/>
          </a:ln>
        </p:spPr>
      </p:pic>
      <p:grpSp>
        <p:nvGrpSpPr>
          <p:cNvPr id="696" name=""/>
          <p:cNvGrpSpPr/>
          <p:nvPr/>
        </p:nvGrpSpPr>
        <p:grpSpPr>
          <a:xfrm>
            <a:off x="1904760" y="2286000"/>
            <a:ext cx="1066680" cy="457200"/>
            <a:chOff x="1904760" y="2286000"/>
            <a:chExt cx="1066680" cy="457200"/>
          </a:xfrm>
        </p:grpSpPr>
        <p:sp>
          <p:nvSpPr>
            <p:cNvPr id="697" name=""/>
            <p:cNvSpPr/>
            <p:nvPr/>
          </p:nvSpPr>
          <p:spPr>
            <a:xfrm>
              <a:off x="1905120" y="2361960"/>
              <a:ext cx="22824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2286000" y="2361600"/>
              <a:ext cx="22824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66880" y="2361960"/>
              <a:ext cx="30456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1904760" y="2286000"/>
              <a:ext cx="6094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2361600" y="2743200"/>
              <a:ext cx="6094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1982520" y="35812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4165200" y="2286000"/>
            <a:ext cx="609840" cy="380880"/>
            <a:chOff x="4165200" y="2286000"/>
            <a:chExt cx="609840" cy="380880"/>
          </a:xfrm>
        </p:grpSpPr>
        <p:sp>
          <p:nvSpPr>
            <p:cNvPr id="704" name=""/>
            <p:cNvSpPr/>
            <p:nvPr/>
          </p:nvSpPr>
          <p:spPr>
            <a:xfrm>
              <a:off x="4165560" y="2361960"/>
              <a:ext cx="22860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4546440" y="2361600"/>
              <a:ext cx="22860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4165200" y="2286000"/>
              <a:ext cx="6094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4242960" y="35812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477120" y="232416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54520" y="35812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D4325-2606-4873-9C43-68DBB5364F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5A15A-1B93-43EE-B184-06D4BF9214B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in-conflicts example 2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09480" y="411480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 two-step solution for an 8-queens problem using min-conflicts heuristic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t each stage a queen is chosen for reassignment in its colum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he algorithm moves the queen to the min-conflict square breaking ties randomly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1544760" y="1989000"/>
            <a:ext cx="642132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D9A08-11BA-4AA7-AAD1-7AE1D2D28D2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E26A9-99E0-469F-A6E6-D888BA5BE42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Verdana"/>
              </a:rPr>
              <a:t>Advantages of local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604a"/>
                </a:solidFill>
                <a:latin typeface="Verdana"/>
              </a:rPr>
              <a:t>The runtime of min-conflicts is roughly independent of problem size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358"/>
                </a:solidFill>
                <a:latin typeface="Verdana"/>
              </a:rPr>
              <a:t>Solving the millions-queen problem in roughly 50 steps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604a"/>
                </a:solidFill>
                <a:latin typeface="Verdana"/>
              </a:rPr>
              <a:t>Local search can be used in an online sett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358"/>
                </a:solidFill>
                <a:latin typeface="Verdana"/>
              </a:rPr>
              <a:t>Backtrack search requires more time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317F9-C011-4D0D-A5D1-5FDFD90E4F6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6008D-A1A1-4ED4-9B76-1741ACAB9AA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 structur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How can the problem structure help to find a solution quickly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ubproblem identification is important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oloring Tasmania and mainland are independent subproblem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dentifiable as connected components of constrained graph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mproves performance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72464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6920-C86B-4AEF-8202-B8FD482DB58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977BA-4003-4417-A469-A6106354FF9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 structur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Suppose each problem has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 variables out of a total of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Worst case solution cost is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O(n/c d</a:t>
            </a:r>
            <a:r>
              <a:rPr b="0" i="1" lang="en-US" sz="2200" spc="-1" strike="noStrike" baseline="30000">
                <a:solidFill>
                  <a:srgbClr val="5f604a"/>
                </a:solidFill>
                <a:latin typeface="Verdana"/>
              </a:rPr>
              <a:t>c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, i.e. linear in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n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nstead of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O(d </a:t>
            </a:r>
            <a:r>
              <a:rPr b="0" i="1" lang="en-US" sz="1600" spc="-1" strike="noStrike" baseline="30000">
                <a:solidFill>
                  <a:srgbClr val="7f7358"/>
                </a:solidFill>
                <a:latin typeface="Verdana"/>
              </a:rPr>
              <a:t>n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),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exponential in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E.g.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n= 80, c= 20, d=2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600" spc="-1" strike="noStrike" baseline="30000">
                <a:solidFill>
                  <a:srgbClr val="7f7358"/>
                </a:solidFill>
                <a:latin typeface="Verdana"/>
              </a:rPr>
              <a:t>80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= 4 billion years at 1 million nodes/sec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4 * 2</a:t>
            </a:r>
            <a:r>
              <a:rPr b="0" lang="en-US" sz="1600" spc="-1" strike="noStrike" baseline="30000">
                <a:solidFill>
                  <a:srgbClr val="7f7358"/>
                </a:solidFill>
                <a:latin typeface="Verdana"/>
              </a:rPr>
              <a:t>20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= .4 second at 1 million nodes/sec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72464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4C514-39F9-4C5A-9603-84CFEDCF694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60D4C-2A4A-469F-9654-C20AB796EBF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ree-structured CSP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Theorem: if the constraint graph has no loops then CSP can be solved in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O(nd </a:t>
            </a:r>
            <a:r>
              <a:rPr b="0" i="1" lang="en-US" sz="2600" spc="-1" strike="noStrike" baseline="30000">
                <a:solidFill>
                  <a:srgbClr val="5f604a"/>
                </a:solidFill>
                <a:latin typeface="Verdana"/>
              </a:rPr>
              <a:t>2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 time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Compare difference with general CSP, where worst case is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O(d </a:t>
            </a:r>
            <a:r>
              <a:rPr b="0" i="1" lang="en-US" sz="2600" spc="-1" strike="noStrike" baseline="30000">
                <a:solidFill>
                  <a:srgbClr val="5f604a"/>
                </a:solidFill>
                <a:latin typeface="Verdana"/>
              </a:rPr>
              <a:t>n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2854440" y="1989000"/>
            <a:ext cx="38019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87D3-2C0F-45F0-A5B4-DC8D93E6043A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E3870-7D57-4822-8319-A534C1D4FEB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ree-structured CSP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n most cases subproblems of a CSP are connected as a tre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ny tree-structured CSP can be solved in time linear in the number of variabl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hoose a variable as root, order variables from root to leaves such that every node’s parent precedes it in the ordering. (label var from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X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to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X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For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j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from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down to 2, apply </a:t>
            </a:r>
            <a:r>
              <a:rPr b="0" lang="en-US" sz="1400" spc="-1" strike="noStrike">
                <a:solidFill>
                  <a:srgbClr val="7f7358"/>
                </a:solidFill>
                <a:latin typeface="Times New Roman"/>
              </a:rPr>
              <a:t>REMOVE-INCONSISTENT-VALUES(Parent(</a:t>
            </a:r>
            <a:r>
              <a:rPr b="0" i="1" lang="en-US" sz="1400" spc="-1" strike="noStrike">
                <a:solidFill>
                  <a:srgbClr val="7f7358"/>
                </a:solidFill>
                <a:latin typeface="Times New Roman"/>
              </a:rPr>
              <a:t>X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7f7358"/>
                </a:solidFill>
                <a:latin typeface="Times New Roman"/>
              </a:rPr>
              <a:t>),</a:t>
            </a:r>
            <a:r>
              <a:rPr b="0" i="1" lang="en-US" sz="1400" spc="-1" strike="noStrike">
                <a:solidFill>
                  <a:srgbClr val="7f7358"/>
                </a:solidFill>
                <a:latin typeface="Times New Roman"/>
              </a:rPr>
              <a:t>X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7f7358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For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j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from 1 to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assign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X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j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consistently with Parent(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X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j 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490680" y="2001960"/>
            <a:ext cx="8529480" cy="189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A0F1-15CA-4149-B7DC-E5D4135D169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D7087-9CDB-4294-930C-2C37DADAE2F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Nearly tree-structured CSP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Can more general constraint graphs be reduced to trees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wo approaches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move certain nod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llapse certain nod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895480" cy="2482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290808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B9A4-AA1B-4E35-B6D2-8D6BA52C5FC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6C7E3-E521-4899-A228-B7DBEE22B47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Nearly tree-structured CSP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dea: assign values to some variables so that the remaining variables form a tre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ssume that we assign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{SA=x}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ycle cutse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nd remove any values from the other variables that are inconsistent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he selected value for SA could be the wrong one so we have to try all of them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895480" cy="248256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290808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87FA-B525-4ED4-A03E-3BABD12893D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A3802-322A-458A-B269-69949D8134F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SP example: map color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olutions are assignments satisfying all constraints, e.g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{WA=red,NT=green,Q=red,NSW=green,V=red,SA=blue,T=green}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6096240" cy="30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25881-6DA6-4721-A153-CC39A1393A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295D8-BF9A-44FB-B6BF-983F8E7EDB8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Nearly tree-structured CSP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This approach is worthwhile if cycle cutset is small.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Finding the smallest cycle cutset is NP-hard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pproximation algorithms exist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his approach is called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utset conditioning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895480" cy="248256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290808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807F-183F-445F-8096-7BCF9C303BD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5A8D1-D6C0-486B-8D6A-950AC513442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Nearly tree-structured CSP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ree decomposition of the constraint graph in a set of connected subproblem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ach subproblem is solved independently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esulting solutions are combined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Necessary requirements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Every variable appears in ar least one of the subproblems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If two variables are connected in the original problem, they must appear together in at least one subproblem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If a variable appears in two subproblems, it must appear in each node on the path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4D16E-5712-4C44-B2B0-7825A800534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ED5A5-51C8-4FF3-BA24-4D332E5C701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SPs are a special kind of problem: states defined by values of a fixed set of variables, goal test defined by constraints on variable value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acktracking=depth-first search with one variable assigned per nod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Variable ordering and value selection heuristics help significantly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Forward checking prevents assignments that lead to failur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straint propagation does additional work to constrain values and detect inconsistenci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he CSP representation allows analysis of problem structur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ree structured CSPs can be solved in linear tim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terative min-conflicts is usually effective in practic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F488-B4D5-40F6-8136-65F81D25F99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A9167-1F72-4D33-9774-72F0D3FF504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Verdana"/>
              </a:rPr>
              <a:t>Taak 2: CSP and sudoku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7520" cy="400716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830480" y="1988640"/>
            <a:ext cx="4189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604a"/>
                </a:solidFill>
                <a:latin typeface="Verdana"/>
              </a:rPr>
              <a:t>Variabelen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358"/>
                </a:solidFill>
                <a:latin typeface="Verdana"/>
              </a:rPr>
              <a:t>81 vakje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604a"/>
                </a:solidFill>
                <a:latin typeface="Verdana"/>
              </a:rPr>
              <a:t>Domeinen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358"/>
                </a:solidFill>
                <a:latin typeface="Verdana"/>
              </a:rPr>
              <a:t>Tussen 1-9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604a"/>
                </a:solidFill>
                <a:latin typeface="Verdana"/>
              </a:rPr>
              <a:t>Constraints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358"/>
                </a:solidFill>
                <a:latin typeface="Verdana"/>
              </a:rPr>
              <a:t>Tussen elke twee variabelen in dezelfde rij, kolom en 3x3 group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747" name=""/>
          <p:cNvSpPr/>
          <p:nvPr/>
        </p:nvSpPr>
        <p:spPr>
          <a:xfrm>
            <a:off x="1133280" y="1523880"/>
            <a:ext cx="76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arti.vub.ac.be/cursus/2005-2006/AI1/taak2/sudoku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051C-F7FA-47C0-88A4-EF8F483E528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8AC7C-D7F2-493F-9E24-EA15EFAC391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Verdana"/>
              </a:rPr>
              <a:t>Taak 2: CSP and sudoku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7520" cy="400716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830480" y="1988640"/>
            <a:ext cx="4189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604a"/>
                </a:solidFill>
                <a:latin typeface="Verdana"/>
              </a:rPr>
              <a:t>DEEL 1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358"/>
                </a:solidFill>
                <a:latin typeface="Verdana"/>
              </a:rPr>
              <a:t>CSP oplossen met forward checking en MGU heuristiek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604a"/>
                </a:solidFill>
                <a:latin typeface="Verdana"/>
              </a:rPr>
              <a:t>DEEL 2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358"/>
                </a:solidFill>
                <a:latin typeface="Verdana"/>
              </a:rPr>
              <a:t>Local search op basis van Evolutionary transition algorithm (ETA)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604a"/>
                </a:solidFill>
                <a:latin typeface="Verdana"/>
              </a:rPr>
              <a:t>Schrijf versla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5CD3-819D-4872-8952-7490BD61560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D6693-C57B-4C77-9672-2B50CBBD8DA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straint grap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9880" y="2224080"/>
            <a:ext cx="537048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SP benefit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tandard representation patter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eneric goal and successor function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eneric heuristics (no domain specific expertise)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3429000" cy="2941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93640" y="173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4197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aint graph = nodes are variables, edges show constrai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 can be used to simplify sear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Tasmania is an independent sub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AD47-C0B8-4E8C-9B77-AE766DC9FD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80F51-5C37-4863-BCFF-AFD2DA3AEA0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Varieties of CSP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iscrete variabl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nite domains; siz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O(d</a:t>
            </a:r>
            <a:r>
              <a:rPr b="0" i="1" lang="en-US" sz="2000" spc="-1" strike="noStrike" baseline="30000">
                <a:solidFill>
                  <a:srgbClr val="7f7358"/>
                </a:solidFill>
                <a:latin typeface="Verdana"/>
              </a:rPr>
              <a:t>n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complete assignment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 Boolean CSPs, include. Boolean satisfiability (NP-complete)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finite domains (integers, strings, etc.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 job scheduling, variables are start/end days for each job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Need a constraint language e.g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StartJob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+5 ≤ StartJob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3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Linear constraints solvable, nonlinear undecidable.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ntinuous variabl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.g. start/end times for Hubble Telescope observa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Linear constraints solvable in poly time by LP method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30A1F-0E12-436A-BFB9-8E7684D0AB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F0023-5AAE-453C-AE5E-964CE3A0CCA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Varieties of constrai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Unary constraints involve a single variabl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A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gree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Binary constraints involve pairs of variabl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A </a:t>
            </a:r>
            <a:r>
              <a:rPr b="0" i="1" lang="en-US" sz="2300" spc="-1" strike="noStrike">
                <a:solidFill>
                  <a:srgbClr val="7f7358"/>
                </a:solidFill>
                <a:latin typeface="Symbol"/>
                <a:ea typeface="Symbol"/>
              </a:rPr>
              <a:t></a:t>
            </a:r>
            <a:r>
              <a:rPr b="0" i="1" lang="en-US" sz="23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WA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Higher-order constraints involve 3 or more variabl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 cryptharithmetic column constraint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reference (soft constraints) e.g.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red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is better than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gree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often representable by a cost for each variable assignment </a:t>
            </a:r>
            <a:r>
              <a:rPr b="0" lang="en-US" sz="2400" spc="-1" strike="noStrike">
                <a:solidFill>
                  <a:srgbClr val="5f604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constrained optimization problem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E6F9-ABF1-4BEB-9FA3-145CE3A920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0D65C-98D2-47CE-8701-5367AB25FB6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4:18:58Z</dcterms:created>
  <dc:creator>ikke dikke</dc:creator>
  <dc:description/>
  <dc:language>en-US</dc:language>
  <cp:lastModifiedBy>ikke dikke</cp:lastModifiedBy>
  <cp:lastPrinted>2006-03-09T14:47:17Z</cp:lastPrinted>
  <dcterms:modified xsi:type="dcterms:W3CDTF">2006-03-17T12:44:33Z</dcterms:modified>
  <cp:revision>198</cp:revision>
  <dc:subject/>
  <dc:title>Artificial Intelligence 1: Constraint Satis- faction problems</dc:title>
</cp:coreProperties>
</file>