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2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16000" y="-360"/>
            <a:ext cx="2917800" cy="492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01800" y="740880"/>
            <a:ext cx="493056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373680"/>
            <a:ext cx="2917800" cy="492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16000" y="9373680"/>
            <a:ext cx="2917800" cy="492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F816E3F-3ED9-407D-8FC8-F557B4284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4B76BF7-ADCA-498D-AFDE-CD974886B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0560" cy="369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968B9E6-AECD-449B-A68F-42DBBD115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0560" cy="369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5E2A994-3EA0-411A-89DE-2AC2FDF70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0560" cy="369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0A38AAE-4B4F-4691-80E4-B4B500945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0560" cy="369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A6F5C3F-5786-4B0C-8B1C-0C5ECE2F3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0560" cy="369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6A6C78C-67BF-4B5E-B077-B145ECE63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0560" cy="369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1CE9AA2-1B98-4D08-B88A-D0EF2B522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0560" cy="369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0315F24-1C41-460F-AF6E-FB96E3460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0560" cy="369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B454888-0FD2-4920-BD39-3BDC701AB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0560" cy="369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995634E-BA58-4660-9463-6580D8768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0560" cy="369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32758AE-6558-421E-A10B-9708A7FD0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0560" cy="369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A762AC4-D1C0-4445-98BB-F4905AC38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0560" cy="369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32D8EF9-0BB1-44AD-96D8-F5E5F0DF9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0560" cy="369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019AD90-B624-4E5F-BED9-6CE719B77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0560" cy="369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A53A18B-7CB1-4FC9-B7CB-1FE58EBFA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0560" cy="369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F530DAD-065A-4215-AAB7-E89F0A457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0560" cy="369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0B066F2-E5B3-457E-84BF-106456D7F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0560" cy="369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0B88D44-6AED-4771-A751-CDCE78BDC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0560" cy="369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F925788-6672-49B1-A8AE-42DDD7041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0560" cy="369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BCD0E10-4F74-4170-A912-24A80FB2A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0560" cy="369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8E6396D-2C01-474C-BBFC-90DF75BC0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0560" cy="369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7AD6EAE-FB29-40B6-BAEE-59A676DCA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0560" cy="369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7619AB3-3766-489B-8BC5-1B4211872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0560" cy="369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909FE20-158B-4BFC-8448-5B3093DB5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0560" cy="369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3AAB1D7-2A81-4470-B836-2A2177FD9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0560" cy="369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F31FC-471F-4354-81ED-8EAEC5F19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5054D-41EB-4DAC-99DF-F89F5715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3F266-A1DA-4CC1-AFFB-E5FC61B8E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39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788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03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39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788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FFC42-6A61-4666-A5F5-F366D8CF9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444A6-116E-4895-8278-8E195DB2C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FA6875-5ACB-4BF6-88CA-44D3C243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0A743-0161-4559-A282-1E8D6286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F98FC-7A2B-44A0-9C5B-5D32F613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0385F-2FFF-4B57-81AF-E519D3CA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7B912-0ED9-4C3A-B148-0DC24566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B410A0-02B1-4C12-9D79-3F262654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4283B-099D-4FDD-AE8E-6DA1CE70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DACC1B-2E77-4780-8300-25B06CC6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13062-35C8-47B0-BD6D-A7C14656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BF1E4-0B28-4CF8-AD03-03B88E99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43ECC9-144C-4D47-A50E-A403B11E1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39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5788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3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39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5788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D7F54-FE15-48E6-AA60-382ABCADA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D9644-C0F1-4F34-8B6F-6EDB9328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FAFA9-38C3-486B-8B61-BC1A5B76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76F70-E7F5-4CBA-A383-7A108E54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489DD-FDF8-4F9C-ABAC-2F2C9191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0FF2C-A158-4118-9EBD-F6789EBD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72CD5-4304-4914-8024-E425DA7C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F1B28-A52F-4CCF-93FF-FC8EA968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207120"/>
            <a:ext cx="9140760" cy="647640"/>
          </a:xfrm>
          <a:prstGeom prst="rect">
            <a:avLst/>
          </a:prstGeom>
          <a:solidFill>
            <a:srgbClr val="abb202"/>
          </a:solidFill>
          <a:ln w="9360">
            <a:solidFill>
              <a:srgbClr val="abb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70720" indent="-270720">
              <a:spcBef>
                <a:spcPts val="10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Click to edit the outline text format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1" marL="586800" indent="-22572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con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2" marL="90288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Thir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3" marL="126396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our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4" marL="1625040" indent="-180360">
              <a:spcBef>
                <a:spcPts val="1001"/>
              </a:spcBef>
              <a:buClr>
                <a:srgbClr val="7f7358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if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5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ix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6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ven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002E-E67C-4246-9825-3317682A2A29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61892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FD29-A7FA-4FDC-8359-203A6948CE24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219640" y="6207120"/>
            <a:ext cx="3922920" cy="216000"/>
          </a:xfrm>
          <a:prstGeom prst="rect">
            <a:avLst/>
          </a:prstGeom>
          <a:solidFill>
            <a:srgbClr val="5f604a"/>
          </a:solidFill>
          <a:ln w="9360">
            <a:solidFill>
              <a:srgbClr val="5f6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46800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1258920" y="6516720"/>
            <a:ext cx="36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Verdana"/>
              </a:rPr>
              <a:t>Pag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0760" cy="5235480"/>
          </a:xfrm>
          <a:prstGeom prst="rect">
            <a:avLst/>
          </a:prstGeom>
          <a:solidFill>
            <a:srgbClr val="7f7358"/>
          </a:solidFill>
          <a:ln w="9360">
            <a:solidFill>
              <a:srgbClr val="7f73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5218200" y="6638760"/>
            <a:ext cx="3922560" cy="216000"/>
          </a:xfrm>
          <a:prstGeom prst="rect">
            <a:avLst/>
          </a:prstGeom>
          <a:solidFill>
            <a:srgbClr val="5f604a"/>
          </a:solidFill>
          <a:ln w="9360">
            <a:solidFill>
              <a:srgbClr val="5f6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" descr="VUB_logo sign"/>
          <p:cNvPicPr/>
          <p:nvPr/>
        </p:nvPicPr>
        <p:blipFill>
          <a:blip r:embed="rId2"/>
          <a:stretch/>
        </p:blipFill>
        <p:spPr>
          <a:xfrm>
            <a:off x="5181480" y="5541840"/>
            <a:ext cx="3490920" cy="706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70720" indent="-270720">
              <a:spcBef>
                <a:spcPts val="10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Click to edit the outline text format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1" marL="586800" indent="-22572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con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2" marL="90288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Thir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3" marL="126396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our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4" marL="1625040" indent="-180360">
              <a:spcBef>
                <a:spcPts val="1001"/>
              </a:spcBef>
              <a:buClr>
                <a:srgbClr val="7f7358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if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5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ix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6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ven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A1ED-5A9A-49F0-91FE-A371BDA235B1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6DED-DBE8-4DFF-92C1-72354716F762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image" Target="../media/image6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79640" y="161892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Artificial Intelligence 1: game playing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79280" y="4138200"/>
            <a:ext cx="7740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ecturer: Tom Lenaerts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WITCH, Vlaams Interuniversitair Instituut voor Biotechnologie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2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AC3D-A865-4BE7-A73C-CBE1A869854B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7105-587D-43BA-99C4-35A6EB0C056D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wo-Ply Game Tre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1523880" y="2514600"/>
            <a:ext cx="7620120" cy="3022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2"/>
          <a:stretch/>
        </p:blipFill>
        <p:spPr>
          <a:xfrm>
            <a:off x="3429000" y="2971800"/>
            <a:ext cx="762120" cy="447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3"/>
          <a:stretch/>
        </p:blipFill>
        <p:spPr>
          <a:xfrm>
            <a:off x="5181480" y="3048120"/>
            <a:ext cx="304920" cy="296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"/>
          <p:cNvPicPr/>
          <p:nvPr/>
        </p:nvPicPr>
        <p:blipFill>
          <a:blip r:embed="rId4"/>
          <a:stretch/>
        </p:blipFill>
        <p:spPr>
          <a:xfrm>
            <a:off x="6629400" y="2905200"/>
            <a:ext cx="762120" cy="4474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"/>
          <p:cNvPicPr/>
          <p:nvPr/>
        </p:nvPicPr>
        <p:blipFill>
          <a:blip r:embed="rId5"/>
          <a:stretch/>
        </p:blipFill>
        <p:spPr>
          <a:xfrm>
            <a:off x="6248520" y="4200480"/>
            <a:ext cx="761760" cy="447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"/>
          <p:cNvPicPr/>
          <p:nvPr/>
        </p:nvPicPr>
        <p:blipFill>
          <a:blip r:embed="rId6"/>
          <a:stretch/>
        </p:blipFill>
        <p:spPr>
          <a:xfrm>
            <a:off x="7238880" y="4343400"/>
            <a:ext cx="304920" cy="2192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"/>
          <p:cNvPicPr/>
          <p:nvPr/>
        </p:nvPicPr>
        <p:blipFill>
          <a:blip r:embed="rId7"/>
          <a:stretch/>
        </p:blipFill>
        <p:spPr>
          <a:xfrm>
            <a:off x="7315200" y="4495680"/>
            <a:ext cx="304920" cy="179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1" descr=""/>
          <p:cNvPicPr/>
          <p:nvPr/>
        </p:nvPicPr>
        <p:blipFill>
          <a:blip r:embed="rId8"/>
          <a:stretch/>
        </p:blipFill>
        <p:spPr>
          <a:xfrm>
            <a:off x="7772400" y="4495680"/>
            <a:ext cx="304920" cy="17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2" descr=""/>
          <p:cNvPicPr/>
          <p:nvPr/>
        </p:nvPicPr>
        <p:blipFill>
          <a:blip r:embed="rId9"/>
          <a:stretch/>
        </p:blipFill>
        <p:spPr>
          <a:xfrm>
            <a:off x="7772400" y="4386240"/>
            <a:ext cx="152280" cy="109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3" descr=""/>
          <p:cNvPicPr/>
          <p:nvPr/>
        </p:nvPicPr>
        <p:blipFill>
          <a:blip r:embed="rId10"/>
          <a:stretch/>
        </p:blipFill>
        <p:spPr>
          <a:xfrm>
            <a:off x="5638680" y="4452840"/>
            <a:ext cx="304920" cy="179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4" descr=""/>
          <p:cNvPicPr/>
          <p:nvPr/>
        </p:nvPicPr>
        <p:blipFill>
          <a:blip r:embed="rId11"/>
          <a:stretch/>
        </p:blipFill>
        <p:spPr>
          <a:xfrm>
            <a:off x="5638680" y="4343400"/>
            <a:ext cx="152640" cy="109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5" descr=""/>
          <p:cNvPicPr/>
          <p:nvPr/>
        </p:nvPicPr>
        <p:blipFill>
          <a:blip r:embed="rId12"/>
          <a:stretch/>
        </p:blipFill>
        <p:spPr>
          <a:xfrm>
            <a:off x="4724280" y="4468680"/>
            <a:ext cx="304920" cy="179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13"/>
          <a:stretch/>
        </p:blipFill>
        <p:spPr>
          <a:xfrm>
            <a:off x="4724280" y="4359240"/>
            <a:ext cx="152640" cy="109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14"/>
          <a:stretch/>
        </p:blipFill>
        <p:spPr>
          <a:xfrm>
            <a:off x="5257800" y="4452840"/>
            <a:ext cx="304920" cy="179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15"/>
          <a:stretch/>
        </p:blipFill>
        <p:spPr>
          <a:xfrm>
            <a:off x="5257800" y="4343400"/>
            <a:ext cx="152280" cy="109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16"/>
          <a:stretch/>
        </p:blipFill>
        <p:spPr>
          <a:xfrm>
            <a:off x="3581280" y="4468680"/>
            <a:ext cx="457200" cy="270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0" descr=""/>
          <p:cNvPicPr/>
          <p:nvPr/>
        </p:nvPicPr>
        <p:blipFill>
          <a:blip r:embed="rId17"/>
          <a:stretch/>
        </p:blipFill>
        <p:spPr>
          <a:xfrm>
            <a:off x="3657600" y="4359240"/>
            <a:ext cx="228600" cy="165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1" descr=""/>
          <p:cNvPicPr/>
          <p:nvPr/>
        </p:nvPicPr>
        <p:blipFill>
          <a:blip r:embed="rId18"/>
          <a:stretch/>
        </p:blipFill>
        <p:spPr>
          <a:xfrm>
            <a:off x="2438280" y="4452840"/>
            <a:ext cx="304920" cy="1796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2" descr=""/>
          <p:cNvPicPr/>
          <p:nvPr/>
        </p:nvPicPr>
        <p:blipFill>
          <a:blip r:embed="rId19"/>
          <a:stretch/>
        </p:blipFill>
        <p:spPr>
          <a:xfrm>
            <a:off x="2438280" y="4343400"/>
            <a:ext cx="152640" cy="109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3" descr=""/>
          <p:cNvPicPr/>
          <p:nvPr/>
        </p:nvPicPr>
        <p:blipFill>
          <a:blip r:embed="rId20"/>
          <a:stretch/>
        </p:blipFill>
        <p:spPr>
          <a:xfrm>
            <a:off x="3124080" y="4452840"/>
            <a:ext cx="304920" cy="1796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4" descr=""/>
          <p:cNvPicPr/>
          <p:nvPr/>
        </p:nvPicPr>
        <p:blipFill>
          <a:blip r:embed="rId21"/>
          <a:stretch/>
        </p:blipFill>
        <p:spPr>
          <a:xfrm>
            <a:off x="3124080" y="4343400"/>
            <a:ext cx="152640" cy="109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6" descr=""/>
          <p:cNvPicPr/>
          <p:nvPr/>
        </p:nvPicPr>
        <p:blipFill>
          <a:blip r:embed="rId22"/>
          <a:stretch/>
        </p:blipFill>
        <p:spPr>
          <a:xfrm>
            <a:off x="3733920" y="3638520"/>
            <a:ext cx="380880" cy="3999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7" descr=""/>
          <p:cNvPicPr/>
          <p:nvPr/>
        </p:nvPicPr>
        <p:blipFill>
          <a:blip r:embed="rId23"/>
          <a:stretch/>
        </p:blipFill>
        <p:spPr>
          <a:xfrm>
            <a:off x="5715000" y="3581280"/>
            <a:ext cx="380880" cy="4003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8" descr=""/>
          <p:cNvPicPr/>
          <p:nvPr/>
        </p:nvPicPr>
        <p:blipFill>
          <a:blip r:embed="rId24"/>
          <a:stretch/>
        </p:blipFill>
        <p:spPr>
          <a:xfrm>
            <a:off x="7543800" y="3581280"/>
            <a:ext cx="380880" cy="4003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9" descr=""/>
          <p:cNvPicPr/>
          <p:nvPr/>
        </p:nvPicPr>
        <p:blipFill>
          <a:blip r:embed="rId25"/>
          <a:stretch/>
        </p:blipFill>
        <p:spPr>
          <a:xfrm>
            <a:off x="5791320" y="2514600"/>
            <a:ext cx="380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Date Placeholder 2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0F1D-D020-4D67-9A6B-6A9E48A7E881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6C92-1512-4CA0-B747-52D99371ED9D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wo-Ply Game Tre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1523880" y="2514600"/>
            <a:ext cx="7620120" cy="3022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"/>
          <p:cNvPicPr/>
          <p:nvPr/>
        </p:nvPicPr>
        <p:blipFill>
          <a:blip r:embed="rId2"/>
          <a:stretch/>
        </p:blipFill>
        <p:spPr>
          <a:xfrm>
            <a:off x="3429000" y="2971800"/>
            <a:ext cx="762120" cy="4478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"/>
          <p:cNvPicPr/>
          <p:nvPr/>
        </p:nvPicPr>
        <p:blipFill>
          <a:blip r:embed="rId3"/>
          <a:stretch/>
        </p:blipFill>
        <p:spPr>
          <a:xfrm>
            <a:off x="5181480" y="3048120"/>
            <a:ext cx="304920" cy="296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4"/>
          <a:stretch/>
        </p:blipFill>
        <p:spPr>
          <a:xfrm>
            <a:off x="6629400" y="2905200"/>
            <a:ext cx="762120" cy="4474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9" descr=""/>
          <p:cNvPicPr/>
          <p:nvPr/>
        </p:nvPicPr>
        <p:blipFill>
          <a:blip r:embed="rId5"/>
          <a:stretch/>
        </p:blipFill>
        <p:spPr>
          <a:xfrm>
            <a:off x="5791320" y="2514600"/>
            <a:ext cx="380880" cy="399960"/>
          </a:xfrm>
          <a:prstGeom prst="rect">
            <a:avLst/>
          </a:prstGeom>
          <a:ln w="0">
            <a:noFill/>
          </a:ln>
        </p:spPr>
      </p:pic>
      <p:sp>
        <p:nvSpPr>
          <p:cNvPr id="201" name="Oval 30"/>
          <p:cNvSpPr/>
          <p:nvPr/>
        </p:nvSpPr>
        <p:spPr>
          <a:xfrm>
            <a:off x="2514600" y="5105520"/>
            <a:ext cx="304920" cy="3045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32"/>
          <p:cNvCxnSpPr>
            <a:stCxn id="201" idx="2"/>
          </p:cNvCxnSpPr>
          <p:nvPr/>
        </p:nvCxnSpPr>
        <p:spPr>
          <a:xfrm flipH="1" rot="10800000">
            <a:off x="2514240" y="3809160"/>
            <a:ext cx="915120" cy="1448640"/>
          </a:xfrm>
          <a:prstGeom prst="curvedConnector5">
            <a:avLst>
              <a:gd name="adj1" fmla="val -24990"/>
              <a:gd name="adj2" fmla="val 39174"/>
              <a:gd name="adj3" fmla="val -24990"/>
            </a:avLst>
          </a:prstGeom>
          <a:ln w="12600">
            <a:solidFill>
              <a:srgbClr val="ff0000"/>
            </a:solidFill>
            <a:miter/>
            <a:tailEnd len="sm" type="triangle" w="sm"/>
          </a:ln>
        </p:spPr>
      </p:cxnSp>
      <p:sp>
        <p:nvSpPr>
          <p:cNvPr id="203" name="Oval 33"/>
          <p:cNvSpPr/>
          <p:nvPr/>
        </p:nvSpPr>
        <p:spPr>
          <a:xfrm>
            <a:off x="8458200" y="5105520"/>
            <a:ext cx="304920" cy="3045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34"/>
          <p:cNvSpPr/>
          <p:nvPr/>
        </p:nvSpPr>
        <p:spPr>
          <a:xfrm>
            <a:off x="4724280" y="5105520"/>
            <a:ext cx="304920" cy="3045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37"/>
          <p:cNvSpPr/>
          <p:nvPr/>
        </p:nvSpPr>
        <p:spPr>
          <a:xfrm flipH="1">
            <a:off x="5333400" y="3809880"/>
            <a:ext cx="75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AutoShape 38"/>
          <p:cNvCxnSpPr>
            <a:stCxn id="204" idx="2"/>
            <a:endCxn id="205" idx="0"/>
          </p:cNvCxnSpPr>
          <p:nvPr/>
        </p:nvCxnSpPr>
        <p:spPr>
          <a:xfrm flipH="1" rot="10800000">
            <a:off x="4724280" y="3809160"/>
            <a:ext cx="648360" cy="1448640"/>
          </a:xfrm>
          <a:prstGeom prst="curvedConnector5">
            <a:avLst>
              <a:gd name="adj1" fmla="val -35277"/>
              <a:gd name="adj2" fmla="val 47899"/>
              <a:gd name="adj3" fmla="val -35277"/>
            </a:avLst>
          </a:prstGeom>
          <a:ln w="1260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207" name="AutoShape 39"/>
          <p:cNvCxnSpPr>
            <a:stCxn id="203" idx="6"/>
          </p:cNvCxnSpPr>
          <p:nvPr/>
        </p:nvCxnSpPr>
        <p:spPr>
          <a:xfrm flipH="1" flipV="1">
            <a:off x="7772040" y="3720240"/>
            <a:ext cx="991440" cy="1537560"/>
          </a:xfrm>
          <a:prstGeom prst="curvedConnector5">
            <a:avLst>
              <a:gd name="adj1" fmla="val -23065"/>
              <a:gd name="adj2" fmla="val 49156"/>
              <a:gd name="adj3" fmla="val -23065"/>
            </a:avLst>
          </a:prstGeom>
          <a:ln w="12600">
            <a:solidFill>
              <a:srgbClr val="ff0000"/>
            </a:solidFill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Date Placeholder 2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E292-1B6C-4289-AC91-102380DF8E64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F4DB-A2D2-4F9B-B48D-98B6057577B9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ooter Placeholder 4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wo-Ply Game Tre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1523880" y="2514600"/>
            <a:ext cx="7620120" cy="3022560"/>
          </a:xfrm>
          <a:prstGeom prst="rect">
            <a:avLst/>
          </a:prstGeom>
          <a:ln w="0">
            <a:noFill/>
          </a:ln>
        </p:spPr>
      </p:pic>
      <p:sp>
        <p:nvSpPr>
          <p:cNvPr id="213" name="Oval 30"/>
          <p:cNvSpPr/>
          <p:nvPr/>
        </p:nvSpPr>
        <p:spPr>
          <a:xfrm>
            <a:off x="3657600" y="3581280"/>
            <a:ext cx="304920" cy="3049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AutoShape 31"/>
          <p:cNvCxnSpPr>
            <a:stCxn id="213" idx="2"/>
          </p:cNvCxnSpPr>
          <p:nvPr/>
        </p:nvCxnSpPr>
        <p:spPr>
          <a:xfrm flipH="1" rot="10800000">
            <a:off x="3657240" y="2666160"/>
            <a:ext cx="1753200" cy="1067760"/>
          </a:xfrm>
          <a:prstGeom prst="curvedConnector5">
            <a:avLst>
              <a:gd name="adj1" fmla="val -13021"/>
              <a:gd name="adj2" fmla="val 49983"/>
              <a:gd name="adj3" fmla="val -13021"/>
            </a:avLst>
          </a:prstGeom>
          <a:ln w="12600">
            <a:solidFill>
              <a:srgbClr val="ff0000"/>
            </a:solidFill>
            <a:miter/>
            <a:tailEnd len="sm" type="triangle" w="sm"/>
          </a:ln>
        </p:spPr>
      </p:cxnSp>
      <p:sp>
        <p:nvSpPr>
          <p:cNvPr id="215" name="Text Box 32"/>
          <p:cNvSpPr/>
          <p:nvPr/>
        </p:nvSpPr>
        <p:spPr>
          <a:xfrm>
            <a:off x="2900520" y="2362320"/>
            <a:ext cx="261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Courier New"/>
              </a:rPr>
              <a:t>The minimax decisio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831960" y="5715000"/>
            <a:ext cx="68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inimax maximizes the worst-case outcome for max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FA29-CD20-4C50-897E-C31204E312D9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15A6-0769-4A5F-9EEA-8695C878423D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What if MIN does not play optimally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Definition of optimal play for MAX assumes MIN plays optimally: maximizes worst-case outcome for MAX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But if MIN does not play optimally, MAX will do even better.  [proven.]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2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74B1-D17A-4400-A0F2-8E8E15C0FDD2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6C890-3512-4237-8041-7B798BA27862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Footer Placeholder 4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Minimax Algorith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1607040" y="1143000"/>
            <a:ext cx="6518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AX-DECISION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return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n ac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pu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urrent state in gam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MAX-VALUE(</a:t>
            </a:r>
            <a:r>
              <a:rPr b="0" i="1" lang="en-US" sz="2000" spc="-1" strike="noStrike">
                <a:solidFill>
                  <a:srgbClr val="000000"/>
                </a:solidFill>
                <a:latin typeface="MS Shell Dlg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S Shell Dlg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MS Shell Dlg"/>
              </a:rPr>
              <a:t>return 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MS Shell Dlg"/>
              </a:rPr>
              <a:t>action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 in SUCCESSORS(</a:t>
            </a:r>
            <a:r>
              <a:rPr b="0" i="1" lang="en-US" sz="2000" spc="-1" strike="noStrike">
                <a:solidFill>
                  <a:srgbClr val="000000"/>
                </a:solidFill>
                <a:latin typeface="MS Shell Dlg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) with value </a:t>
            </a:r>
            <a:r>
              <a:rPr b="0" i="1" lang="en-US" sz="2000" spc="-1" strike="noStrike">
                <a:solidFill>
                  <a:srgbClr val="000000"/>
                </a:solidFill>
                <a:latin typeface="MS Shell Dlg"/>
              </a:rPr>
              <a:t>v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1572480" y="4361040"/>
            <a:ext cx="6289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-VALUE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return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utility valu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RMINAL-TEST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n 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TILITY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∞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S Shell Dlg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MS Shell Dlg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MS Shell Dlg"/>
              </a:rPr>
              <a:t>a,s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 in SUCCESSORS(</a:t>
            </a:r>
            <a:r>
              <a:rPr b="0" i="1" lang="en-US" sz="2000" spc="-1" strike="noStrike">
                <a:solidFill>
                  <a:srgbClr val="000000"/>
                </a:solidFill>
                <a:latin typeface="MS Shell Dlg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MS Shell Dlg"/>
              </a:rPr>
              <a:t>d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MIN(</a:t>
            </a:r>
            <a:r>
              <a:rPr b="0" i="1" lang="en-US" sz="2000" spc="-1" strike="noStrike">
                <a:solidFill>
                  <a:srgbClr val="000000"/>
                </a:solidFill>
                <a:latin typeface="MS Shell Dlg"/>
              </a:rPr>
              <a:t>v,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MAX-VALUE(</a:t>
            </a:r>
            <a:r>
              <a:rPr b="0" i="1" lang="en-US" sz="2000" spc="-1" strike="noStrike">
                <a:solidFill>
                  <a:srgbClr val="000000"/>
                </a:solidFill>
                <a:latin typeface="MS Shell Dlg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)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S Shell Dlg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MS Shell Dlg"/>
              </a:rPr>
              <a:t>retur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1572480" y="2467080"/>
            <a:ext cx="6289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-VALUE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return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utility valu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RMINAL-TEST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n 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TILITY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∞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S Shell Dlg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MS Shell Dlg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MS Shell Dlg"/>
              </a:rPr>
              <a:t>a,s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 in SUCCESSORS(</a:t>
            </a:r>
            <a:r>
              <a:rPr b="0" i="1" lang="en-US" sz="2000" spc="-1" strike="noStrike">
                <a:solidFill>
                  <a:srgbClr val="000000"/>
                </a:solidFill>
                <a:latin typeface="MS Shell Dlg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MS Shell Dlg"/>
              </a:rPr>
              <a:t>d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MAX(</a:t>
            </a:r>
            <a:r>
              <a:rPr b="0" i="1" lang="en-US" sz="2000" spc="-1" strike="noStrike">
                <a:solidFill>
                  <a:srgbClr val="000000"/>
                </a:solidFill>
                <a:latin typeface="MS Shell Dlg"/>
              </a:rPr>
              <a:t>v,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MIN-VALUE(</a:t>
            </a:r>
            <a:r>
              <a:rPr b="0" i="1" lang="en-US" sz="2000" spc="-1" strike="noStrike">
                <a:solidFill>
                  <a:srgbClr val="000000"/>
                </a:solidFill>
                <a:latin typeface="MS Shell Dlg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)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S Shell Dlg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MS Shell Dlg"/>
              </a:rPr>
              <a:t>retur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8"/>
          <p:cNvSpPr/>
          <p:nvPr/>
        </p:nvSpPr>
        <p:spPr>
          <a:xfrm>
            <a:off x="1047600" y="251460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1"/>
          <p:cNvSpPr/>
          <p:nvPr/>
        </p:nvSpPr>
        <p:spPr>
          <a:xfrm>
            <a:off x="1047600" y="434340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13"/>
          <p:cNvSpPr/>
          <p:nvPr/>
        </p:nvSpPr>
        <p:spPr>
          <a:xfrm>
            <a:off x="1657440" y="1752480"/>
            <a:ext cx="3047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4"/>
          <p:cNvSpPr/>
          <p:nvPr/>
        </p:nvSpPr>
        <p:spPr>
          <a:xfrm>
            <a:off x="1657440" y="2133720"/>
            <a:ext cx="655308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1657440" y="3733920"/>
            <a:ext cx="373356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1657440" y="5638680"/>
            <a:ext cx="373356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8"/>
          <p:cNvSpPr/>
          <p:nvPr/>
        </p:nvSpPr>
        <p:spPr>
          <a:xfrm>
            <a:off x="6000840" y="2819520"/>
            <a:ext cx="1904760" cy="228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2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44E9-B45C-42F8-91AB-CF6DBFE4E139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D99D-08D9-4784-98FF-F0779E462753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Footer Placeholder 4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roperties of Minimax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819520" y="1828800"/>
          <a:ext cx="3962160" cy="2514600"/>
        </p:xfrm>
        <a:graphic>
          <a:graphicData uri="http://schemas.openxmlformats.org/drawingml/2006/table">
            <a:tbl>
              <a:tblPr/>
              <a:tblGrid>
                <a:gridCol w="2398680"/>
                <a:gridCol w="156348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iterion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nimax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(b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ac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(bm)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Text Box 42"/>
          <p:cNvSpPr/>
          <p:nvPr/>
        </p:nvSpPr>
        <p:spPr>
          <a:xfrm>
            <a:off x="6173640" y="365760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3"/>
          <p:cNvSpPr/>
          <p:nvPr/>
        </p:nvSpPr>
        <p:spPr>
          <a:xfrm>
            <a:off x="6097320" y="281952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D358-0A9E-4818-93E2-9A181C759012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31C9-D564-40B1-8FAF-201570F7327E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Multiplayer gam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Games allow more than two player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Single minimax values become vector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48" name="Picture 4" descr="_x000c_minimax3.pdf                                                   00105F05_x0006_IRIDIA                         BC96F375:"/>
          <p:cNvPicPr/>
          <p:nvPr/>
        </p:nvPicPr>
        <p:blipFill>
          <a:blip r:embed="rId1"/>
          <a:stretch/>
        </p:blipFill>
        <p:spPr>
          <a:xfrm>
            <a:off x="787320" y="2949480"/>
            <a:ext cx="744228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31B2-1B54-48C6-A3B0-CC9CE05EFDD0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B5BA-F34B-4D37-A58B-5623E03647E8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roblem of minimax 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Number of games states is exponential to the number of moves.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Solution: Do not examine every node 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==&gt; Alpha-beta pruning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Remove branches that do not influence final decision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Revisit example …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2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1A3E-562F-4442-BAF2-AC6950B2028E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80E6-8C16-4080-A571-85CCCE2495E7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lpha-Beta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8" name="Picture 29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7010640" cy="425916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33"/>
          <p:cNvSpPr/>
          <p:nvPr/>
        </p:nvSpPr>
        <p:spPr>
          <a:xfrm>
            <a:off x="3429000" y="5638680"/>
            <a:ext cx="236232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34"/>
          <p:cNvSpPr/>
          <p:nvPr/>
        </p:nvSpPr>
        <p:spPr>
          <a:xfrm>
            <a:off x="3504240" y="379404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-∞, +∞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35"/>
          <p:cNvSpPr/>
          <p:nvPr/>
        </p:nvSpPr>
        <p:spPr>
          <a:xfrm>
            <a:off x="5866560" y="2514600"/>
            <a:ext cx="100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-∞,+∞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37"/>
          <p:cNvSpPr/>
          <p:nvPr/>
        </p:nvSpPr>
        <p:spPr>
          <a:xfrm>
            <a:off x="4952880" y="3809880"/>
            <a:ext cx="236232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38"/>
          <p:cNvSpPr/>
          <p:nvPr/>
        </p:nvSpPr>
        <p:spPr>
          <a:xfrm>
            <a:off x="7315200" y="2438280"/>
            <a:ext cx="53352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Oval 39"/>
          <p:cNvSpPr/>
          <p:nvPr/>
        </p:nvSpPr>
        <p:spPr>
          <a:xfrm>
            <a:off x="5638680" y="2438280"/>
            <a:ext cx="1447920" cy="6858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0"/>
          <p:cNvSpPr/>
          <p:nvPr/>
        </p:nvSpPr>
        <p:spPr>
          <a:xfrm>
            <a:off x="4272480" y="2133720"/>
            <a:ext cx="31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Courier New"/>
              </a:rPr>
              <a:t>Range of possible value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1"/>
          <p:cNvSpPr/>
          <p:nvPr/>
        </p:nvSpPr>
        <p:spPr>
          <a:xfrm>
            <a:off x="532080" y="1523880"/>
            <a:ext cx="38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 DF-search until first lea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Date Placeholder 2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1EEC-7540-44E8-AADD-BD5F7236A6FE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15C4-800B-4A43-ADDC-AF8F06CB9121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Alpha-Beta Example (continued)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7010640" cy="425952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4"/>
          <p:cNvSpPr/>
          <p:nvPr/>
        </p:nvSpPr>
        <p:spPr>
          <a:xfrm>
            <a:off x="4495680" y="5486400"/>
            <a:ext cx="12956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3552120" y="3641760"/>
            <a:ext cx="81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[-∞,3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5866560" y="2362320"/>
            <a:ext cx="100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-∞,+∞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Group 9"/>
          <p:cNvGrpSpPr/>
          <p:nvPr/>
        </p:nvGrpSpPr>
        <p:grpSpPr>
          <a:xfrm>
            <a:off x="4965840" y="3643200"/>
            <a:ext cx="444240" cy="319320"/>
            <a:chOff x="4965840" y="3643200"/>
            <a:chExt cx="444240" cy="319320"/>
          </a:xfrm>
        </p:grpSpPr>
        <p:pic>
          <p:nvPicPr>
            <p:cNvPr id="276" name="Picture 7" descr=""/>
            <p:cNvPicPr/>
            <p:nvPr/>
          </p:nvPicPr>
          <p:blipFill>
            <a:blip r:embed="rId2"/>
            <a:stretch/>
          </p:blipFill>
          <p:spPr>
            <a:xfrm>
              <a:off x="4965840" y="3657600"/>
              <a:ext cx="26028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8" descr=""/>
            <p:cNvPicPr/>
            <p:nvPr/>
          </p:nvPicPr>
          <p:blipFill>
            <a:blip r:embed="rId3"/>
            <a:stretch/>
          </p:blipFill>
          <p:spPr>
            <a:xfrm>
              <a:off x="5175360" y="3643200"/>
              <a:ext cx="234720" cy="31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CA7F-51B7-45B8-86BB-0B30945CAC4D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F51A-A737-4564-BAFB-DB7C655F57B0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utlin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What are games?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Optimal decisions in games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Which strategy  leads to success?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f604a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-</a:t>
            </a:r>
            <a:r>
              <a:rPr b="0" lang="en-US" sz="3200" spc="-1" strike="noStrike">
                <a:solidFill>
                  <a:srgbClr val="5f604a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 pruning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Games of imperfect information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Games that include an element of chance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Date Placeholder 2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9058-7926-433E-AF37-7A68A037F331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6697-B828-41E0-95F5-E66F4AFC8DE1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ooter Placeholder 4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Alpha-Beta Example (continued)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2" name="Picture 3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7010640" cy="425916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"/>
          <p:cNvSpPr/>
          <p:nvPr/>
        </p:nvSpPr>
        <p:spPr>
          <a:xfrm>
            <a:off x="3552120" y="3718080"/>
            <a:ext cx="81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-∞,3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5866560" y="2438280"/>
            <a:ext cx="100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-∞,+∞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5410080" y="5562720"/>
            <a:ext cx="457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Group 7"/>
          <p:cNvGrpSpPr/>
          <p:nvPr/>
        </p:nvGrpSpPr>
        <p:grpSpPr>
          <a:xfrm>
            <a:off x="4965840" y="3719520"/>
            <a:ext cx="444240" cy="318960"/>
            <a:chOff x="4965840" y="3719520"/>
            <a:chExt cx="444240" cy="318960"/>
          </a:xfrm>
        </p:grpSpPr>
        <p:pic>
          <p:nvPicPr>
            <p:cNvPr id="287" name="Picture 8" descr=""/>
            <p:cNvPicPr/>
            <p:nvPr/>
          </p:nvPicPr>
          <p:blipFill>
            <a:blip r:embed="rId2"/>
            <a:stretch/>
          </p:blipFill>
          <p:spPr>
            <a:xfrm>
              <a:off x="4965840" y="3733560"/>
              <a:ext cx="26028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9" descr=""/>
            <p:cNvPicPr/>
            <p:nvPr/>
          </p:nvPicPr>
          <p:blipFill>
            <a:blip r:embed="rId3"/>
            <a:stretch/>
          </p:blipFill>
          <p:spPr>
            <a:xfrm>
              <a:off x="5175360" y="3719520"/>
              <a:ext cx="234720" cy="318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Date Placeholder 2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1CA1-804A-4AE9-8E46-34408023C306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D308-D8B4-491A-9078-6E5E44DDF047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Footer Placeholder 4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Alpha-Beta Example (continued)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7010640" cy="425916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4"/>
          <p:cNvSpPr/>
          <p:nvPr/>
        </p:nvSpPr>
        <p:spPr>
          <a:xfrm>
            <a:off x="5866920" y="2209680"/>
            <a:ext cx="86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[3,+∞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3733200" y="348948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[3,3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2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B690-B025-4526-82EE-0A0151B9805C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95C3-7C83-41EA-BB77-3299BED00161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ooter Placeholder 4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Alpha-Beta Example (continued)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0" name="Picture 3" descr=""/>
          <p:cNvPicPr/>
          <p:nvPr/>
        </p:nvPicPr>
        <p:blipFill>
          <a:blip r:embed="rId1"/>
          <a:stretch/>
        </p:blipFill>
        <p:spPr>
          <a:xfrm>
            <a:off x="1260360" y="1600200"/>
            <a:ext cx="6819840" cy="436716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4"/>
          <p:cNvSpPr/>
          <p:nvPr/>
        </p:nvSpPr>
        <p:spPr>
          <a:xfrm>
            <a:off x="5298120" y="3465360"/>
            <a:ext cx="81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[-∞,2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5222520" y="2185920"/>
            <a:ext cx="86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3,+∞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3088440" y="346536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3,3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7"/>
          <p:cNvSpPr/>
          <p:nvPr/>
        </p:nvSpPr>
        <p:spPr>
          <a:xfrm>
            <a:off x="4994280" y="3252960"/>
            <a:ext cx="2438280" cy="9144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6361560" y="2475000"/>
            <a:ext cx="278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Courier New"/>
              </a:rPr>
              <a:t>This node is worse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Courier New"/>
              </a:rPr>
              <a:t>for MAX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2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2D20-788C-4B36-BBD1-31609419DF74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2554-4D26-4F90-8FD4-4197E1BF24AC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ooter Placeholder 4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Alpha-Beta Example (continued)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0" name="Picture 5" descr=""/>
          <p:cNvPicPr/>
          <p:nvPr/>
        </p:nvPicPr>
        <p:blipFill>
          <a:blip r:embed="rId1"/>
          <a:stretch/>
        </p:blipFill>
        <p:spPr>
          <a:xfrm>
            <a:off x="1523880" y="2362320"/>
            <a:ext cx="7391520" cy="324648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6"/>
          <p:cNvSpPr/>
          <p:nvPr/>
        </p:nvSpPr>
        <p:spPr>
          <a:xfrm>
            <a:off x="4618800" y="3641760"/>
            <a:ext cx="81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-∞,2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4611960" y="251460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3,14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2682000" y="364176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3,3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6399360" y="3641760"/>
            <a:ext cx="9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[-∞,14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2"/>
          <a:stretch/>
        </p:blipFill>
        <p:spPr>
          <a:xfrm>
            <a:off x="6324480" y="2509920"/>
            <a:ext cx="685800" cy="38556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12"/>
          <p:cNvSpPr/>
          <p:nvPr/>
        </p:nvSpPr>
        <p:spPr>
          <a:xfrm>
            <a:off x="6156360" y="24382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Date Placeholder 2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BEA8-9E16-4E12-9866-16CC0AEDA6D2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8D7B-A0EC-4906-8550-6D43D2BDDB20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Footer Placeholder 4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Alpha-Beta Example (continued)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1" name="Picture 5" descr=""/>
          <p:cNvPicPr/>
          <p:nvPr/>
        </p:nvPicPr>
        <p:blipFill>
          <a:blip r:embed="rId1"/>
          <a:stretch/>
        </p:blipFill>
        <p:spPr>
          <a:xfrm>
            <a:off x="1523880" y="2405160"/>
            <a:ext cx="7539120" cy="31716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6"/>
          <p:cNvSpPr/>
          <p:nvPr/>
        </p:nvSpPr>
        <p:spPr>
          <a:xfrm>
            <a:off x="4611240" y="3641760"/>
            <a:ext cx="86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−∞,2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4815720" y="249876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3,5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2409120" y="364176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3,3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10"/>
          <p:cNvSpPr/>
          <p:nvPr/>
        </p:nvSpPr>
        <p:spPr>
          <a:xfrm>
            <a:off x="6599880" y="3641760"/>
            <a:ext cx="81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[-∞,5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Picture 11" descr=""/>
          <p:cNvPicPr/>
          <p:nvPr/>
        </p:nvPicPr>
        <p:blipFill>
          <a:blip r:embed="rId2"/>
          <a:stretch/>
        </p:blipFill>
        <p:spPr>
          <a:xfrm>
            <a:off x="6411960" y="2419200"/>
            <a:ext cx="522360" cy="47628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12"/>
          <p:cNvSpPr/>
          <p:nvPr/>
        </p:nvSpPr>
        <p:spPr>
          <a:xfrm>
            <a:off x="6218280" y="243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Date Placeholder 2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F333-3F3C-428C-B6C5-919981F8FF7F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82BA-154B-4EF2-BC17-DEB2EAEF5A2C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Footer Placeholder 4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Alpha-Beta Example (continued)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2" name="Picture 4" descr=""/>
          <p:cNvPicPr/>
          <p:nvPr/>
        </p:nvPicPr>
        <p:blipFill>
          <a:blip r:embed="rId1"/>
          <a:stretch/>
        </p:blipFill>
        <p:spPr>
          <a:xfrm>
            <a:off x="1600200" y="2346480"/>
            <a:ext cx="7467480" cy="298764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5"/>
          <p:cNvSpPr/>
          <p:nvPr/>
        </p:nvSpPr>
        <p:spPr>
          <a:xfrm>
            <a:off x="6171480" y="341316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[2,2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4258800" y="3429000"/>
            <a:ext cx="86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−∞,2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4463280" y="242244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[3,3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8"/>
          <p:cNvSpPr/>
          <p:nvPr/>
        </p:nvSpPr>
        <p:spPr>
          <a:xfrm>
            <a:off x="2529720" y="342900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3,3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Picture 11" descr=""/>
          <p:cNvPicPr/>
          <p:nvPr/>
        </p:nvPicPr>
        <p:blipFill>
          <a:blip r:embed="rId2"/>
          <a:stretch/>
        </p:blipFill>
        <p:spPr>
          <a:xfrm>
            <a:off x="5410080" y="2398680"/>
            <a:ext cx="685800" cy="3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Date Placeholder 2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99CB-7755-4628-886B-92ECB98C4F84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02B6-5881-464B-AFE9-139FA5D13B61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Alpha-Beta Example (continued)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2" name="Picture 3" descr=""/>
          <p:cNvPicPr/>
          <p:nvPr/>
        </p:nvPicPr>
        <p:blipFill>
          <a:blip r:embed="rId1"/>
          <a:stretch/>
        </p:blipFill>
        <p:spPr>
          <a:xfrm>
            <a:off x="1600200" y="2346480"/>
            <a:ext cx="7467480" cy="29876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4"/>
          <p:cNvSpPr/>
          <p:nvPr/>
        </p:nvSpPr>
        <p:spPr>
          <a:xfrm>
            <a:off x="6171480" y="341316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,2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4266360" y="3429000"/>
            <a:ext cx="81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-∞,2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4463280" y="242244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3,3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2529720" y="342900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3,3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Picture 8" descr=""/>
          <p:cNvPicPr/>
          <p:nvPr/>
        </p:nvPicPr>
        <p:blipFill>
          <a:blip r:embed="rId2"/>
          <a:stretch/>
        </p:blipFill>
        <p:spPr>
          <a:xfrm>
            <a:off x="5410080" y="2398680"/>
            <a:ext cx="685800" cy="3160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9" descr=""/>
          <p:cNvPicPr/>
          <p:nvPr/>
        </p:nvPicPr>
        <p:blipFill>
          <a:blip r:embed="rId3"/>
          <a:stretch/>
        </p:blipFill>
        <p:spPr>
          <a:xfrm>
            <a:off x="5486400" y="2498760"/>
            <a:ext cx="257040" cy="244440"/>
          </a:xfrm>
          <a:prstGeom prst="rect">
            <a:avLst/>
          </a:prstGeom>
          <a:ln w="0">
            <a:noFill/>
          </a:ln>
        </p:spPr>
      </p:pic>
      <p:sp>
        <p:nvSpPr>
          <p:cNvPr id="349" name="Oval 10"/>
          <p:cNvSpPr/>
          <p:nvPr/>
        </p:nvSpPr>
        <p:spPr>
          <a:xfrm>
            <a:off x="5410080" y="2438280"/>
            <a:ext cx="381240" cy="3812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Date Placeholder 2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FEFD-4E11-4EA4-911C-71AA9379273C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5308-C505-4870-B0E4-DCDA0086DBC1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Footer Placeholder 4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lpha-Beta Algorith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1759320" y="1752480"/>
            <a:ext cx="6518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PHA-BETA-SEARCH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return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n ac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pu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urrent state in gam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MAX-VALUE(</a:t>
            </a:r>
            <a:r>
              <a:rPr b="0" i="1" lang="en-US" sz="2000" spc="-1" strike="noStrike">
                <a:solidFill>
                  <a:srgbClr val="000000"/>
                </a:solidFill>
                <a:latin typeface="MS Shell Dlg"/>
              </a:rPr>
              <a:t>state,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∞</a:t>
            </a:r>
            <a:r>
              <a:rPr b="0" i="1" lang="en-US" sz="2000" spc="-1" strike="noStrike">
                <a:solidFill>
                  <a:srgbClr val="000000"/>
                </a:solidFill>
                <a:latin typeface="MS Shell Dlg"/>
              </a:rPr>
              <a:t> , 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∞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S Shell Dlg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MS Shell Dlg"/>
              </a:rPr>
              <a:t>return 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MS Shell Dlg"/>
              </a:rPr>
              <a:t>action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 in SUCCESSORS(</a:t>
            </a:r>
            <a:r>
              <a:rPr b="0" i="1" lang="en-US" sz="2000" spc="-1" strike="noStrike">
                <a:solidFill>
                  <a:srgbClr val="000000"/>
                </a:solidFill>
                <a:latin typeface="MS Shell Dlg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) with value </a:t>
            </a:r>
            <a:r>
              <a:rPr b="0" i="1" lang="en-US" sz="2000" spc="-1" strike="noStrike">
                <a:solidFill>
                  <a:srgbClr val="000000"/>
                </a:solidFill>
                <a:latin typeface="MS Shell Dlg"/>
              </a:rPr>
              <a:t>v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1742400" y="3429000"/>
            <a:ext cx="62895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-VALUE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ate,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return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utility valu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RMINAL-TEST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n 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TILITY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∞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S Shell Dlg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MS Shell Dlg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MS Shell Dlg"/>
              </a:rPr>
              <a:t>a,s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 in SUCCESSORS(</a:t>
            </a:r>
            <a:r>
              <a:rPr b="0" i="1" lang="en-US" sz="2000" spc="-1" strike="noStrike">
                <a:solidFill>
                  <a:srgbClr val="000000"/>
                </a:solidFill>
                <a:latin typeface="MS Shell Dlg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MS Shell Dlg"/>
              </a:rPr>
              <a:t>d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MAX(</a:t>
            </a:r>
            <a:r>
              <a:rPr b="0" i="1" lang="en-US" sz="2000" spc="-1" strike="noStrike">
                <a:solidFill>
                  <a:srgbClr val="000000"/>
                </a:solidFill>
                <a:latin typeface="MS Shell Dlg"/>
              </a:rPr>
              <a:t>v,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MIN-VALUE(</a:t>
            </a:r>
            <a:r>
              <a:rPr b="0" i="1" lang="en-US" sz="2000" spc="-1" strike="noStrike">
                <a:solidFill>
                  <a:srgbClr val="000000"/>
                </a:solidFill>
                <a:latin typeface="MS Shell Dlg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)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MS Shell Dlg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 ≥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MS Shell Dlg"/>
              </a:rPr>
              <a:t>then return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S Shell Dlg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MS Shell Dlg"/>
              </a:rPr>
              <a:t>retur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6"/>
          <p:cNvSpPr/>
          <p:nvPr/>
        </p:nvSpPr>
        <p:spPr>
          <a:xfrm>
            <a:off x="1217520" y="346068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8"/>
          <p:cNvSpPr/>
          <p:nvPr/>
        </p:nvSpPr>
        <p:spPr>
          <a:xfrm>
            <a:off x="1809720" y="2362320"/>
            <a:ext cx="388620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10"/>
          <p:cNvSpPr/>
          <p:nvPr/>
        </p:nvSpPr>
        <p:spPr>
          <a:xfrm>
            <a:off x="1827360" y="4680000"/>
            <a:ext cx="4343400" cy="9586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3"/>
          <p:cNvSpPr/>
          <p:nvPr/>
        </p:nvSpPr>
        <p:spPr>
          <a:xfrm>
            <a:off x="2741760" y="3460680"/>
            <a:ext cx="28191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Date Placeholder 2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6317-EEEF-4232-87D5-CDF9B8E36C3B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6E5C-D68D-478D-954B-7652E01D62C8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Footer Placeholder 4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lpha-Beta Algorith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1590120" y="2514600"/>
            <a:ext cx="62895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-VALUE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ate,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return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utility valu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RMINAL-TEST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n 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TILITY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∞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S Shell Dlg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MS Shell Dlg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MS Shell Dlg"/>
              </a:rPr>
              <a:t>a,s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 in SUCCESSORS(</a:t>
            </a:r>
            <a:r>
              <a:rPr b="0" i="1" lang="en-US" sz="2000" spc="-1" strike="noStrike">
                <a:solidFill>
                  <a:srgbClr val="000000"/>
                </a:solidFill>
                <a:latin typeface="MS Shell Dlg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MS Shell Dlg"/>
              </a:rPr>
              <a:t>d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MIN(</a:t>
            </a:r>
            <a:r>
              <a:rPr b="0" i="1" lang="en-US" sz="2000" spc="-1" strike="noStrike">
                <a:solidFill>
                  <a:srgbClr val="000000"/>
                </a:solidFill>
                <a:latin typeface="MS Shell Dlg"/>
              </a:rPr>
              <a:t>v,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MAX-VALUE(</a:t>
            </a:r>
            <a:r>
              <a:rPr b="0" i="1" lang="en-US" sz="2000" spc="-1" strike="noStrike">
                <a:solidFill>
                  <a:srgbClr val="000000"/>
                </a:solidFill>
                <a:latin typeface="MS Shell Dlg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)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S Shell Dlg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MS Shell Dlg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 ≤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MS Shell Dlg"/>
              </a:rPr>
              <a:t>then return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S Shell Dlg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MS Shell Dlg"/>
              </a:rPr>
              <a:t>retur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7"/>
          <p:cNvSpPr/>
          <p:nvPr/>
        </p:nvSpPr>
        <p:spPr>
          <a:xfrm>
            <a:off x="1065240" y="248112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10"/>
          <p:cNvSpPr/>
          <p:nvPr/>
        </p:nvSpPr>
        <p:spPr>
          <a:xfrm>
            <a:off x="1674720" y="3776760"/>
            <a:ext cx="4267440" cy="947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2"/>
          <p:cNvSpPr/>
          <p:nvPr/>
        </p:nvSpPr>
        <p:spPr>
          <a:xfrm>
            <a:off x="2589120" y="2481120"/>
            <a:ext cx="281952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Date Placeholder 4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0ADC-1B8C-416D-B258-A2A1350D508D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Slide Number Placeholder 5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B174-8744-4073-8E4C-7B68330642AB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Footer Placeholder 6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eneral alpha-beta prun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906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Consider a node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somewhere in the tree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If player has a better choice at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Parent node of n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Or any choice point further up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will </a:t>
            </a:r>
            <a:r>
              <a:rPr b="1" lang="en-US" sz="2400" spc="-1" strike="noStrike">
                <a:solidFill>
                  <a:srgbClr val="5f604a"/>
                </a:solidFill>
                <a:latin typeface="Verdana"/>
              </a:rPr>
              <a:t>never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be reached in actual play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Hence when enough is known about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, it can be pruned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373" name="Picture 7" descr="_x0016_alpha-beta-general.pdf                                         00105F05_x0006_IRIDIA                         BC96F375:"/>
          <p:cNvPicPr/>
          <p:nvPr/>
        </p:nvPicPr>
        <p:blipFill>
          <a:blip r:embed="rId1"/>
          <a:stretch/>
        </p:blipFill>
        <p:spPr>
          <a:xfrm>
            <a:off x="4834080" y="2236680"/>
            <a:ext cx="418608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0325-E9BE-4F1D-A61E-648970B1074B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5F30-451B-44CC-8837-0F00E0C9FC36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What are and why study games?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Games are a form of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multi-agent environment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What do other agents do and how do they affect our success?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Cooperative vs. competitive multi-agent environments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Competitive multi-agent environments give rise to adversarial search a.k.a.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games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Why study games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Fun; historically entertaining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Interesting subject of study because they are hard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Easy to represent and agents restricted to small number of actions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2A8D-43BB-46E3-B880-9ADFA3DBAC7A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FF37-CC70-4023-813B-ECAA68191B3D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nal Comments about Alpha-Beta Pruning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Pruning does not affect final results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Entire subtrees can be pruned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Good move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ordering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improves effectiveness of pruning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With “perfect ordering,” time complexity is O(b</a:t>
            </a:r>
            <a:r>
              <a:rPr b="0" lang="en-US" sz="2400" spc="-1" strike="noStrike" baseline="30000">
                <a:solidFill>
                  <a:srgbClr val="5f604a"/>
                </a:solidFill>
                <a:latin typeface="Verdana"/>
              </a:rPr>
              <a:t>m/2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Branching factor of sqrt(b) !!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Alpha-beta pruning can look twice as far as minimax in the same amount of time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Repeated states are again possible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Store them in memory = transposition table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48CF-869E-4E63-B58F-A258B018330A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F6EA-93A1-4371-8A4B-FB7CBC432E66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Games of imperfect information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Minimax and alpha-beta pruning require too much leaf-node evaluations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May be impractical within a reasonable amount of time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SHANNON (1950)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ut off search earlier (replace TERMINAL-TEST by CUTOFF-TEST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pply heuristic evaluation function EVAL (replacing utility function of alpha-beta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C13A-49C3-4008-87E9-9156643EA19E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1306-6559-461E-A7E2-6824D5A07775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tting off 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604a"/>
                </a:solidFill>
                <a:latin typeface="Verdana"/>
              </a:rPr>
              <a:t>Change</a:t>
            </a:r>
            <a:r>
              <a:rPr b="1" lang="en-US" sz="3000" spc="-1" strike="noStrike">
                <a:solidFill>
                  <a:srgbClr val="5f604a"/>
                </a:solidFill>
                <a:latin typeface="Verdana"/>
              </a:rPr>
              <a:t>:</a:t>
            </a:r>
            <a:endParaRPr b="0" lang="en-US" sz="3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7358"/>
                </a:solidFill>
                <a:latin typeface="Verdana"/>
              </a:rPr>
              <a:t>if </a:t>
            </a:r>
            <a:r>
              <a:rPr b="0" lang="en-US" sz="2100" spc="-1" strike="noStrike">
                <a:solidFill>
                  <a:srgbClr val="7f7358"/>
                </a:solidFill>
                <a:latin typeface="Verdana"/>
              </a:rPr>
              <a:t>TERMINAL-TEST(</a:t>
            </a:r>
            <a:r>
              <a:rPr b="0" i="1" lang="en-US" sz="2100" spc="-1" strike="noStrike">
                <a:solidFill>
                  <a:srgbClr val="7f7358"/>
                </a:solidFill>
                <a:latin typeface="Verdana"/>
              </a:rPr>
              <a:t>state</a:t>
            </a:r>
            <a:r>
              <a:rPr b="0" lang="en-US" sz="2100" spc="-1" strike="noStrike">
                <a:solidFill>
                  <a:srgbClr val="7f7358"/>
                </a:solidFill>
                <a:latin typeface="Verdana"/>
              </a:rPr>
              <a:t>) </a:t>
            </a:r>
            <a:r>
              <a:rPr b="1" lang="en-US" sz="2100" spc="-1" strike="noStrike">
                <a:solidFill>
                  <a:srgbClr val="7f7358"/>
                </a:solidFill>
                <a:latin typeface="Verdana"/>
              </a:rPr>
              <a:t>then return</a:t>
            </a:r>
            <a:r>
              <a:rPr b="0" lang="en-US" sz="2100" spc="-1" strike="noStrike">
                <a:solidFill>
                  <a:srgbClr val="7f7358"/>
                </a:solidFill>
                <a:latin typeface="Verdana"/>
              </a:rPr>
              <a:t> UTILITY(</a:t>
            </a:r>
            <a:r>
              <a:rPr b="0" i="1" lang="en-US" sz="2100" spc="-1" strike="noStrike">
                <a:solidFill>
                  <a:srgbClr val="7f7358"/>
                </a:solidFill>
                <a:latin typeface="Verdana"/>
              </a:rPr>
              <a:t>state</a:t>
            </a:r>
            <a:r>
              <a:rPr b="0" lang="en-US" sz="2100" spc="-1" strike="noStrike">
                <a:solidFill>
                  <a:srgbClr val="7f7358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5f604a"/>
                </a:solidFill>
                <a:latin typeface="Verdana"/>
              </a:rPr>
              <a:t>into</a:t>
            </a:r>
            <a:endParaRPr b="0" lang="en-US" sz="2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7f7358"/>
                </a:solidFill>
                <a:latin typeface="Verdana"/>
              </a:rPr>
              <a:t>if </a:t>
            </a: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CUTOFF-TEST(</a:t>
            </a:r>
            <a:r>
              <a:rPr b="0" i="1" lang="en-US" sz="1900" spc="-1" strike="noStrike">
                <a:solidFill>
                  <a:srgbClr val="7f7358"/>
                </a:solidFill>
                <a:latin typeface="Verdana"/>
              </a:rPr>
              <a:t>state,depth</a:t>
            </a: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) </a:t>
            </a:r>
            <a:r>
              <a:rPr b="1" lang="en-US" sz="1900" spc="-1" strike="noStrike">
                <a:solidFill>
                  <a:srgbClr val="7f7358"/>
                </a:solidFill>
                <a:latin typeface="Verdana"/>
              </a:rPr>
              <a:t>then return</a:t>
            </a: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 EVAL(</a:t>
            </a:r>
            <a:r>
              <a:rPr b="0" i="1" lang="en-US" sz="1900" spc="-1" strike="noStrike">
                <a:solidFill>
                  <a:srgbClr val="7f7358"/>
                </a:solidFill>
                <a:latin typeface="Verdana"/>
              </a:rPr>
              <a:t>state</a:t>
            </a: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)</a:t>
            </a: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604a"/>
                </a:solidFill>
                <a:latin typeface="Verdana"/>
              </a:rPr>
              <a:t>Introduces a fixed-depth limit </a:t>
            </a:r>
            <a:r>
              <a:rPr b="0" i="1" lang="en-US" sz="2600" spc="-1" strike="noStrike">
                <a:solidFill>
                  <a:srgbClr val="5f604a"/>
                </a:solidFill>
                <a:latin typeface="Verdana"/>
              </a:rPr>
              <a:t>depth</a:t>
            </a:r>
            <a:endParaRPr b="0" lang="en-US" sz="2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Is selected so that the amount of time will not exceed what the rules of the game allow.</a:t>
            </a: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f604a"/>
                </a:solidFill>
                <a:latin typeface="Verdana"/>
              </a:rPr>
              <a:t>When cuttoff occurs, the evaluation is performed.</a:t>
            </a:r>
            <a:endParaRPr b="0" lang="en-US" sz="27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0056-5D8C-4AA6-82B2-3C637EFDA146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E446-95BE-48CD-8F12-11343514CC84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Heuristic EVAL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Idea: produce an estimate of the expected utility of the game from a given position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Performance depends on quality of EVAL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Requirements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EVAL should order terminal-nodes in the same way as UTILITY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omputation may not take too long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or non-terminal states the EVAL should be strongly correlated with the actual chance of winning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Only useful for quiescent (no wild swings in value in near future) state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Date Placeholder 2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6334-3947-42CF-A181-6056933E9BE4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4DEC-96EA-4DF8-AC15-880AB200F0FD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Footer Placeholder 4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Heuristic EVAL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1523880" y="5791320"/>
            <a:ext cx="641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+ … 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Picture 5" descr=""/>
          <p:cNvPicPr/>
          <p:nvPr/>
        </p:nvPicPr>
        <p:blipFill>
          <a:blip r:embed="rId1"/>
          <a:stretch/>
        </p:blipFill>
        <p:spPr>
          <a:xfrm>
            <a:off x="1676520" y="1846440"/>
            <a:ext cx="4495680" cy="38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Date Placeholder 2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DF1B-2CD2-4892-9D76-A4EEC3B8503C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DF7A-81BD-4BB4-926A-FBFADAC03EEF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Footer Placeholder 4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Heuristic EVAL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1523880" y="5791320"/>
            <a:ext cx="641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+ … 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1676520" y="1846440"/>
            <a:ext cx="4495680" cy="3865320"/>
          </a:xfrm>
          <a:prstGeom prst="rect">
            <a:avLst/>
          </a:prstGeom>
          <a:ln w="0">
            <a:noFill/>
          </a:ln>
        </p:spPr>
      </p:pic>
      <p:sp>
        <p:nvSpPr>
          <p:cNvPr id="406" name="AutoShape 5"/>
          <p:cNvSpPr/>
          <p:nvPr/>
        </p:nvSpPr>
        <p:spPr>
          <a:xfrm>
            <a:off x="1295280" y="5791320"/>
            <a:ext cx="5639040" cy="457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6401520" y="5178600"/>
            <a:ext cx="184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Addition assumes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independen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6A3A-98E8-4F84-BB05-8D6B889E0AEC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4E24-3A55-4E36-A6B1-904501944B42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Heuristic difficulti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2" name="Picture 7" descr="_x0015_chess-evaluation3.pdf                                          0010684B_x0006_IRIDIA                         BC96F375:"/>
          <p:cNvPicPr/>
          <p:nvPr/>
        </p:nvPicPr>
        <p:blipFill>
          <a:blip r:embed="rId1"/>
          <a:stretch/>
        </p:blipFill>
        <p:spPr>
          <a:xfrm>
            <a:off x="490680" y="2039760"/>
            <a:ext cx="8529480" cy="390384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8"/>
          <p:cNvSpPr/>
          <p:nvPr/>
        </p:nvSpPr>
        <p:spPr>
          <a:xfrm>
            <a:off x="1507320" y="1717560"/>
            <a:ext cx="38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uristic counts pieces wo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Oval 9"/>
          <p:cNvSpPr/>
          <p:nvPr/>
        </p:nvSpPr>
        <p:spPr>
          <a:xfrm>
            <a:off x="2286000" y="4038480"/>
            <a:ext cx="1676520" cy="1371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Oval 10"/>
          <p:cNvSpPr/>
          <p:nvPr/>
        </p:nvSpPr>
        <p:spPr>
          <a:xfrm>
            <a:off x="6095880" y="3962520"/>
            <a:ext cx="1676520" cy="1371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9792-359B-48B3-8C4D-EDA6FF8A55FC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BD76-ACAE-4D58-AF30-FE29FA01CC8F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Horizon effec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0" name="Picture 4" descr="_x000b_horizon.jpg                                                    0010684B_x0006_IRIDIA                         BC96F375:"/>
          <p:cNvPicPr/>
          <p:nvPr/>
        </p:nvPicPr>
        <p:blipFill>
          <a:blip r:embed="rId1"/>
          <a:stretch/>
        </p:blipFill>
        <p:spPr>
          <a:xfrm>
            <a:off x="2917800" y="1989000"/>
            <a:ext cx="3673440" cy="4007160"/>
          </a:xfrm>
          <a:prstGeom prst="rect">
            <a:avLst/>
          </a:prstGeom>
          <a:ln w="0">
            <a:noFill/>
          </a:ln>
        </p:spPr>
      </p:pic>
      <p:sp>
        <p:nvSpPr>
          <p:cNvPr id="421" name="AutoShape 5"/>
          <p:cNvSpPr/>
          <p:nvPr/>
        </p:nvSpPr>
        <p:spPr>
          <a:xfrm>
            <a:off x="1828800" y="44956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AutoShape 6"/>
          <p:cNvSpPr/>
          <p:nvPr/>
        </p:nvSpPr>
        <p:spPr>
          <a:xfrm rot="6451200">
            <a:off x="4083840" y="16927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7"/>
          <p:cNvSpPr/>
          <p:nvPr/>
        </p:nvSpPr>
        <p:spPr>
          <a:xfrm>
            <a:off x="5634360" y="1066680"/>
            <a:ext cx="278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Fixed depth search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thinks it can avoi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the queening mov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5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6D96-029F-40E6-822A-46369E806DEF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Slide Number Placeholder 6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E8CD-87E8-47C2-83FD-D689CD969272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Footer Placeholder 7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ames that include chanc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90320" y="4896000"/>
            <a:ext cx="852948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Possible moves (5-10,5-11), (5-11,19-24),(5-10,10-16) and (5-11,11-16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429" name="Picture 6" descr="_x0017_backgammon-position.gif                                        0010684B_x0006_IRIDIA                         BC96F375:"/>
          <p:cNvPicPr/>
          <p:nvPr/>
        </p:nvPicPr>
        <p:blipFill>
          <a:blip r:embed="rId1"/>
          <a:stretch/>
        </p:blipFill>
        <p:spPr>
          <a:xfrm>
            <a:off x="806400" y="1989000"/>
            <a:ext cx="2922480" cy="28195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7" descr="_x0013_backgammon-tree.gif                                            0010684B_x0006_IRIDIA                         BC96F375:"/>
          <p:cNvPicPr/>
          <p:nvPr/>
        </p:nvPicPr>
        <p:blipFill>
          <a:blip r:embed="rId2"/>
          <a:stretch/>
        </p:blipFill>
        <p:spPr>
          <a:xfrm>
            <a:off x="4756320" y="1989000"/>
            <a:ext cx="355248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Date Placeholder 5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11FD-105B-4A25-9CEB-1222D79EFCD2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Slide Number Placeholder 6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0299-756E-4014-9CBC-4E160E53F826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Footer Placeholder 7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ames that include chanc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90320" y="4896000"/>
            <a:ext cx="852948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Possible moves (5-10,5-11), (5-11,19-24),(5-10,10-16) and (5-11,11-16)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[1,1], [6,6] chance 1/36, all other chance 1/18 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436" name="Picture 4" descr="_x0017_backgammon-position.gif                                        0010684B_x0006_IRIDIA                         BC96F375:"/>
          <p:cNvPicPr/>
          <p:nvPr/>
        </p:nvPicPr>
        <p:blipFill>
          <a:blip r:embed="rId1"/>
          <a:stretch/>
        </p:blipFill>
        <p:spPr>
          <a:xfrm>
            <a:off x="806400" y="1989000"/>
            <a:ext cx="2922480" cy="281952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5" descr="_x0013_backgammon-tree.gif                                            0010684B_x0006_IRIDIA                         BC96F375:"/>
          <p:cNvPicPr/>
          <p:nvPr/>
        </p:nvPicPr>
        <p:blipFill>
          <a:blip r:embed="rId2"/>
          <a:stretch/>
        </p:blipFill>
        <p:spPr>
          <a:xfrm>
            <a:off x="4756320" y="1989000"/>
            <a:ext cx="3552480" cy="2811600"/>
          </a:xfrm>
          <a:prstGeom prst="rect">
            <a:avLst/>
          </a:prstGeom>
          <a:ln w="0">
            <a:noFill/>
          </a:ln>
        </p:spPr>
      </p:pic>
      <p:sp>
        <p:nvSpPr>
          <p:cNvPr id="438" name="AutoShape 6"/>
          <p:cNvSpPr/>
          <p:nvPr/>
        </p:nvSpPr>
        <p:spPr>
          <a:xfrm>
            <a:off x="4343400" y="2362320"/>
            <a:ext cx="3581280" cy="4572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7"/>
          <p:cNvSpPr/>
          <p:nvPr/>
        </p:nvSpPr>
        <p:spPr>
          <a:xfrm>
            <a:off x="6779880" y="18288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chance nod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47D0-EA7C-4ADF-ACE3-9D72B689D5BA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4C26-CFA3-4777-B3BC-2BA94D7F1526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elation of Games to 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925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Search – no adversary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Solution is (heuristic) method for finding goal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Heuristics and CSP techniques can find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optimal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solution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Evaluation function: estimate of cost from start to goal through given node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Examples: path planning, scheduling activities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Games – adversary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Solution is strategy (strategy specifies move for every possible opponent reply)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Time limits force an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approximate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solution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Evaluation function: evaluate “goodness” of </a:t>
            </a:r>
            <a:br>
              <a:rPr sz="1800"/>
            </a:b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game position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Examples: chess, checkers, Othello, backgammon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Date Placeholder 5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4203-914D-4196-B3A5-70B32157C0A3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Slide Number Placeholder 6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2DB8-44B7-44EA-88B8-BCD1B36DC633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Footer Placeholder 7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ames that include chanc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90320" y="4896000"/>
            <a:ext cx="852948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[1,1], [6,6] chance 1/36, all other chance 1/18 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Can not calculate definite minimax value, only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expected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valu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445" name="Picture 4" descr="_x0017_backgammon-position.gif                                        0010684B_x0006_IRIDIA                         BC96F375:"/>
          <p:cNvPicPr/>
          <p:nvPr/>
        </p:nvPicPr>
        <p:blipFill>
          <a:blip r:embed="rId1"/>
          <a:stretch/>
        </p:blipFill>
        <p:spPr>
          <a:xfrm>
            <a:off x="806400" y="1989000"/>
            <a:ext cx="2922480" cy="28195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5" descr="_x0013_backgammon-tree.gif                                            0010684B_x0006_IRIDIA                         BC96F375:"/>
          <p:cNvPicPr/>
          <p:nvPr/>
        </p:nvPicPr>
        <p:blipFill>
          <a:blip r:embed="rId2"/>
          <a:stretch/>
        </p:blipFill>
        <p:spPr>
          <a:xfrm>
            <a:off x="4756320" y="1989000"/>
            <a:ext cx="355248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C655-50E6-4888-B0A4-E49BB39A1DB0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C65A-0139-4897-B6D9-9815750DBD62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pected minimax valu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EXPECTED-MINIMAX-VALUE(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n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)=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UTILITY(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n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)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   If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n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is a terminal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max</a:t>
            </a:r>
            <a:r>
              <a:rPr b="0" i="1" lang="en-US" sz="2000" spc="-1" strike="noStrike" baseline="-25000">
                <a:solidFill>
                  <a:srgbClr val="5f604a"/>
                </a:solidFill>
                <a:latin typeface="Verdana"/>
              </a:rPr>
              <a:t>s </a:t>
            </a:r>
            <a:r>
              <a:rPr b="0" i="1" lang="en-US" sz="2000" spc="-1" strike="noStrike" baseline="-25000">
                <a:solidFill>
                  <a:srgbClr val="5f604a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 baseline="-25000">
                <a:solidFill>
                  <a:srgbClr val="5f604a"/>
                </a:solidFill>
                <a:latin typeface="Verdana"/>
              </a:rPr>
              <a:t> successors(n)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MINIMAX-VALUE(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   If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n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is a max nod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min</a:t>
            </a:r>
            <a:r>
              <a:rPr b="0" i="1" lang="en-US" sz="2000" spc="-1" strike="noStrike" baseline="-25000">
                <a:solidFill>
                  <a:srgbClr val="5f604a"/>
                </a:solidFill>
                <a:latin typeface="Verdana"/>
              </a:rPr>
              <a:t>s </a:t>
            </a:r>
            <a:r>
              <a:rPr b="0" i="1" lang="en-US" sz="2000" spc="-1" strike="noStrike" baseline="-25000">
                <a:solidFill>
                  <a:srgbClr val="5f604a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 baseline="-25000">
                <a:solidFill>
                  <a:srgbClr val="5f604a"/>
                </a:solidFill>
                <a:latin typeface="Verdana"/>
              </a:rPr>
              <a:t> successors(n)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MINIMAX-VALUE(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   If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n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is a max nod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</a:t>
            </a:r>
            <a:r>
              <a:rPr b="0" i="1" lang="en-US" sz="2000" spc="-1" strike="noStrike" baseline="-25000">
                <a:solidFill>
                  <a:srgbClr val="5f604a"/>
                </a:solidFill>
                <a:latin typeface="Verdana"/>
              </a:rPr>
              <a:t>s </a:t>
            </a:r>
            <a:r>
              <a:rPr b="0" i="1" lang="en-US" sz="2000" spc="-1" strike="noStrike" baseline="-25000">
                <a:solidFill>
                  <a:srgbClr val="5f604a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 baseline="-25000">
                <a:solidFill>
                  <a:srgbClr val="5f604a"/>
                </a:solidFill>
                <a:latin typeface="Verdana"/>
              </a:rPr>
              <a:t> successors(n)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P(s) . 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EXPECTEDMINIMAX(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)  If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n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is a chance nod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These equations can be backed-up recursively all the way to the root of the game tree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Date Placeholder 4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01FD-D8C6-4854-B8E2-834A44B3722F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Slide Number Placeholder 5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9124-253B-49C4-B6AF-351E5E445209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Footer Placeholder 6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Position evaluation with chance nodes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Left, A1 wins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Right A2 wins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Outcome of evaluation function may not change when values are scaled differently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Behavior is preserved only by a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positive linear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transformation of EVAL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457" name="Picture 5" descr="_x0015_chance-evaluation.gif                                          0010684B_x0006_IRIDIA                         BC96F375:"/>
          <p:cNvPicPr/>
          <p:nvPr/>
        </p:nvPicPr>
        <p:blipFill>
          <a:blip r:embed="rId1"/>
          <a:stretch/>
        </p:blipFill>
        <p:spPr>
          <a:xfrm>
            <a:off x="2590920" y="1523880"/>
            <a:ext cx="6062400" cy="24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Date Placeholder 4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59E3-5DB4-4C8F-AC72-7C054D377FBC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Slide Number Placeholder 5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EA39-BFBD-4EBC-8605-AC678865F30C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Footer Placeholder 6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iscussion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Examine section on state-of-the-art games yourself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Minimax assumes right tree is better than left, yet …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Return probability distribution over possible values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Yet expensive calculation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463" name="Picture 5" descr="_x0011_minimax-error.gif                                              0010684B_x0006_IRIDIA                         BC96F375:"/>
          <p:cNvPicPr/>
          <p:nvPr/>
        </p:nvPicPr>
        <p:blipFill>
          <a:blip r:embed="rId1"/>
          <a:stretch/>
        </p:blipFill>
        <p:spPr>
          <a:xfrm>
            <a:off x="2379600" y="4070520"/>
            <a:ext cx="475128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Date Placeholder 4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D03D-C9DE-415A-9A3A-72E7CAB162AE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Slide Number Placeholder 5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74EC-7AF1-4CFB-B44F-BDDF9AB46B2F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Footer Placeholder 6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iscussion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Utility of node expansion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Only expand those nodes which lead to significanlty better move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Both suggestions require meta-reasoning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469" name="Picture 4" descr="_x0011_minimax-error.gif                                              0010684B_x0006_IRIDIA                         BC96F375:"/>
          <p:cNvPicPr/>
          <p:nvPr/>
        </p:nvPicPr>
        <p:blipFill>
          <a:blip r:embed="rId1"/>
          <a:stretch/>
        </p:blipFill>
        <p:spPr>
          <a:xfrm>
            <a:off x="2379600" y="4070520"/>
            <a:ext cx="475128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BA1F-1FF9-4708-94EE-BF6D38609020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A8F7-8152-4E91-AED0-B4B4D729AF1B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ummary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Games are fun (and dangerous)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They illustrate several important points about AI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Perfection is unattainable -&gt; approximation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Good idea what to think about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Uncertainty constrains the assignment of values to states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Games are to AI as grand prix racing is to automobile design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6D13-B9E5-451E-9CE7-C0ADA2ACBF68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CB0C-18CD-4A03-8E73-215A8828C459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ypes of Gam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Picture 11" descr=""/>
          <p:cNvPicPr/>
          <p:nvPr/>
        </p:nvPicPr>
        <p:blipFill>
          <a:blip r:embed="rId1"/>
          <a:stretch/>
        </p:blipFill>
        <p:spPr>
          <a:xfrm>
            <a:off x="828720" y="2133720"/>
            <a:ext cx="7486560" cy="20764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2"/>
          <p:cNvSpPr/>
          <p:nvPr/>
        </p:nvSpPr>
        <p:spPr>
          <a:xfrm>
            <a:off x="3124080" y="2514600"/>
            <a:ext cx="2210040" cy="914400"/>
          </a:xfrm>
          <a:prstGeom prst="rect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6BA0-A20E-48C1-BE5F-6EF06EFF121B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9A86-3572-449B-A969-160298CA0547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ame setup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Two players: MAX and MIN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MAX moves first and they take turns until the game is over. Winner gets award, looser gets penalty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Games as search: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Initial state: e.g. board configuration of chess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Successor function: list of (move,state) pairs specifying legal moves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Terminal test: Is the game finished?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Utility function: Gives numerical value of terminal states. E.g. win (+1), loose (-1) and draw (0) in tic-tac-toe (next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MAX uses  search tree to determine next move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Date Placeholder 2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44AA-220F-40F0-AEF0-FCB3C78AEA88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487D-1636-4FFB-A081-7067760931F7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Footer Placeholder 4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Partial Game Tree for Tic-Tac-To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579132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6DCE-4999-4FCB-995A-6E0E1BFB7923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885D-1AE9-498B-9531-44552F24832B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ptimal strategi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4160" y="1828800"/>
            <a:ext cx="8529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Find the contingent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strategy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for MAX assuming an infallible MIN opponent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Assumption: Both players play optimally !!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Given a game tree, the optimal strategy can be determined by using the minimax value of each node: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MINIMAX-VALUE(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=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UTILITY(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If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is a terminal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max</a:t>
            </a:r>
            <a:r>
              <a:rPr b="0" i="1" lang="en-US" sz="1800" spc="-1" strike="noStrike" baseline="-25000">
                <a:solidFill>
                  <a:srgbClr val="5f604a"/>
                </a:solidFill>
                <a:latin typeface="Verdana"/>
              </a:rPr>
              <a:t>s </a:t>
            </a:r>
            <a:r>
              <a:rPr b="0" i="1" lang="en-US" sz="1800" spc="-1" strike="noStrike" baseline="-25000">
                <a:solidFill>
                  <a:srgbClr val="5f604a"/>
                </a:solidFill>
                <a:latin typeface="Symbol"/>
                <a:ea typeface="Symbol"/>
              </a:rPr>
              <a:t></a:t>
            </a:r>
            <a:r>
              <a:rPr b="0" i="1" lang="en-US" sz="1800" spc="-1" strike="noStrike" baseline="-25000">
                <a:solidFill>
                  <a:srgbClr val="5f604a"/>
                </a:solidFill>
                <a:latin typeface="Verdana"/>
              </a:rPr>
              <a:t> successors(n)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MINIMAX-VALUE(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s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If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is a max node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min</a:t>
            </a:r>
            <a:r>
              <a:rPr b="0" i="1" lang="en-US" sz="1800" spc="-1" strike="noStrike" baseline="-25000">
                <a:solidFill>
                  <a:srgbClr val="5f604a"/>
                </a:solidFill>
                <a:latin typeface="Verdana"/>
              </a:rPr>
              <a:t>s </a:t>
            </a:r>
            <a:r>
              <a:rPr b="0" i="1" lang="en-US" sz="1800" spc="-1" strike="noStrike" baseline="-25000">
                <a:solidFill>
                  <a:srgbClr val="5f604a"/>
                </a:solidFill>
                <a:latin typeface="Symbol"/>
                <a:ea typeface="Symbol"/>
              </a:rPr>
              <a:t></a:t>
            </a:r>
            <a:r>
              <a:rPr b="0" i="1" lang="en-US" sz="1800" spc="-1" strike="noStrike" baseline="-25000">
                <a:solidFill>
                  <a:srgbClr val="5f604a"/>
                </a:solidFill>
                <a:latin typeface="Verdana"/>
              </a:rPr>
              <a:t> successors(n)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MINIMAX-VALUE(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s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If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is a min node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2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EF4B-31C6-4006-BFD1-CA41EB45B873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6B1C-0E6E-440E-AFF3-A686A025B270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wo-Ply Game Tre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523880" y="2514600"/>
            <a:ext cx="7620120" cy="3022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3429000" y="2971800"/>
            <a:ext cx="762120" cy="447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3"/>
          <a:stretch/>
        </p:blipFill>
        <p:spPr>
          <a:xfrm>
            <a:off x="5181480" y="3048120"/>
            <a:ext cx="304920" cy="296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"/>
          <p:cNvPicPr/>
          <p:nvPr/>
        </p:nvPicPr>
        <p:blipFill>
          <a:blip r:embed="rId4"/>
          <a:stretch/>
        </p:blipFill>
        <p:spPr>
          <a:xfrm>
            <a:off x="6629400" y="2905200"/>
            <a:ext cx="762120" cy="447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"/>
          <p:cNvPicPr/>
          <p:nvPr/>
        </p:nvPicPr>
        <p:blipFill>
          <a:blip r:embed="rId5"/>
          <a:stretch/>
        </p:blipFill>
        <p:spPr>
          <a:xfrm>
            <a:off x="6248520" y="4200480"/>
            <a:ext cx="761760" cy="447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"/>
          <p:cNvPicPr/>
          <p:nvPr/>
        </p:nvPicPr>
        <p:blipFill>
          <a:blip r:embed="rId6"/>
          <a:stretch/>
        </p:blipFill>
        <p:spPr>
          <a:xfrm>
            <a:off x="7238880" y="4343400"/>
            <a:ext cx="304920" cy="219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"/>
          <p:cNvPicPr/>
          <p:nvPr/>
        </p:nvPicPr>
        <p:blipFill>
          <a:blip r:embed="rId7"/>
          <a:stretch/>
        </p:blipFill>
        <p:spPr>
          <a:xfrm>
            <a:off x="7315200" y="4495680"/>
            <a:ext cx="304920" cy="179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"/>
          <p:cNvPicPr/>
          <p:nvPr/>
        </p:nvPicPr>
        <p:blipFill>
          <a:blip r:embed="rId8"/>
          <a:stretch/>
        </p:blipFill>
        <p:spPr>
          <a:xfrm>
            <a:off x="7772400" y="4495680"/>
            <a:ext cx="304920" cy="179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2" descr=""/>
          <p:cNvPicPr/>
          <p:nvPr/>
        </p:nvPicPr>
        <p:blipFill>
          <a:blip r:embed="rId9"/>
          <a:stretch/>
        </p:blipFill>
        <p:spPr>
          <a:xfrm>
            <a:off x="7772400" y="4386240"/>
            <a:ext cx="152280" cy="109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3" descr=""/>
          <p:cNvPicPr/>
          <p:nvPr/>
        </p:nvPicPr>
        <p:blipFill>
          <a:blip r:embed="rId10"/>
          <a:stretch/>
        </p:blipFill>
        <p:spPr>
          <a:xfrm>
            <a:off x="5638680" y="4452840"/>
            <a:ext cx="304920" cy="179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4" descr=""/>
          <p:cNvPicPr/>
          <p:nvPr/>
        </p:nvPicPr>
        <p:blipFill>
          <a:blip r:embed="rId11"/>
          <a:stretch/>
        </p:blipFill>
        <p:spPr>
          <a:xfrm>
            <a:off x="5638680" y="4343400"/>
            <a:ext cx="152640" cy="109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5" descr=""/>
          <p:cNvPicPr/>
          <p:nvPr/>
        </p:nvPicPr>
        <p:blipFill>
          <a:blip r:embed="rId12"/>
          <a:stretch/>
        </p:blipFill>
        <p:spPr>
          <a:xfrm>
            <a:off x="4724280" y="4468680"/>
            <a:ext cx="304920" cy="179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6" descr=""/>
          <p:cNvPicPr/>
          <p:nvPr/>
        </p:nvPicPr>
        <p:blipFill>
          <a:blip r:embed="rId13"/>
          <a:stretch/>
        </p:blipFill>
        <p:spPr>
          <a:xfrm>
            <a:off x="4724280" y="4359240"/>
            <a:ext cx="152640" cy="109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7" descr=""/>
          <p:cNvPicPr/>
          <p:nvPr/>
        </p:nvPicPr>
        <p:blipFill>
          <a:blip r:embed="rId14"/>
          <a:stretch/>
        </p:blipFill>
        <p:spPr>
          <a:xfrm>
            <a:off x="5257800" y="4452840"/>
            <a:ext cx="304920" cy="179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8" descr=""/>
          <p:cNvPicPr/>
          <p:nvPr/>
        </p:nvPicPr>
        <p:blipFill>
          <a:blip r:embed="rId15"/>
          <a:stretch/>
        </p:blipFill>
        <p:spPr>
          <a:xfrm>
            <a:off x="5257800" y="4343400"/>
            <a:ext cx="152280" cy="109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9" descr=""/>
          <p:cNvPicPr/>
          <p:nvPr/>
        </p:nvPicPr>
        <p:blipFill>
          <a:blip r:embed="rId16"/>
          <a:stretch/>
        </p:blipFill>
        <p:spPr>
          <a:xfrm>
            <a:off x="3581280" y="4468680"/>
            <a:ext cx="457200" cy="270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0" descr=""/>
          <p:cNvPicPr/>
          <p:nvPr/>
        </p:nvPicPr>
        <p:blipFill>
          <a:blip r:embed="rId17"/>
          <a:stretch/>
        </p:blipFill>
        <p:spPr>
          <a:xfrm>
            <a:off x="3657600" y="4359240"/>
            <a:ext cx="228600" cy="1652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1" descr=""/>
          <p:cNvPicPr/>
          <p:nvPr/>
        </p:nvPicPr>
        <p:blipFill>
          <a:blip r:embed="rId18"/>
          <a:stretch/>
        </p:blipFill>
        <p:spPr>
          <a:xfrm>
            <a:off x="2438280" y="4452840"/>
            <a:ext cx="304920" cy="179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2" descr=""/>
          <p:cNvPicPr/>
          <p:nvPr/>
        </p:nvPicPr>
        <p:blipFill>
          <a:blip r:embed="rId19"/>
          <a:stretch/>
        </p:blipFill>
        <p:spPr>
          <a:xfrm>
            <a:off x="2438280" y="4343400"/>
            <a:ext cx="152640" cy="109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3" descr=""/>
          <p:cNvPicPr/>
          <p:nvPr/>
        </p:nvPicPr>
        <p:blipFill>
          <a:blip r:embed="rId20"/>
          <a:stretch/>
        </p:blipFill>
        <p:spPr>
          <a:xfrm>
            <a:off x="3124080" y="4452840"/>
            <a:ext cx="304920" cy="179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4" descr=""/>
          <p:cNvPicPr/>
          <p:nvPr/>
        </p:nvPicPr>
        <p:blipFill>
          <a:blip r:embed="rId21"/>
          <a:stretch/>
        </p:blipFill>
        <p:spPr>
          <a:xfrm>
            <a:off x="3124080" y="4343400"/>
            <a:ext cx="152640" cy="109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7" descr=""/>
          <p:cNvPicPr/>
          <p:nvPr/>
        </p:nvPicPr>
        <p:blipFill>
          <a:blip r:embed="rId22"/>
          <a:stretch/>
        </p:blipFill>
        <p:spPr>
          <a:xfrm>
            <a:off x="2514600" y="5181480"/>
            <a:ext cx="6324480" cy="378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8" descr=""/>
          <p:cNvPicPr/>
          <p:nvPr/>
        </p:nvPicPr>
        <p:blipFill>
          <a:blip r:embed="rId23"/>
          <a:stretch/>
        </p:blipFill>
        <p:spPr>
          <a:xfrm>
            <a:off x="3733920" y="3638520"/>
            <a:ext cx="380880" cy="399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9" descr=""/>
          <p:cNvPicPr/>
          <p:nvPr/>
        </p:nvPicPr>
        <p:blipFill>
          <a:blip r:embed="rId24"/>
          <a:stretch/>
        </p:blipFill>
        <p:spPr>
          <a:xfrm>
            <a:off x="5715000" y="3581280"/>
            <a:ext cx="380880" cy="400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0" descr=""/>
          <p:cNvPicPr/>
          <p:nvPr/>
        </p:nvPicPr>
        <p:blipFill>
          <a:blip r:embed="rId25"/>
          <a:stretch/>
        </p:blipFill>
        <p:spPr>
          <a:xfrm>
            <a:off x="7543800" y="3581280"/>
            <a:ext cx="380880" cy="4003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1" descr=""/>
          <p:cNvPicPr/>
          <p:nvPr/>
        </p:nvPicPr>
        <p:blipFill>
          <a:blip r:embed="rId26"/>
          <a:stretch/>
        </p:blipFill>
        <p:spPr>
          <a:xfrm>
            <a:off x="5791320" y="2514600"/>
            <a:ext cx="380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8T02:20:05Z</dcterms:created>
  <dc:creator>Eric Gurevitz</dc:creator>
  <dc:description/>
  <dc:language>en-US</dc:language>
  <cp:lastModifiedBy>user</cp:lastModifiedBy>
  <cp:lastPrinted>2006-03-02T16:03:14Z</cp:lastPrinted>
  <dcterms:modified xsi:type="dcterms:W3CDTF">2008-03-13T17:57:51Z</dcterms:modified>
  <cp:revision>590</cp:revision>
  <dc:subject/>
  <dc:title>CMSC 723: Introduction to  Computational Linguistics</dc:title>
</cp:coreProperties>
</file>