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2088-9C50-4201-8ACB-6F529FFF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DE22-AC35-40B8-A100-C879904C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5568-0FFE-4E74-A8A4-F3DA21CA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D607-4FCF-4E1D-B36D-89E29F8B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87DE-FEE8-4E18-B4DC-DB7635C8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BC8BB-DCDC-46DE-AE25-02ECBAA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E75B6-A0E9-4750-B0A5-8413D98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53EF-F05E-4A73-80F0-BA7E2FE7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44AD-BFA2-4E70-AA0A-842ABF69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EC0CD-5640-4407-9542-FDFD4D37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9FFD4-E136-4A68-ABCA-07A9070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EEDC-C095-4E8C-9492-9C4C2418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5726-563F-4593-BBE7-19020B9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87F3E-6DC2-4D8E-A98A-1AADD0F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884B-564C-4743-B74A-0739F90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9B670-0E28-4969-A224-674ECFF3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C9CA7-42B9-4854-9755-939EACC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9872-E956-4BE7-ACC1-A8C3CD1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1280-CEC3-4AD2-8E59-EB3D6BE7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9DFB-27AD-4DF6-8C7F-26C33AD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3E89-1D9D-4815-B8EF-E3CDE8C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9D66-506F-429E-A7DC-C8341D3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7EE3-E491-41CA-92C8-6D6E72A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E91A-CFEB-4CC3-BE85-09A11BB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4F1-30CE-4AE9-BA9C-BACA94E187E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BB9-DFD5-4E84-882B-AE53AB5FB91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217-BA05-44FB-8648-CD83A37351B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5BF-1AE2-4D20-8CD2-1592D534B23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Agents and Propositional Logic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114800"/>
            <a:ext cx="774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lidity and satisfiabi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valid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,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Tru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)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Validity is connected to inference via the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Deduction Theorem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|=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vali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om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, 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un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no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atisfiability is connected to inference via the following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unsatisfia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ember proof by contradi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FA32-DBA1-492A-992E-9558F0EC92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BEFF4-D1E7-4DD8-BFAB-BD8D9FEE98C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rules in PL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odens Pone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nd-elimination: from a conjuction any conjunction can be inferred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ll logical equivalences of slide 39 can be used as inference ru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00680" y="1905120"/>
                <a:ext cx="1143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7760" y="3429000"/>
                <a:ext cx="714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Ù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86400" y="4952880"/>
                <a:ext cx="2262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Û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Ù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E52C-1E11-4E69-91A1-4D0D8B8BEB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C7DA4-8ED4-42D8-89CB-0E027FAEA2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R1 through R5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can we prove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90720" y="2590920"/>
                <a:ext cx="5841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3000" y="3657600"/>
                <a:ext cx="45147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  <m:r>
                              <m:t xml:space="preserve">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Ù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324120" y="3581280"/>
            <a:ext cx="202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onditional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ns pon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gan’s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CB7D-AFC4-45EE-9410-331EC32BA7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F2806-1AA7-4841-8171-D89E933B75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ing for proof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inding proof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exactly like finding solutions to search problem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arch can be done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or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forward chaining) to derive goal or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back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backward chaining) from the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Searching for proofs is not more efficient than enumerating model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but in many practical cases, it is more efficient because we can ignore irrelevant properties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Monotonic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the set of entailed sentences can only increase as information is added to the knowledge bas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1160" y="5181480"/>
                <a:ext cx="6781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rPr>
                        <m:lit/>
                        <m:nor/>
                      </m:rPr>
                      <m:t xml:space="preserve">any</m:t>
                    </m:r>
                    <m:r>
                      <m:rPr>
                        <m:lit/>
                        <m:nor/>
                      </m:rPr>
                      <m:t xml:space="preserve">sentence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β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then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Ùβ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654F-3B07-419B-890B-BFC942B5FA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CCF3A-2A22-48FA-87F9-21F1731177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method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Proof methods divide into (roughly) two kinds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lication of inference rule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egitimate (sound) generation of new sentences from o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roo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a sequence of inference rule application can use inference rules as operators in a standard search algorith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normal for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del check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uristic search in model space (sound but incomple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min-conflicts-like hill-climbing algorithm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BBB3-7B0C-4BCB-B69A-EADEC7CD7E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31BE0-8DD6-4496-BE30-FB18DCD82E5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159440" cy="77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76240" y="403848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27320" y="5334120"/>
            <a:ext cx="324468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759A-8310-4C7B-96C6-F3A0FCB174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0B276-E810-45AC-9934-0DA6C306E0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in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t some point we can derive the absence of a pit in square 2,2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Now after biconditional elimination of R3 followed by a modens ponens with R5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solution 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49240" y="3024360"/>
                <a:ext cx="6943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2,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3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62320" y="4572000"/>
                <a:ext cx="22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181480"/>
                <a:ext cx="3200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017B-932A-4C2C-8A4A-09124831EA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E1576-86D7-4F63-A388-C1BB45FEA1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s CNF (Conjunctive normal form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junction of disjunctions of literals (clause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resolution rule is sound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y entailed sentences are deriv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lution is complete in the sense that it can always be used to either confirm or refute a sentence (it can not be used to enumerate true sentences.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5C50-1FEA-438F-B3F4-96EFDA4E9C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245E1-D268-472C-BC18-8439D8C49F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version to CN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(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)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ß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ov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nwards using de Morgan's rules and double-negatio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pply distributivity law (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ver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and flatte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B8AF-AEE5-4DDA-9727-3BBFA290C1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0DE0D-0B04-415B-98BE-E4ECD0F250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of by contradiction, i.e., show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unsatisfiable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85800" y="2438280"/>
            <a:ext cx="77724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8FE0-FBF2-40E3-AACA-1F6CEB5FFF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E03D8-BB64-479C-A21F-A024A1C4F0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81421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6C14-3B9E-49C0-981A-749455968A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FFA13-89E4-4291-98E9-FEF3D89EC0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 </a:t>
            </a:r>
            <a:r>
              <a:rPr b="0" i="1" lang="en-US" sz="27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converted into CNF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n apply resolution rule to resulting claus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process continues until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re are no new clauses that can b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 no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wo clauses resolve to entail the empty claus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8FDB-DB10-4831-A04C-00D9A68648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8441-AC56-4167-A502-87E22D9E16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(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6640" y="3429000"/>
            <a:ext cx="80107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CD89-5664-472A-A250-741EEA58D7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F30E0-71F4-4B78-84BB-97975F30205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ward and backward chain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he completeness of resolution makes it a very important inference model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Real-world knowledge only requires a restricted form of clauses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Horn clauses = disjunction of literals with at most one positive literal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Three important properti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Can be written as an implic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Inference through forward chaining and backward chaining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Deciding entailment can be done in a time linear size of the knowledge base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66880" y="4495680"/>
                <a:ext cx="4724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ÚØ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  <m:sSub>
                          <m:e>
                            <m:r>
                              <m:t xml:space="preserve">Ú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F295-ABC5-46EF-8C5E-1AF6948BC3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C977A-7369-4A68-8161-5248D32184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dea: fire any rule whose premises are satisfied in the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dd its conclusion to th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, until query is found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971800"/>
            <a:ext cx="5029200" cy="32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37F7-0E13-4C24-8B87-9C1737A676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A4ADE-56CC-4C9C-A709-2B5E71DECB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ward chaining is sound and complete for Horn KB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2362320"/>
            <a:ext cx="66294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423C-2F7B-49F6-9140-1C2D9C258B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889AF-0007-422D-8C09-E3580B959F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C72C-4C08-4640-8869-74A74546A6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44E24-6768-4744-8077-96E25AAFD8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A2CC-690B-48C5-BE08-76408C97A8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EE29C-97BC-4532-B019-8421180686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A44B-5471-4C3A-8127-BEC71CF252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4A8BD-D3EA-45B1-A146-8B58CB516F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F318-6686-4907-BF38-46828BC3CD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D800E-A587-4D45-97B8-FABC1ED130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B9CB-8477-4897-BAB4-5D6F655AFA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02B67-731A-40D3-8F23-50F1BDE99F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305400" cy="41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9B39-0F82-434B-AA71-7023B796A4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5ECA2-CBD2-451D-9D63-A017B57FA0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FB14-29D5-4AA1-9C6E-3A433200473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B300C-9299-4375-84C6-B432448D9DA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202F-8B94-4AFA-8C61-B9D842E142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900E3-DC0A-42FD-AB85-01514C2862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296A-9868-4D5E-BD22-5242CA4E2A1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EFFE-471A-45AC-B63E-2E9D199C604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of completenes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C reaches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xed poin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where no new atomic sentences are deriv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final state as a mode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assigning true/false to symbol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very clause in the origina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k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a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r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includi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5BE9-D5D6-4650-99E7-DE330D4545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BB29B-49B9-476B-AA4F-1ABA6A0DDE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work backwards from the quer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prov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y BC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heck i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known already, o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ve by BC all premises of some rule concludin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loops: check if new subgoal is already on the goal stack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repeated work: check if new subgoa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been proved true, o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fail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5936-D108-496F-AA9F-6BF11FB2E7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95AD9-6092-4885-87C2-4864FCA727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B3F7-77C7-4176-9F0F-533B9597A8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610DA-F3C9-4287-9918-FBD112E431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1FAC-1BDA-4CD1-A5C7-71F723043F3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87721-9BFB-48E1-8314-AEE7C619C3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9715-AD1E-4553-83A4-D998B2A42C2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74A84-DDED-4163-827A-87565D7CE07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9C80-9965-4F17-9C71-B2C068D4D68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66B78-99F5-47A6-A3B4-EA5DC7BA1A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6E68-331C-49F3-A252-A987BE1E43C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20474-C92A-49AF-94EE-EEE6DAA58E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0680" y="2948040"/>
            <a:ext cx="852948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2639-94B0-4EF6-9332-7DBAFEFBAF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69ADB-CCDF-455D-9FC0-5BD5AA28CC6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D03F-03F6-4D41-8BBE-04CA7D19366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6731C-C891-4399-A145-2CB19F5880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3E2E-4DB9-42EC-9DCA-D914EE14233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E3568-BEF5-4E01-9812-CC07620837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596E-806E-4A35-9A97-AD4C4093370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AB27A-4694-4E2E-816F-7775C0DC0F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E629-E6E3-4731-9F4D-A6918477788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4D29F-0AF0-49B1-A8D6-9C496322B4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3DA4-78C9-4078-A679-EB82ED68C6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B7A9B-B94A-4FB1-89C8-F9A8521016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vs. 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F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data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utomatic, unconscious process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object recognition, routine decis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ay do lots of work that is irrelevant to the goal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B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goal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ppropriate for problem-solv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Where are my keys? How do I get into a PhD program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Complexity of BC can be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much less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han linear in size of KB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AB52-5BA0-4025-8328-EF358A4245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059C-8478-4FE9-8AD2-0842E5FD96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ffective propositional infere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wo families of efficient algorithms for propositional inference based on model checking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Are used for checking satisfiability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Complete backtracking search algorithms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PLL algorithm (Davis, Putnam, Logemann, Lovelan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Improves TT-Entails? Algorithm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complete local search algorith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7f7358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Courier New"/>
              </a:rPr>
              <a:t>WalkSA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lgorithm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D345-E758-43F9-98DE-C024A98863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19609-7393-4267-A095-2B785E5505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Determine if an input propositional logic sentence (in CNF) is satisfiable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mprovements over truth table enumeration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arly termin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 clause is true if any literal is true. A sentence is false if any clause is fals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ure symbol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Pure symbol: always appears with the same "sign" in all clauses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, In the three clauses (A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), (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), (C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A), A and B are pure, C is impure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sign a pure symbol so that their literals are tru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nit clause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Unit clause: only one literal in the clause or only one literal which has not yet received a value. The only literal in a unit clause must be true. First do this assignments before continuing with the rest (unit propagation!)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628C-C827-44D2-92A1-B9CE960DCE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083DC-F1D8-4932-9351-D914BEE4A0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990720" y="17524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58E1-7F08-4EB9-8AA8-6CB6DFC25D5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AC699-7A81-4528-8EA4-DE90DD4A37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Incomplete, local search algorithm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Evaluation function: The min-conflict heuristic of minimizing the number of unsatisfied clause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Steps are taken in the space of complete assignments, flipping the truth value of one variable at a time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Balance between greediness and randomnes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o avoid local minim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6119-C269-4545-96F1-52AE5F05E5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A6617-854F-4559-8911-FB8982D43C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6520" y="1989000"/>
            <a:ext cx="72374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0D35-BA7A-4FD1-A1CC-3C330EB4C6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30925-B4B2-4222-BD0E-E34BD2D6F92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800280" y="1905120"/>
            <a:ext cx="754380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BA77-6182-401B-A9C4-BF7C44475B5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735C2-1F25-4CF1-B133-5CE252C72D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derconstrained problems are easy: e.g n-queens in CSP. In SAT: e.g.,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B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crease in complexity by keeping the number of symbols fixed and increasing the amount of clauses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clause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symbo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ard problems seem to cluster nea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/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4.3 (critical poi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4C38-E029-4078-8B91-D27DD7F1B5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13352-3CE7-46C8-BF92-500DF5C661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7480" y="1447920"/>
            <a:ext cx="6629400" cy="47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4783-1ECB-4158-BF37-377F639633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0A6BC-CE57-442F-B577-EE7707198E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4160" y="1752120"/>
            <a:ext cx="852948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edian runtime for 100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random 3-CNF sentences,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0552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14EE-7791-43BC-A4DB-E60334467D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DA7B6-B215-4267-A195-A1FDC55BDF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ference-based agents in the wumpus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 wumpus-world agent using propositional logic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 a knowledge base about the physics of the W-world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4,4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lea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mo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3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64 distinct proposition symbols, 155 sentenc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A fringe square is 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provably saf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if the sentence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is entailed by the knowledge base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86600" y="548640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287A-3465-465C-9A79-4D17770F14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60A48-CC82-4E0C-8291-FE3E834A4B3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1143000" y="985680"/>
            <a:ext cx="6858000" cy="488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96DD-C568-4145-8DDC-7B896F8EF643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F38F-F5A0-43FA-B33F-2E3576AF07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KB contains "physics" sentences for every single square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 all consequences for large KB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tter would be to have just two sentences for breezes and stenches for all squares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ossible for propositional logi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Simplification in agent: location info is not in KB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or every tim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and every location [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],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acingRight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orward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f7358"/>
                </a:solidFill>
                <a:latin typeface="Verdana"/>
              </a:rPr>
              <a:t>PROBLEM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: Rapid proliferation of claus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xpressiveness limitation of propositional logi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ACFB-799C-40E8-B982-9623C335790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C745B-A7ED-4679-A3A0-5C73A180B0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knowledge bas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derive new information and make decision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sic concepts of logic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yntax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formal structure of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mantic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truth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of sentences wrt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odel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entailment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necessary truth of one sentence given another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ing sentences from other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ound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produce only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complete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can produce all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opositional logic lacks expressive powe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099E-FC50-412F-8D38-C788CDE276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D8792-C880-40E0-86DB-EC477DE600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8640" y="1989000"/>
            <a:ext cx="6253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BAFA-DCFD-40B5-A14B-853C7F4CC5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AEAE9-8528-47BF-A8DA-95B3D82D7E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uth tables for infer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98040" y="182880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e the models and check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in eve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2678040" cy="158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37502" t="30211" r="7811" b="32293"/>
          <a:stretch/>
        </p:blipFill>
        <p:spPr>
          <a:xfrm>
            <a:off x="2743200" y="2590920"/>
            <a:ext cx="5981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E24A-91D8-4F08-88EC-6661865D2E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61A56-7380-4441-85A6-293E0075F4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by enumer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Depth-first enumeration of all models is sound and complete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ymbols, tim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2</a:t>
            </a:r>
            <a:r>
              <a:rPr b="0" i="1" lang="en-US" sz="21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 spac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n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523880" y="2514600"/>
            <a:ext cx="556272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725E-4D85-4CEE-AD8D-2A90BDE4B6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5D016-69C8-4838-8290-76849DFCED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equival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6360" y="167652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wo sentences are </a:t>
            </a:r>
            <a:r>
              <a:rPr b="0" i="1" lang="en-US" sz="2300" spc="-1" strike="noStrike">
                <a:solidFill>
                  <a:srgbClr val="333399"/>
                </a:solidFill>
                <a:latin typeface="Verdana"/>
              </a:rPr>
              <a:t>logically equivalent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ff true in same set of models or 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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 iff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|=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nd ß |=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600200" y="2514600"/>
            <a:ext cx="647712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843B-C819-4C20-BEA6-3E24D8EE88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A7469-1B40-4504-9ADF-DD23E064AC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tlo</cp:lastModifiedBy>
  <cp:lastPrinted>2006-03-23T11:43:51Z</cp:lastPrinted>
  <dcterms:modified xsi:type="dcterms:W3CDTF">2006-03-31T11:16:24Z</dcterms:modified>
  <cp:revision>724</cp:revision>
  <dc:subject/>
  <dc:title>CMSC 723: Introduction to  Computational Linguistics</dc:title>
</cp:coreProperties>
</file>