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371B-DE28-4C22-999E-545A4BBF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F94C-6B0D-4A6B-BDFC-9B97841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C047-9965-44EC-BD61-7F5DBD05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C56A-05C3-4105-93F3-814C30AD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33EB9-8EE1-4A9E-AD79-10A2E362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F9F46-39A9-4C67-BC5F-110DF78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27C21-93B7-4F0B-A92E-A729EE4E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7E86B-7CB8-4776-8CB0-C5B5FF6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D610A-3799-49D7-855D-1D3E79A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B246-BDAB-4F65-BE63-8728522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75382-CB14-420D-8A23-52F0F24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74DC-1D69-4CAF-9291-AF03667D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6BD0F-11B3-4EB2-BBE4-A5EE504F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CAF30-D124-4058-BBDB-D968033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6D4A1-78B7-45A8-990A-4BF691C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BBAC7-A46E-447D-9432-28CE3214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AFE03-7409-4A4C-85AB-1DAEE57D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8AD3-5AD6-47F0-B5F9-40BC7DA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45C0-3B1D-46B2-8B40-E2ED2FB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FFDE-AE2D-4A43-942A-A7FB8548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A446-39FD-448F-AD72-A287B7BB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9869-1D75-4792-B0FB-93D01AC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CC45-68AF-4C6A-8838-E461583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5059-C525-459C-BA72-CC62649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654E-4444-4A34-BD53-1A9A8E2529E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4726-39BB-433C-B909-3325B431E32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D9AF-1EF7-4C25-8D59-8E1D459C8D7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B78-5F36-4251-A3C0-8D187C2787E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Agents and Propositional Logic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114800"/>
            <a:ext cx="774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lidity and satisfiabi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valid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s,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Tru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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,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,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(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)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Validity is connected to inference via the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Deduction Theorem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|=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f and only if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is vali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satisfiabl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som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A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, 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 sentence is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unsatisfiable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if it is true in </a:t>
            </a:r>
            <a:r>
              <a:rPr b="0" i="1" lang="en-US" sz="2100" spc="-1" strike="noStrike">
                <a:solidFill>
                  <a:srgbClr val="333399"/>
                </a:solidFill>
                <a:latin typeface="Verdana"/>
              </a:rPr>
              <a:t>no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models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, A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atisfiability is connected to inference via the following: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|=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f and only if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is unsatisfiabl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member proof by contradic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42B5-C63D-4381-BFC3-C198F13766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5B4F3-5C22-4C3C-9052-1DD862317E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ference rules in PL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odens Pone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nd-elimination: from a conjuction any conjunction can be inferred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ll logical equivalences of slide 39 can be used as inference ru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00680" y="1905120"/>
                <a:ext cx="11430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7760" y="3429000"/>
                <a:ext cx="714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Ù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86400" y="4952880"/>
                <a:ext cx="2262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Û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Ù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2092-1FD9-40FB-ADE6-6DB71A590D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1B3DD-177B-488F-8C25-9468709F1C3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sume R1 through R5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can we prove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90720" y="2590920"/>
                <a:ext cx="5841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Ø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43000" y="3657600"/>
                <a:ext cx="451476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  <m:r>
                              <m:t xml:space="preserve">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,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ÚP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Ù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,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ÚP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Ø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ÚP</m:t>
                                </m:r>
                              </m:e>
                              <m:sub>
                                <m:r>
                                  <m:t xml:space="preserve">2,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ÙØ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324120" y="3581280"/>
            <a:ext cx="202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onditional 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el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a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ns pon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gan’s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3417-0150-4D79-9333-CD104FC7C4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720A5-A55D-4724-BAEE-D8C105173E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ing for proof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Finding proof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exactly like finding solutions to search problem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arch can be done </a:t>
            </a: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forwar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forward chaining) to derive goal or </a:t>
            </a: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backwar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backward chaining) from the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Searching for proofs is not more efficient than enumerating model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but in many practical cases, it is more efficient because we can ignore irrelevant properties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604a"/>
                </a:solidFill>
                <a:latin typeface="Verdana"/>
              </a:rPr>
              <a:t>Monotonic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the set of entailed sentences can only increase as information is added to the knowledge bas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81160" y="5181480"/>
                <a:ext cx="6781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rPr>
                        <m:lit/>
                        <m:nor/>
                      </m:rPr>
                      <m:t xml:space="preserve">any</m:t>
                    </m:r>
                    <m:r>
                      <m:rPr>
                        <m:lit/>
                        <m:nor/>
                      </m:rPr>
                      <m:t xml:space="preserve">sentence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β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then</m:t>
                    </m:r>
                    <m:r>
                      <m:rPr>
                        <m:lit/>
                        <m:nor/>
                      </m:rPr>
                      <m:t xml:space="preserve">KB</m:t>
                    </m:r>
                    <m:r>
                      <m:t xml:space="preserve">Ùβ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7E28-1DCE-41D5-B4B8-E4F4030534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E956D-7E3E-4F72-995C-E9612797B8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of method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Proof methods divide into (roughly) two kinds: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lication of inference rule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egitimate (sound) generation of new sentences from ol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roo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a sequence of inference rule application can use inference rules as operators in a standard search algorith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normal for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del check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uristic search in model space (sound but incomple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min-conflicts-like hill-climbing algorithm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27B6-B904-4DB0-A827-1E8F2B6B2D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37A2F-4C83-492C-8C2A-C1D7B36FD73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Unit Resolution Inferenc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solution Rule is a generalization of this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uses of length t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159440" cy="77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76240" y="4038480"/>
            <a:ext cx="7391520" cy="70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327320" y="5334120"/>
            <a:ext cx="3244680" cy="86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1A67-434F-4C2B-9B3D-93D217DFD1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DBDC5-CB49-4B96-8E26-B7A403BA62B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in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t some point we can derive the absence of a pit in square 2,2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Now after biconditional elimination of R3 followed by a modens ponens with R5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solution 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49240" y="3024360"/>
                <a:ext cx="6943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Ø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2,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ØP</m:t>
                        </m:r>
                      </m:e>
                      <m:sub>
                        <m:r>
                          <m:t xml:space="preserve">3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62320" y="4572000"/>
                <a:ext cx="22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5181480"/>
                <a:ext cx="3200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2,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ÚP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C63A-6866-4E13-AA70-94984B210E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8317E-CC4A-4071-9D7C-C9D56BF30E0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s CNF (Conjunctive normal form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junction of disjunctions of literals (clause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resolution rule is sound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y entailed sentences are deriv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lution is complete in the sense that it can always be used to either confirm or refute a sentence (it can not be used to enumerate true sentences.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70DF-5F30-4514-B38F-225C676A03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BEC6F-0BF6-4A55-B920-843F36B826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version to CN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,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(P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P</a:t>
            </a:r>
            <a:r>
              <a:rPr b="0" lang="en-US" sz="2000" spc="-1" strike="noStrike" baseline="-25000">
                <a:solidFill>
                  <a:srgbClr val="5f604a"/>
                </a:solidFill>
                <a:latin typeface="Verdana"/>
              </a:rPr>
              <a:t>2,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liminat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replacing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 with (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)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ß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liminat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replacing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 with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ß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ove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nwards using de Morgan's rules and double-negation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4" marL="2133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pply distributivity law (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ver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and flatten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5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C39A-DBB1-4EAC-B02F-859DBB6A99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07945-2C63-4B23-827D-60727AE5734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of by contradiction, i.e., show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unsatisfiable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85800" y="2438280"/>
            <a:ext cx="77724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7064-695A-404F-B37C-A7FF4E6C0B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7493B-0F15-4BBA-A877-3B208761A91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81421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EFFA-BF25-423F-B053-BF82042C19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05802-4961-4157-BB7C-F5A41BDBD6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 </a:t>
            </a:r>
            <a:r>
              <a:rPr b="0" i="1" lang="en-US" sz="27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converted into CNF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n apply resolution rule to resulting clause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process continues until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re are no new clauses that can be add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f7358"/>
                </a:solidFill>
                <a:latin typeface="Verdana"/>
              </a:rPr>
              <a:t>does no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enti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ß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wo clauses resolve to entail the empty claus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f7358"/>
                </a:solidFill>
                <a:latin typeface="Verdana"/>
              </a:rPr>
              <a:t>doe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enti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ß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1FA1-DFF5-4BE2-9562-9EDE6AB4A4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A2178-3995-4BE6-BD69-1B67A37862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solutio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= (B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2,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)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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B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1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1,2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6640" y="3429000"/>
            <a:ext cx="80107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7D93-9DD6-4B09-B8C5-D9A24731FD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F462B-986E-4224-918F-546976626D7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ward and backward chaining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The completeness of resolution makes it a very important inference model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Real-world knowledge only requires a restricted form of clauses: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Horn clauses = disjunction of literals with at most one positive literal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Three important properti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Can be written as an implication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Inference through forward chaining and backward chaining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Deciding entailment can be done in a time linear size of the knowledge base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666880" y="4495680"/>
                <a:ext cx="4724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ØL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ÚØ</m:t>
                        </m:r>
                        <m:r>
                          <m:rPr>
                            <m:lit/>
                            <m:nor/>
                          </m:rPr>
                          <m:t xml:space="preserve">Breeze</m:t>
                        </m:r>
                        <m:sSub>
                          <m:e>
                            <m:r>
                              <m:t xml:space="preserve">ÚB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,1</m:t>
                            </m:r>
                          </m:sub>
                        </m:sSub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Breeze</m:t>
                        </m:r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,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57F9-F146-4FCD-A1E1-186E06B2B4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0A98C-036F-4154-832A-C3565DD73A7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Idea: fire any rule whose premises are satisfied in the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dd its conclusion to the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, until query is found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971800"/>
            <a:ext cx="5029200" cy="32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F499-C2C8-4561-9C21-D7821F2216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19301-3CEA-4F66-823D-DD5BBEA8F5F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ward chaining is sound and complete for Horn KB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2362320"/>
            <a:ext cx="66294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8583-D043-4660-9DD0-57FA23B8EC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EFC05-AAFA-4557-A259-D5ABC542A0B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A805-2E9F-4609-B7C9-3E6C6C7920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3CE94-0DDC-45E6-90F6-74F838C5AE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89FD-90AB-4547-81B7-EF98BFA5C71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359C3-D6EF-41AE-9391-B015F14D555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AF53-3474-445F-B52B-1EDF0AE2BE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4AE21-9DA5-4656-BBDF-121C15C8E27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B288-7402-4AD8-A0F9-5F29FB7F954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C4BE-97A7-4ABB-A3BE-8CC29A7B6D0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3029-433F-43BA-A9C9-0652955EDF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6888F-8E68-4F5D-9ED9-9DC0AF2F6DA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305400" cy="41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C15F-0C48-41B3-949A-D7D927FB84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018C4-6440-4F18-B66C-CFC4F2E517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A0AE-9B6B-4144-A93B-6F792E9C780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F4829-70EE-401B-B75B-C1D67B6D26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8E9C-3035-42F3-8CEA-D65B3C44A2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7D457-681A-4030-9A7E-48AF41DD618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434A-C34B-4E58-A14D-6D4D4C89A90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50A9A-B77F-40F9-B541-ECA731CC6E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of of completenes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C reaches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xed poin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where no new atomic sentences are deriv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ider the final state as a mode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assigning true/false to symbol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very clause in the origina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true i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k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a model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|=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true i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every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model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including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49DC-619D-43A8-96C8-1D822813A0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71580-8FDC-4D8D-93B9-CF8B9E84B8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work backwards from the quer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o prov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y BC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heck i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s known already, o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ove by BC all premises of some rule concludin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q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void loops: check if new subgoal is already on the goal stack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void repeated work: check if new subgoa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as already been proved true, o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as already fail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C5A8-C32A-495E-B007-9FCA45DDD9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96A48-73C6-47E3-9E6C-A4B9DEFED3C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C692-CC18-48C1-92DB-D04E791364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DE324-B713-43EB-9FB3-BB3DE28BD67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29A4-E7F8-4A40-BF0F-7474BEF432D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A6577-8893-464D-AAC7-4B8459A6A47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4EE0-A97F-44EF-8F17-D1D62839BA7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3C345-634A-4042-89A0-A884F262493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8AC5-41FD-4550-B095-0273CFE759A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8BDC6-D09D-461E-AB6F-134F8F8626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7275-742B-40E1-98E2-D9180E2D949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2E859-F513-4E87-80B1-A883B200AFE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ositional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0680" y="2948040"/>
            <a:ext cx="852948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EE09-F697-46E2-A78D-C2190C323B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65757-A7EC-4B92-A33A-3D2282CA12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4BB74-F406-4914-8F22-8A09BF935EE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65FFB-71DD-4C2F-80E0-2D273176AE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7BEF-CF74-42CD-878E-26449A0F85E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02470-6B12-47F5-BABC-947AA79FC4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25C1-FBF9-4AC5-93E8-EB435C934AC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324EB-DFE3-496C-9B51-59A213CF5A3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3CDB-C38A-4D9E-B808-7E81AB62C28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F68BB-1578-492C-9D15-6BC68D0F16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ward chain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F852-33A6-478D-A2CE-92AB4B9B03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1EBDB-43B7-4C3C-B83B-801D24E2F7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vs. backward chai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FC is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data-drive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 automatic, unconscious processing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object recognition, routine decis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ay do lots of work that is irrelevant to the goal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BC is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goal-drive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 appropriate for problem-solving,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Where are my keys? How do I get into a PhD program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Complexity of BC can be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much less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han linear in size of KB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AD6D-389F-4E6D-9787-23A55DD160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D9B28-0D58-4493-ACCF-130EAAFB5B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Effective propositional inferen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Two families of efficient algorithms for propositional inference based on model checking: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Are used for checking satisfiability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Complete backtracking search algorithms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PLL algorithm (Davis, Putnam, Logemann, Loveland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Improves TT-Entails? Algorithm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complete local search algorith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7f7358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Courier New"/>
              </a:rPr>
              <a:t>WalkSA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lgorithm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2D48-4A61-4337-B324-DEFDBB0775C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1A028-747C-472A-99EB-19C15057B79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DPLL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Determine if an input propositional logic sentence (in CNF) is satisfiable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Improvements over truth table enumeration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arly termin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 clause is true if any literal is true. A sentence is false if any clause is fals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2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2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B</a:t>
            </a:r>
            <a:r>
              <a:rPr b="0" lang="en-US" sz="12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4" marL="220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ure symbol heuristic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Pure symbol: always appears with the same "sign" in all clauses.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, In the three clauses (A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), (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), (C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A), A and B are pure, C is impure.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sign a pure symbol so that their literals are tru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4" marL="220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Unit clause heuristic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Unit clause: only one literal in the clause or only one literal which has not yet received a value. The only literal in a unit clause must be true. First do this assignments before continuing with the rest (unit propagation!)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A3C9-A7A0-4BFC-BB56-716F0794DF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B398A-4592-4834-934F-0D58B51AD3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DPLL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990720" y="175248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8BA8-FD9E-4E1B-A9DA-A3458AB53E8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EBA45-005F-4A07-A2ED-5C5A0A71A9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4200" spc="-1" strike="noStrike">
                <a:solidFill>
                  <a:srgbClr val="ffffff"/>
                </a:solidFill>
                <a:latin typeface="Courier New"/>
              </a:rPr>
              <a:t>WalkSA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Incomplete, local search algorithm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Evaluation function: The min-conflict heuristic of minimizing the number of unsatisfied clauses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Steps are taken in the space of complete assignments, flipping the truth value of one variable at a time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Balance between greediness and randomness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o avoid local minima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7A4C-E875-4897-9119-B2BD192EEE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5BDCC-0120-413A-A415-71B0D5CF28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6520" y="1989000"/>
            <a:ext cx="72374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5CDF-0F22-4F78-A848-19C4936095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EC2FE-7447-490D-9271-8A37CCF778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4200" spc="-1" strike="noStrike">
                <a:solidFill>
                  <a:srgbClr val="ffffff"/>
                </a:solidFill>
                <a:latin typeface="Courier New"/>
              </a:rPr>
              <a:t>WalkSA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800280" y="1905120"/>
            <a:ext cx="7543800" cy="37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D3F0-A9CB-4CD4-8989-5A045DE9472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FCFEF-A443-4480-818F-9C53B8C7CE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derconstrained problems are easy: e.g n-queens in CSP. In SAT: e.g.,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C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E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B)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(B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Increase in complexity by keeping the number of symbols fixed and increasing the amount of clauses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number of clause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number of symbol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ard problems seem to cluster nea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/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4.3 (critical poin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F2B9-6DA8-4AD1-BBC8-34DF976291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56B34-B861-4AA8-B62D-12F5717F5FA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57480" y="1447920"/>
            <a:ext cx="6629400" cy="47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19EF-6AA2-466D-8C44-04953BDD78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2CFE3-AD89-4C72-92C6-96B4223C12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rd satisfiabilit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4160" y="1752120"/>
            <a:ext cx="852948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Median runtime for 100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atisfiab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random 3-CNF sentences,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10552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8486-1999-4E69-86A3-EDDEE5A14D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E8F9-59A5-4055-ACF3-E033A364FE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ference-based agents in the wumpus wor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6360" y="142560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A wumpus-world agent using propositional logic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 a knowledge base about the physics of the W-world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(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+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-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-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(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+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,y-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x-1,y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4,4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 (at least one wumpu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 (at most one wumpu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,3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64 distinct proposition symbols, 155 sentences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A fringe square is </a:t>
            </a:r>
            <a:r>
              <a:rPr b="1" lang="en-US" sz="1900" spc="-1" strike="noStrike">
                <a:solidFill>
                  <a:srgbClr val="7f7358"/>
                </a:solidFill>
                <a:latin typeface="Verdana"/>
              </a:rPr>
              <a:t>provably safe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if the sentence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is entailed by the knowledge base.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86600" y="5486400"/>
                <a:ext cx="160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Ø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ÙØ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8AAA-161A-4B6F-9EEC-4C69890BBA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11B3E-F338-45F5-85DD-F83C5F8B407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1143000" y="985680"/>
            <a:ext cx="6858000" cy="488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7174-D8AA-4E99-8EFD-892DA999FCF5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881FF-D30A-449B-8233-2F69F38C6C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4160" y="18288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KB contains "physics" sentences for every single square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ith all consequences for large KB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tter would be to have just two sentences for breezes and stenches for all squares.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ossible for propositional logic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Simplification in agent: location info is not in KB!!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or every time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and every location [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],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L</a:t>
            </a:r>
            <a:r>
              <a:rPr b="0" i="1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 baseline="-25000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FacingRight</a:t>
            </a:r>
            <a:r>
              <a:rPr b="0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Forward</a:t>
            </a:r>
            <a:r>
              <a:rPr b="0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L</a:t>
            </a:r>
            <a:r>
              <a:rPr b="0" i="1" lang="en-US" sz="1700" spc="-1" strike="noStrike" baseline="30000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1700" spc="-1" strike="noStrike" baseline="-25000">
                <a:solidFill>
                  <a:srgbClr val="7f7358"/>
                </a:solidFill>
                <a:latin typeface="Verdana"/>
              </a:rPr>
              <a:t>x+1,y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f7358"/>
                </a:solidFill>
                <a:latin typeface="Verdana"/>
              </a:rPr>
              <a:t>PROBLEM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: Rapid proliferation of clauses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xpressiveness limitation of propositional logi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5FC1-C3EF-4AAA-8FF9-5BAD4B3A9AA3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49666-A28C-4DB2-93E7-00B02956DF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ferenc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knowledge bas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derive new information and make decision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sic concepts of logic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yntax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formal structure of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emantic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truth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of sentences wrt 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odel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entailment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necessary truth of one sentence given another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inference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ing sentences from other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soundnes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ations produce only entailed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completenes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: derivations can produce all entailed sentence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opositional logic lacks expressive powe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3DA7-B178-4FAF-9A86-26A4CB6763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FE74F-38B7-44F4-AB64-8104E830733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8640" y="1989000"/>
            <a:ext cx="6253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51ED-AA11-404E-8B3F-0CE173083D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D6B08-FDB7-4843-9079-7F6C7F0AF1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uth tables for infer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98040" y="182880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te the models and check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in eve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2678040" cy="158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37502" t="30211" r="7811" b="32293"/>
          <a:stretch/>
        </p:blipFill>
        <p:spPr>
          <a:xfrm>
            <a:off x="2743200" y="2590920"/>
            <a:ext cx="5981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35E7-C3D5-46A8-BDDB-D69D517CD8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55D0E-EE8A-4D6A-B9B4-17FCB88BB1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ference by enumer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Depth-first enumeration of all models is sound and complete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ymbols, time complexity is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O(2</a:t>
            </a:r>
            <a:r>
              <a:rPr b="0" i="1" lang="en-US" sz="21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 space complexity is </a:t>
            </a:r>
            <a:r>
              <a:rPr b="0" i="1" lang="en-US" sz="2100" spc="-1" strike="noStrike">
                <a:solidFill>
                  <a:srgbClr val="5f604a"/>
                </a:solidFill>
                <a:latin typeface="Verdana"/>
              </a:rPr>
              <a:t>O(n)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523880" y="2514600"/>
            <a:ext cx="556272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830A-AD22-4CEE-A08E-7C6A76F58E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01104-94E9-4FD1-B852-5AB56ABA670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equival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6360" y="167652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wo sentences are </a:t>
            </a:r>
            <a:r>
              <a:rPr b="0" i="1" lang="en-US" sz="2300" spc="-1" strike="noStrike">
                <a:solidFill>
                  <a:srgbClr val="333399"/>
                </a:solidFill>
                <a:latin typeface="Verdana"/>
              </a:rPr>
              <a:t>logically equivalent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ff true in same set of models or 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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ß iff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|=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ß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  <a:ea typeface="Arial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nd ß |=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600200" y="2514600"/>
            <a:ext cx="6477120" cy="34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21E1-F6DB-4D79-8D8B-8880BF3B08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A344F-DE47-42AB-A616-1BB2F463E05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tlo</cp:lastModifiedBy>
  <cp:lastPrinted>2006-03-23T11:43:51Z</cp:lastPrinted>
  <dcterms:modified xsi:type="dcterms:W3CDTF">2006-03-31T11:16:24Z</dcterms:modified>
  <cp:revision>724</cp:revision>
  <dc:subject/>
  <dc:title>CMSC 723: Introduction to  Computational Linguistics</dc:title>
</cp:coreProperties>
</file>