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A1AC-F17A-43BE-AB1C-CECD8911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DD11-FFFB-463F-A5A2-1A4E7A13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78D0-DDF8-40EA-B097-F75306CD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02B6-443B-4DA4-8D5F-E764BA3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89AB-88DD-4EF0-9D32-885C597C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A5EA-5C87-4A45-9FD7-4C26A9F4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BEE-1025-409E-8C4C-D4DAAEA3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935-CE74-4BA5-85B4-286D7DCE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1EA4-17A8-45F0-80B2-6F0C0FEF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3267-84D7-4DD0-8D30-33BE529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7824-5373-46D7-8207-B9A0275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3F8A-4811-4704-99E4-67F69C67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F842-F158-4D9E-91EE-7CB3A994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74E-60E8-4203-A9CD-EA7DA7F9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5D23-FA66-4E64-999C-E202CA1D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5A5-A952-4B82-A479-D620A8D4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7B24-337F-47B6-B2BE-90AA18BA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26DA-BBF3-46DD-8ACF-14E607F9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FAEF-B2B2-4380-8DB0-96B62AAE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0F85-8B41-40AE-9679-D6A59C91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4063-1715-4676-A0C5-87F4F776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E938-D472-4718-BF16-03F987B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9626-3BB9-4E4C-9B8D-8288B4A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7D8E-3EBE-468D-AE14-E8C2FD2C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5A1-D438-4C70-9207-EC16F3B50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509-A1E6-492B-B135-1ED41D7B7FD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F6E-D5BA-4335-B3CF-D79322A8897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A25C-967F-4C89-BA53-3C3F78346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Artificial Intelligence I: knowledge repre- sentation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r: Tom Lena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 de Recherches Interdisciplinaires et de Développements en Intelligence Artificielle (IRIDIA). Université Libre de Brux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380880"/>
            <a:ext cx="61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d on ppt slides for CMSC 421 by B.J. D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 between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disjoint exhaustive decompos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rtition(s,c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Disjoint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.D.(s,c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ample: Partition({Males,Females},Persons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Americans,Canadian, Mexicans},NorthAmericans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arti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es can be defined by providing necessary and sufficient conditions for memb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x Bachelor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 Male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Adult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Unmarried(x)</a:t>
            </a:r>
            <a:endParaRPr b="0" lang="en-US" sz="17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7244-2D25-41C7-B228-EE4D8225C5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265C42-1B01-4BE9-B674-C267A4D782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atural kin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categories have no clear-cut definitions (chair, bush, book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matoes: sometimes green, red, yellow, black. Mostly roun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solution: catego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ypical(Tomato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, x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Typical(Tomatoe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Re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pherical(x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 can write down useful facts about categories without providing exact definition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bout “bachelor”? Quine challenged the utility of the notion of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ict defin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We might question a statement such as “the Pope is a bachelor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5679-022E-4422-8A51-47329EDEAE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906AA1-937C-4483-821D-777BF53266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composi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bject may be part of ano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Bucharest,Romania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Romania,EasternEurope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EasternEurope,Europe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Of predicate is transitive (and irreflexive), so we can infer that PartOf(Bucharest,Euro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gener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x  PartOf(x,x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x,y,z PartOf(x,y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y,z)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PartOf(x,z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characterized by structural relations among p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E.g. Biped(a)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24080" y="5029200"/>
            <a:ext cx="48006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B048-132B-422B-A167-1D0D0EA626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EE1F7C-6AD4-47BB-854D-8E3BA35A3B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asu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have height, mass, cost, ...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that we assign to these ar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bine Unit functions with a number: Length(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Inches(1.5) = Centimeters(3.81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sion between unit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Centimeters(2.54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)=Inches(i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measures have no scale: Beauty, Difficulty, et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st important aspect of measures: is that they are orderab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on't care about the actual numbers.  (An apple can have deliciousness .9 or .1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B916-4901-4C49-884D-D0CD4A0389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49CB3E-CCA3-4156-BFC4-EEA58A13FC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914" t="0" r="2178" b="3358"/>
          <a:stretch/>
        </p:blipFill>
        <p:spPr>
          <a:xfrm>
            <a:off x="457200" y="1987560"/>
            <a:ext cx="4038480" cy="3873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 about outcome of actions is central to KB-ag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we keep track of location in F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Remember the multiple copies in PL.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presenting time by situations (states resulting from the execution of actions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Situation calculus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0F4C-07E4-4E35-A1EC-645730A0F5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DF394D-6F01-4AF9-BF74-E707E3D29D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tuation calcul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ctions are logical term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tuations are logical terms consiting of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itial situation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ituations resulting from the action on  I (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ult(a,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luent are functions and predicates that vary from one situation to the next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lding(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ternal predicates are also allowe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ld(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889C-0F4E-4AD4-B4C0-B1B0DDB181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C7E13-2D0D-44F8-B86F-1D9D13ED67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f action sequences are determined by the individual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ion tas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SC agent should be able to deduce the outcome of a sequence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ning tas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a sequence that achieves a desirabl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1F4D-99F1-4986-9842-D280A44504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F36050-58ED-43DF-8582-08A6CFA853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55720" y="1981080"/>
            <a:ext cx="5632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402A-8311-4F5B-9524-E9F30A84E5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375091-DBD0-4309-B276-303AB9CB7E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cribing 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ples Situation calculus requires two axioms to describe chang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ossibility axiom: when is it possible to do the a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x,s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jacent(x,y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s(Go(x,y),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ffect axiom: describe changes due to a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s(Go(x,y),s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y,Result(Go(x,y)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stays the s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rame problem:  how to represent all things that stay the same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rame axiom: describe non-changes due to a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o,x,s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o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Agent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lding(o,s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o,x,Result(Go(y,z)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8F07-46A2-4EE3-BB2E-3D9E1E7951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C87F8B-E7A2-4501-95A5-DB5E368068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resentational frame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re are F fluents and A actions then we need AF frame axioms to describe other objects are stationary unless they are he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 write down the effect of each a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ution; describe how each fluent changes over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ccessor-state axiom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(a,s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y,Result(a,s)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a = Go(x,y)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y,s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Go(y,z)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e that next state is completely specified by current sta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ach action effect is mentioned only onc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6A8C-4B49-4632-8BC7-C3793AF52F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F573A-13B1-4B04-8B74-036BC5D2B7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logical engine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ies an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ons, situations and ev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ntal events and mental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ternet shopping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soning systems for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soning with default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uth maintenanc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D9AA-1514-4D89-BB65-33F872278B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7B88CC-34D9-4451-8089-908E0026F8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deal with secondary (implicit) effec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the agent is carrying the gold and the agent moves then the gold moves to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amification proble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decide EFFICIENTLY whether fluents hold in the futu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ferential frame probl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vent calculus (when actions have a duration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cess categories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E7D9-1B74-4105-BC80-A7752EB1B4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9D5383-1023-45E5-A50F-73932E4958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ntal events and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 far, KB agents can have beliefs and deduce new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bout knowledge about beliefs? What about knowledge about the inference proc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quires a model of the mental objects in someone’s head and the processes that manipulate these object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ships between agents and mental objects: believes, knows, wants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elieves(Lois,Flies(Superman)) with Flies(Superman) being a function … a candidate for a mental object (reification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gent can now reason about the beliefs of agent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0431-1988-4B14-9D11-F400A07C83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9FA3F0-9501-4F96-90CE-5AC11CFAA8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ternet shopping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Knowledge Engineering 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agent that helps a buyer to find product offers on the intern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= product description (precise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cise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UT = list of webpages that offer the product for sa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vironment = WW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cepts = web pages (character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tracting useful information required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F30D-BEA1-425B-9BE5-18FB3A1A75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76EC1-681A-4269-8146-B23A7C5E7D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ternet shopping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relevant product of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levantOffer(page,url,query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Relevant(page, url, query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Offer(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rite axioms to define Offer(x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nd relevant pages: Relevant(x,y,z) 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from an initial set of s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 relevant catego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relevant connected p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quire rich category vocabulary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onymy and ambig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to retrieve pages: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GetPage(url)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 att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are offers (information extraction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108A-A0FC-4AB8-9755-718D0BC59A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5FC37F-FBBE-4BC7-A5E6-D3CB40E8D1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soning systems for catego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organise and reason with categor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mantic network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e knowledge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lgorithms for category membership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cription log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language for constructing and combining category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lgorithms to decide subset and superset relationships between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088C-7177-4609-885C-525DB9A790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5F84C-9AA7-4611-859F-625802D5DB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mantic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ic vs. semantic net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vari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represent individual objects, categories of objects and relationships among object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for inheritance reas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emale persons inherit all properties from perso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r. OO programming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erence of inverse lin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sterOf vs. HasSiste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5232-5124-4D50-9BB5-91528F7ED6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90B91E-09AB-4645-8D62-13E76BE070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mantic network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289548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89548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1F3F-68C9-41EC-8267-9FC084E4CCC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595C81-11D8-419A-BFB0-870B0F13A4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mantic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ba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inks can only assert binary rel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n be resolved by reification of the proposition as an ev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resentation of default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nforced by the inheritance mechanism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ACA7-A632-4DB6-9E6E-7BC6F80A31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B28F1A-5C2B-4DAD-A80E-77502840E6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cription log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signed to describe defintions and properties about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formalization of semantic network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ncipal inference task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ubsumpti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checking if one category is the subset of another by comparing their defini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checking whether an object belongs to a category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sistency: whether the category membership criteria are logically satisfiab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CA27-9F8F-4F52-9315-E72C99FB9D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34437-748F-4C0C-B98D-566ED70C07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soning with Default Inform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llowing courses are offered: CS101, CS102, CS106, EE101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 (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ume that this information is complete (not asserted ground atomic sentences are false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= CLOSED WORLD ASSUMP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ume that distinct names refer to distinct object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= UNIQUE NAMES ASSUMP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one and infinity (lo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es not make these assumptio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quires completion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418D-3108-449F-ACD4-98D55C8851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64EA98-BCF4-4A6D-BF9D-2A3005ABAC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tological engine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create more general and flexible represent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cepts like actions, time, physical object and belief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perates on a bigger scale than K.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 general framework of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pper ontolog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mitations of logic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d, green and yellow tomatoes: exceptions and uncertaint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4C62-7457-4DD4-A1D8-1B463BA206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F4306B-F29F-4599-A231-0100E9855B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th maintenance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of the inferences have default status rather than being absolutely cert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ferred facts can be wrong and need to be retracted = BELIEF REVISIO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ume KB contains sentence P and we want to execute TELL(KB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void contradiction: RETRACT(KB,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at about sentences inferred from 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uth maintenance  systems are designed to handle these complic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4B5C-10BC-4DAE-8E05-E6FC45EF87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DD64E8-2D34-4923-948B-06EB23AA6F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upper ontology of the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0480" y="1981080"/>
            <a:ext cx="776124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C72D-77DA-420D-AA12-FAD14FE42A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8D0DCB-A443-4D46-A132-3ECCDA7A63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ce with special-purpose ont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eneral-purpose ontology should be applicable in more or less any special-purpose doma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dd domain-specific axiom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ny sufficiently demanding domain different areas of knowledge need to be unifi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ing and problem solving could involve several areas simultaneousl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 we need to expres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tegories, Measures, Composite objects, Time, Space, Change, Events, Processes, Physical Objects, Substances, Mental Objects, Belief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6F48-7EA1-48D4-8CCB-6E939808D9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EF0512-2598-4683-9077-B9EB8CF6D4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and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R requires the organisation of objects into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raction at the level of the objec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ing at the level of categori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ies play a role in predictions about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ased on perceived properti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ies can be represented in two ways by F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dicates: apple(x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eificati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f categories into objects: appl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y = set of its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0807-1712-4B73-AEBF-41EE1FA002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648A5-C9DA-4A17-AF1D-A683D35755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y organ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ll instance of food are edible, fruit is a subclass of food and apples is a subclass of fruit then an apple is edibl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s a taxonom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429000"/>
            <a:ext cx="3962160" cy="26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7A91-DE0F-4832-B886-56076A11C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7BA99-243F-47FB-83E1-70FBCF1FF2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L and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is a member of a categ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mberOf(B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Basketballs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ategory is a subclass of another categ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bsetOf(Basketballs,Balls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s of a category have some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 (MemberOf(x,Basketbal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Round(x)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s of a category can be recognized by some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 (Orange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Round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Diameter(x)=9.5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MemberOf(x,Bal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MemberOf(x,BasketBalls)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ategory as a whole has some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mberOf(Dogs,DomesticatedSpecies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2538-9354-40DB-A40D-73641B760B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516820-2FCC-47DC-8CBA-C429FA6B11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 between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or more categories ar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isj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they have no members in commo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joint(s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500" spc="-1" strike="noStrike">
                <a:solidFill>
                  <a:srgbClr val="000000"/>
                </a:solidFill>
                <a:latin typeface="cmsy10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,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Intersection(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,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) ={}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; Disjoint({animals, vegetables}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of categori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itutes 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xhaustive decompos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a categor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ll members of the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vered by categorie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.D.(s,c)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i  i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ample: ExhaustiveDecomposition({Americans, Canadian, Mexicans},NorthAmericans)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3437-55B0-4037-A56C-571030E0E4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6C18CC-AB50-46F6-883E-D2EF3EBA16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cp:lastPrinted>2004-12-01T14:14:45Z</cp:lastPrinted>
  <dcterms:modified xsi:type="dcterms:W3CDTF">2004-12-08T13:53:31Z</dcterms:modified>
  <cp:revision>861</cp:revision>
  <dc:subject/>
  <dc:title>CMSC 723: Introduction to  Computational Linguistics</dc:title>
</cp:coreProperties>
</file>