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231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D3E3-D5DF-4856-8099-EEB23C17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9826-5D91-4A22-AA78-ACBBFA75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822F3-C0D3-4511-AEDC-876CB7F1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24100-8C91-4980-92DB-E30B66BE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2C75-E8B2-4AD9-863D-A9A26E21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599-78AA-4B07-88F1-7E985B3A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4212-45D3-4862-9CE9-19AC0774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8AC6-3120-4A85-8D96-56A1F039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6B65-C77D-40DD-9734-68927C4F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6CA2-1962-4A6F-BE40-158EEA93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C2B5-CDEF-435A-B52F-852ED847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6A83-7369-44CC-A6D9-850165A4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7D59-2567-4AE1-93AF-2D739BD0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2BF4-00DD-4A9D-8BD6-11059FA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D876-9F77-4DD2-8535-445E6B37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BE06-3883-4F36-99CA-FD7B7703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6215-A65B-4C7C-8DDB-9A9E84B7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07FB-0874-47F2-940D-AD8118B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F47C-2402-46F8-B7AE-FDFAE244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5B15-798B-43F3-90AF-2D75D1B6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5A9F-76AA-406E-AA34-6442BEAB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C44E6-7B4D-4B3B-BC0E-7DBE2BFF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AE47-49A0-476A-B981-9704AADC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7C18-3DD5-47B7-AD8A-BD28DCA4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A868-40E8-4784-9B6E-D7E181615D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CB59-D4D2-48C3-A100-E20CC94E657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6EB-137C-4B7C-89C2-B505D39E4E07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7D8A-E6A6-47F6-B7A8-BA7821721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Artificial Intelligence I: knowledge repre- sentation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r: Tom Lenae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 de Recherches Interdisciplinaires et de Développements en Intelligence Artificielle (IRIDIA). Université Libre de Brux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380880"/>
            <a:ext cx="61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d on ppt slides for CMSC 421 by B.J. Do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 between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part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a disjoint exhaustive decomposi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artition(s,c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Disjoint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.D.(s,c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ample: Partition({Males,Females},Persons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{Americans,Canadian, Mexicans},NorthAmericans)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partition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es can be defined by providing necessary and sufficient conditions for memb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x Bachelor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 Male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Adult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 Black"/>
              </a:rPr>
              <a:t>Unmarried(x)</a:t>
            </a:r>
            <a:endParaRPr b="0" lang="en-US" sz="17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7F90-ADAD-4412-9A95-8966B7116E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245696-73F5-45A6-A023-845E00F9756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atural kin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categories have no clear-cut definitions (chair, bush, book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matoes: sometimes green, red, yellow, black. Mostly roun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solution: category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ypical(Tomato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x, x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Typical(Tomatoe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Red(x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pherical(x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e can write down useful facts about categories without providing exact definition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bout “bachelor”? Quine challenged the utility of the notion of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strict defini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We might question a statement such as “the Pope is a bachelor”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5F84-1A83-4C8B-8510-9F095F4887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E3A153-BDD9-4C61-8906-C08911E01EB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composi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bject may be part of ano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Bucharest,Romania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Romania,EasternEurope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EasternEurope,Europe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Of predicate is transitive (and irreflexive), so we can infer that PartOf(Bucharest,Europ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general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x  PartOf(x,x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x,y,z PartOf(x,y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tOf(y,z)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PartOf(x,z)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characterized by structural relations among p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E.g. Biped(a) </a:t>
            </a:r>
            <a:r>
              <a:rPr b="0" lang="en-US" sz="13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24080" y="5029200"/>
            <a:ext cx="4800600" cy="16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D5AE-34E7-434A-ACC7-B91A743638A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8984E6-8ADA-4693-A392-E06F2134FE5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asu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bjects have height, mass, cost, ...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alues that we assign to these ar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bine Unit functions with a number: Length(L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= Inches(1.5) = Centimeters(3.81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version between units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 Centimeters(2.54 </a:t>
            </a:r>
            <a:r>
              <a:rPr b="0" lang="en-US" sz="2600" spc="-1" strike="noStrike">
                <a:solidFill>
                  <a:srgbClr val="000000"/>
                </a:solidFill>
                <a:latin typeface="cmsy10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)=Inches(i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me measures have no scale: Beauty, Difficulty, etc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ost important aspect of measures: is that they are orderab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on't care about the actual numbers.  (An apple can have deliciousness .9 or .1.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06DC-F575-44CB-A3A2-8BAC042AEB0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E72E819-204B-4335-9630-7A3282B16C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6914" t="0" r="2178" b="3358"/>
          <a:stretch/>
        </p:blipFill>
        <p:spPr>
          <a:xfrm>
            <a:off x="457200" y="1987560"/>
            <a:ext cx="4038480" cy="3873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soning about outcome of actions is central to KB-ag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we keep track of location in FO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Remember the multiple copies in PL.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presenting time by situations (states resulting from the execution of actions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8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Situation calculus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71E47-33F6-4CB1-A830-302FC700C5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61FCD4-78AE-4E73-ACD5-44CC4CA8CF6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tuation calculu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ctions are logical term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ituations are logical terms consiting of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itial situation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ituations resulting from the action on  I (=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ult(a,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luent are functions and predicates that vary from one situation to the next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olding(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ternal predicates are also allowed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old(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02E2-BED0-4D42-8278-552F1AE6A6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589E6C-0A7A-40E3-B32A-531C4FD7CF9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of action sequences are determined by the individual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jection tas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SC agent should be able to deduce the outcome of a sequence of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nning task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d a sequence that achieves a desirabl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D7FD-EFBE-43FF-87BA-D8330AF28B4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D257596-947E-459B-8919-0A4F0F4714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ons, events and situ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755720" y="1981080"/>
            <a:ext cx="5632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5FFB-5DC9-4D50-94B4-DC9C2EFB5C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80CB8A-5BD6-406A-8C11-6CF1F51DA3D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cribing 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mples Situation calculus requires two axioms to describe chang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ossibility axiom: when is it possible to do the a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x,s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djacent(x,y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s(Go(x,y),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ffect axiom: describe changes due to action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s(Go(x,y),s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y,Result(Go(x,y)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stays the sam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rame problem:  how to represent all things that stay the same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rame axiom: describe non-changes due to a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o,x,s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(o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Agent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olding(o,s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o,x,Result(Go(y,z),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48CBD-0E10-4BB5-A412-90FA549620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E31178-C1DA-41B9-BBD7-7291A9A2E01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resentational frame probl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re are F fluents and A actions then we need AF frame axioms to describe other objects are stationary unless they are he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e write down the effect of each ac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ution; describe how each fluent changes over ti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uccessor-state axiom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s(a,s)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y,Result(a,s)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(a = Go(x,y)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(Agent,y,s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 Go(y,z)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e that next state is completely specified by current stat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ach action effect is mentioned only onc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A492-172F-42D8-8E63-AF40FBF64D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5A36EC-2FC8-4B55-8462-676463B06F4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tological engine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ies an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ons, situations and ev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ntal events and mental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internet shopping wor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soning systems for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soning with default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uth maintenance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5B99B-C786-4BDC-9A7C-2579949CA3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FE40BB-7FAB-46B8-984D-5F5ECBEEEAA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deal with secondary (implicit) effec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f the agent is carrying the gold and the agent moves then the gold moves too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amification proble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decide EFFICIENTLY whether fluents hold in the futur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ferential frame problem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xtens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vent calculus (when actions have a duration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ocess categories 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512D-C1CC-470E-9B38-AE89AB914B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91FE32-57EC-4167-B50E-2E85B93D0E6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ntal events and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 far, KB agents can have beliefs and deduce new belief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about knowledge about beliefs? What about knowledge about the inference proce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quires a model of the mental objects in someone’s head and the processes that manipulate these object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lationships between agents and mental objects: believes, knows, wants, 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elieves(Lois,Flies(Superman)) with Flies(Superman) being a function … a candidate for a mental object (reification)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gent can now reason about the beliefs of agent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0F1FF-D451-476A-A697-2063B7A2E8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2EA8F2-3CA8-4EC7-8A4C-1441A307219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ternet shopping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Knowledge Engineering exam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 agent that helps a buyer to find product offers on the intern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 = product description (precise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cise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UT = list of webpages that offer the product for sa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vironment = WW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ercepts = web pages (character string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tracting useful information required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E26F-61BC-4863-A089-814A0FAA5F2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9F12E8-9649-4CA4-9BB9-E3A770B8B11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internet shopping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nd relevant product of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levantOffer(page,url,query)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Relevant(page, url, query)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Offer(p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rite axioms to define Offer(x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ind relevant pages: Relevant(x,y,z) 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from an initial set of st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a relevant catego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relevant connected p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quire rich category vocabulary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onymy and ambig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ow to retrieve pages: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GetPage(url)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al attach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pare offers (information extraction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54E27-11DC-4843-B871-E5606EE346A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6D53299-B4FC-432C-845D-1BA9B5093EE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soning systems for categori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organise and reason with categori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mantic network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ize knowledge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lgorithms for category membership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cription logic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language for constructing and combining category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lgorithms to decide subset and superset relationships between categ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BB1C-D0ED-40C0-9E69-5420C53F46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DC3D63-854C-4C28-A744-11C286ED04B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mantic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gic vs. semantic net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vari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represent individual objects, categories of objects and relationships among objects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s for inheritance reaso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emale persons inherit all properties from person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r. OO programming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erence of inverse link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sterOf vs. HasSister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F98DE-7D6D-42B1-B33A-5E27F6624CA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217795-7E4B-479C-A04B-51C65D87CAA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mantic network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591012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895480" y="289548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895480"/>
            <a:ext cx="11430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65C5-3451-4BA6-A7FF-07BAB213C2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399C81-9AB4-4195-A8D0-95F16BE9A54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mantic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bac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Links can only assert binary rel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an be resolved by reification of the proposition as an ev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resentation of default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nforced by the inheritance mechanism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243E6-68A7-49CE-BC9F-3C8B719E1D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FAD86A-60C5-451A-903A-9A9E62C512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cription log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designed to describe defintions and properties about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formalization of semantic network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incipal inference task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Subsumpti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checking if one category is the subset of another by comparing their definition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: checking whether an object belongs to a category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nsistency: whether the category membership criteria are logically satisfiabl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5619-E7A3-4EE1-96A8-235DD4F4ED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166F77-A90B-4321-9C1A-30BB46E1788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asoning with Default Inform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llowing courses are offered: CS101, CS102, CS106, EE101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 (d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ume that this information is complete (not asserted ground atomic sentences are false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= CLOSED WORLD ASSUMP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sume that distinct names refer to distinct object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= UNIQUE NAMES ASSUMPTION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one and infinity (log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oes not make these assumptions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quires completion.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85F7-EC1F-48CD-8963-0FCE43B960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00F842-F7D4-4366-83B0-247E7EE9BCC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tological engine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w to create more general and flexible represent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ncepts like actions, time, physical object and belief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perates on a bigger scale than K.E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 general framework of concep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Upper ontolog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imitations of logic repres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d, green and yellow tomatoes: exceptions and uncertaint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352FF-206E-49C7-AB7E-271316B067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02F2417-B323-4473-BE41-2B857CAAB4C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th maintenance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ny of the inferences have default status rather than being absolutely cert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ferred facts can be wrong and need to be retracted = BELIEF REVISION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ssume KB contains sentence P and we want to execute TELL(KB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void contradiction: RETRACT(KB,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what about sentences inferred from 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uth maintenance  systems are designed to handle these complic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ECE6-9B88-43D8-91DC-591E4A79AC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AFE01-5E8B-4DE2-AF3E-C23D45CD188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upper ontology of the wor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0480" y="1981080"/>
            <a:ext cx="776124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164A-C99A-460D-9B48-3D0264E97E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D93AF5-93BF-4E6C-BC10-44DCE030CE0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ce with special-purpose ont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general-purpose ontology should be applicable in more or less any special-purpose domai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dd domain-specific axiom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any sufficiently demanding domain different areas of knowledge need to be unifi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ing and problem solving could involve several areas simultaneously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o we need to expres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ategories, Measures, Composite objects, Time, Space, Change, Events, Processes, Physical Objects, Substances, Mental Objects, Belief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8BA5-4836-44F0-AEC2-F1177519D5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2A3DF8-C09D-4338-8FE1-9FE46BD96C1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and obj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R requires the organisation of objects into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teraction at the level of the object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easoning at the level of categori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ies play a role in predictions about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ased on perceived properti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ies can be represented in two ways by F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edicates: apple(x)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Reification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of categories into objects: apples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tegory = set of its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AD68-7608-4B79-91CB-90F2A79823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764EC5-ECC1-4EA3-BF2F-D80C559FE4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y organ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ll instance of food are edible, fruit is a subclass of food and apples is a subclass of fruit then an apple is edibl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s a taxonom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91120" y="3429000"/>
            <a:ext cx="3962160" cy="26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F4D3C-9344-4F28-A80F-229AE97D68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5D3544-216A-490B-BF85-3CEE088001D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L and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is a member of a categ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mberOf(BB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Black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,Basketballs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ategory is a subclass of another categ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bsetOf(Basketballs,Balls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bers of a category have some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 (MemberOf(x,Basketbal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Round(x)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members of a category can be recognized by some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 (Orange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Round(x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Diameter(x)=9.5i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MemberOf(x,Bal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MemberOf(x,BasketBalls)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category as a whole has some proper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emberOf(Dogs,DomesticatedSpecies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0EC7-DE30-4922-8742-D6F1852402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D63DD1-60B1-42B0-8DDB-A7D0BA693BE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 between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or more categories ar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disj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they have no members in commo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sjoint(s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500" spc="-1" strike="noStrike">
                <a:solidFill>
                  <a:srgbClr val="000000"/>
                </a:solidFill>
                <a:latin typeface="cmsy10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,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Intersection(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,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) ={})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; Disjoint({animals, vegetables})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set of categori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nstitutes a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exhaustive decomposi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a categor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all members of the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covered by categorie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7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.D.(s,c)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6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i  i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 c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xample: ExhaustiveDecomposition({Americans, Canadian, Mexicans},NorthAmericans).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Lo (IRIDIA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D4EB7-47B2-41CA-A0CD-FD3FF06941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B8987-20C4-4D23-9AE3-4C513BF0A5E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2:20:05Z</dcterms:created>
  <dc:creator>Eric Gurevitz</dc:creator>
  <dc:description/>
  <dc:language>en-US</dc:language>
  <cp:lastModifiedBy>ikke dikke</cp:lastModifiedBy>
  <cp:lastPrinted>2004-12-01T14:14:45Z</cp:lastPrinted>
  <dcterms:modified xsi:type="dcterms:W3CDTF">2004-12-08T13:53:31Z</dcterms:modified>
  <cp:revision>861</cp:revision>
  <dc:subject/>
  <dc:title>CMSC 723: Introduction to  Computational Linguistics</dc:title>
</cp:coreProperties>
</file>