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3B31-DE13-46CC-9756-5381C71F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CE59-B208-48F8-BCA7-818E2A15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2EBF-5862-4D6B-9798-33DB81B6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F38C-6D5E-4754-A7EC-7CF0CDB5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DA678-4540-4D2D-98C6-4496BE0A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E81D4-352D-4088-AC5B-FC46E67A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A7048-20AD-4130-94FB-1EC43477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0D5DF-5A5B-4E88-B9CD-6FB0135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58CA4-F1C2-42F0-8C46-ED72631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11132-EBF2-4F0B-8DD7-83DD38D5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44C0C-4795-493C-8C46-B6EF0F3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79D5-892B-426F-81A8-1ED1F772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979F9-4F58-4FB7-8529-54E6A19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4DFD-B610-47C9-8BD8-E1C4971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B7F58-E281-49C0-AAAC-97570E07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727B6-560F-4219-A445-020B74E3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70780-4DAE-43B8-9D4D-7A6D5E9C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F2D9-4B29-433A-BD0A-E04483A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3438-8F10-473E-BCCB-BE51828E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81C6-3157-48A4-BC46-13688576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17B4-D285-4689-A8CE-1517F255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FAAF-59F8-4583-8DBF-4993B411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BCE9-C3FA-4860-87DC-D294174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6B47-F785-4D3A-B1AF-A9B6B20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D5C-3C88-477A-83BD-00525D898C3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5173-46B0-4482-8094-B0AEF49B3F2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49CF-BE8C-4064-9A12-111357DD6BE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D3C-CB27-4207-85EA-F57F094E2E7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Logic agent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114800"/>
            <a:ext cx="7740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PEAS Descrip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73200" y="1752480"/>
            <a:ext cx="41958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5974-563C-46B7-97FD-C4D27C9477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12B62-C4D7-4736-AE48-8680E8858F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Observabl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Deterministic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Episodic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4F5B-B8EC-43CE-B9AC-C5C4B658F6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83B8A-9FC6-4C7D-8731-77B2943A71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terminis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pisod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906F-34E1-4FAE-8CB9-4B38DB2F61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2A0B8-29FA-4E79-B597-28167F3E05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pisod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023B-B9B6-464A-A36F-FCD12E60E5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93BAC-BF7D-4C74-B8B9-6D819D6BD3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D823-D30A-49CE-AEF3-45A82AC3B5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B0FDB-7283-41C7-866D-C10079B746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ic? Yes, Wumpus and pits do not mo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?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75DA-F0BA-405C-AE90-1DE372FEFD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96B9F-500E-4092-88BA-825992CB5A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ic? Yes, Wumpus and pits do not mo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?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F8D0-3B28-4522-AE67-8C37145E8A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3C3DA-290B-4752-B4D2-4076F5F5D2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ic? Yes, Wumpus and pits do not mo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?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-agent? Yes, Wumpus is essentially a natural featur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4FE8-5999-403F-98ED-2AF2430801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87317-474B-431F-997F-34C3A76FE5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ing the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0320" y="4503600"/>
            <a:ext cx="852948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[1,1] The KB initially contains the rules of the environment.  The first percept is [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one, none,none,none,non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], move to safe cell e.g. 2,1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[2,1] breeze which indicates that there is a pit in [2,2] or [3,1], return to [1,1] to try next safe cel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595840" cy="24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514E-1792-4395-9D1D-277EAB63F4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54FDE-A657-4F10-ABA4-A6220BE60F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ing the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0320" y="4503600"/>
            <a:ext cx="852948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1,2] Stench in cell which means that wumpus is in [1,3] or [2,2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YET … not in [1,1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YET … not in [2,2] or stench would have been detected in [2,1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THUS … wumpus is in [1,3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THUS [2,2] is safe because of lack of breeze in [1,2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THUS pit in [1,3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move to next safe cell [2,2]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99904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EE87-F991-4144-8907-03CA6791B6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BF7A7-79AD-4C55-8A5C-C5BC3B1FFB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inking Rationally”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models of human “thought” process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models of human behavio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systems that “think” rationall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systems that behave rationall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733920"/>
            <a:ext cx="838188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A695-6709-4259-B276-7628B6E3AC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7FA9D-111F-4FC2-8B5F-E544D6532A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ing the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0320" y="4503600"/>
            <a:ext cx="852948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2,2] move to [2,3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2,3] detect glitter , smell, breez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HUS pick up gold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HUS pit in [3,3] or [2,4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99904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411F-F20E-4865-A4F8-2733ECEB50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16653-30A3-4E07-8AD5-57DD89B823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 logic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 formal languag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yntax – what expressions are legal (well-formed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emantics – what legal expressions mea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 logic the truth of each sentence with respect to each possible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.g the language of arithmetic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+2 &gt;= y is a sentence, x2+y is not a sentenc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+2 &gt;= y is true in a world where x=7 and y =1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+2 &gt;= y is false in a world where x=0 and y =6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80B2-D679-43E1-91E7-293C8C9E67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5292F-3B47-49FF-ACAC-738DDA7A24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tailm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6720" y="1752480"/>
            <a:ext cx="781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e thing follows from anothe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 |=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KB entails sentence 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if and only if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s true in worlds where KB is tru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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. x+y=4 entails 4=x+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ntailment is a relationship between sentences that is based on semantic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64DF-8124-4DA7-89A6-CABEB895E4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4DD52-6A14-44B6-9449-053A286E06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del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6720" y="1752480"/>
            <a:ext cx="781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gicians typically think in terms of models, which are formally structured worlds with respect to which truth can be evaluat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a model of a sentence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if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is true i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(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the set of all models of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A1FD-29E1-4A55-B62C-707F5072F2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4ECB8-2570-47B1-A5E8-DCE37620E2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8040" y="1989000"/>
            <a:ext cx="775332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88D7-CDA1-4AC5-826C-AB49302AF3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F3562-C972-4FCA-92B4-34ABEAD844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47840" y="1989000"/>
            <a:ext cx="681516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7FCC-8425-4B17-92C6-4A5314736A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58189-0827-49B0-AEA3-CF131816BE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63600" y="1989000"/>
            <a:ext cx="69836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EAFB-E02F-49E0-AEFB-BB0CE64F29D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4AE07-CDAC-4D43-AD29-39B6FF74F2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15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15DC-83E8-4AE0-A570-068245F44D9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1659B-95EE-4E01-801C-D4351E5888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6040" y="1989000"/>
            <a:ext cx="627876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7C0B-220A-44AF-9C17-BAB81862C5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B71AE-CD43-4513-9C29-C04892E3EB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87600" y="1989000"/>
            <a:ext cx="6334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4406-AFEF-42BB-A20E-6D0F6E1F360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B441A-DB37-4135-B18A-08811A7677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al Ag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flex agents find their way from Arad to Bucharest by dumb luck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hess program calculates legal moves of its king, but doesn’t know that no piece can be on 2 different squares at the same tim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ogic (Knowledge-Based) agents combine general knowledge with current percepts to infer hidden aspects of current state prior to selecting ac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rucial in partially observable environment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A43B-708B-4B67-9F1F-FF78316388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57E6A-6807-4AE3-81DE-C58F84DE2C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al infer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 notion of entailment can be used for logic inferenc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odel checking (see wumpus example): enumerate all possible models and check whether </a:t>
            </a:r>
            <a:r>
              <a:rPr b="0" i="1" lang="en-US" sz="23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s tru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an algorithm only derives entailed sentences it is called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oun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r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truth preserving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Otherwise it just makes things up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i is sound if whenever KB |-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it is also true that KB|=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mpleteness : the algorithm can derive any sentence that is entail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 is complete if whenever KB |=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it is also true that KB|-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20FD-496A-4027-B082-C96D98A7A4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4DDCB-F48E-4C6E-99C2-D972EEEB700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chematic perspectiv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246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981080"/>
            <a:ext cx="1523880" cy="243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533840" y="1485720"/>
            <a:ext cx="685800" cy="1523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5000" y="1981080"/>
            <a:ext cx="1523880" cy="243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495680" y="3276360"/>
            <a:ext cx="762120" cy="1523880"/>
          </a:xfrm>
          <a:prstGeom prst="rect">
            <a:avLst/>
          </a:prstGeom>
          <a:noFill/>
          <a:ln w="73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38800" y="4572000"/>
            <a:ext cx="6328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KB is true in the real world, then any sentence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r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om KB by a sound inference procedure is also true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l worl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4A8B-71F2-4324-BBFA-5990266E0B8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4BBA7-0270-46F5-B653-A8797BB1ED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Knowledge-based agent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umpus worl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Logic in general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ropositional and first-order logic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Inference, validity, equivalence and satifiabilit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Reasoning patterns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solu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orward/backward chain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482D-E3EB-46E6-9CCF-D75182BC83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B0FB0-25A0-4CD7-AF2F-DECAED9C72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nowledge Bas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8880" y="19051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nowledge Bas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cmsy10"/>
              </a:rPr>
              <a:t>: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set of sentences represented in a knowledge representation language and represents assertions about the world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Inference rul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: when one ASKs questions of the KB, the answer should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follow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from what has been TELLed to the KB previously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04760" y="3048120"/>
            <a:ext cx="7134480" cy="139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0800000">
            <a:off x="2666520" y="35809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581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056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0" y="3505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093B-A056-43E9-9AF5-B22CFCB940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40E78-6CE2-4DEF-8A71-D70D7AA2FA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ic KB-Based 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7315200" cy="309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3886200"/>
            <a:ext cx="62485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267080"/>
            <a:ext cx="62485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648320"/>
            <a:ext cx="62485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029200"/>
            <a:ext cx="388620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ADBF-3D8F-45D0-9675-1C90FB8266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FBC42-AE6C-4C45-AC71-F12B267733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bilities KB 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Agent must be able to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Represent states and actions,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Incorporate new percepts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Update internal representation of the world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Deduce hidden properties of the world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Deduce appropriate actions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11A6-8E26-4C53-BDEA-1038E984FA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AFBFA-FFD2-4D20-A6AB-C52E2B4AA7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scription lev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KB agent is similar to agents with internal stat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gents can be described at different level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Knowledge leve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at they know, regardless of the actual implementation. (Declarative description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Implementation leve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ata structures in KB and algorithms that manipulate them e.g propositional logic and resol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D71F-FC13-4568-A5AB-98521889D0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EA053-59F0-4269-8865-00DDCB25E5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 Typical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857240"/>
            <a:ext cx="4495680" cy="421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5208000">
            <a:off x="3238200" y="308592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460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8A26-46F3-4443-B88A-E5CD900117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79776-AF5C-4FE9-85D3-7FC2DA3D61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ikke dikke</cp:lastModifiedBy>
  <cp:lastPrinted>2006-03-17T12:56:57Z</cp:lastPrinted>
  <dcterms:modified xsi:type="dcterms:W3CDTF">2006-03-17T12:57:50Z</dcterms:modified>
  <cp:revision>694</cp:revision>
  <dc:subject/>
  <dc:title>CMSC 723: Introduction to  Computational Linguistics</dc:title>
</cp:coreProperties>
</file>