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231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756E1-02F4-4DDB-97FD-F72806F6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B40CC-97EE-4716-BF29-72447367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8F498-7A0B-467F-8D2D-BBAA4BF61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21FA1-A425-488C-AD89-F763D3413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4555C-7A2F-4F26-B802-F512CBFD8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BC123-86FD-4553-88E8-BF2AF268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53D3F-302A-4683-8E6B-19D9EFB3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983CD-D5C1-44CA-8214-68E7F201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4A093-DC21-4C7D-AB28-06A49FCE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C4AC3-E46C-4B20-A6B8-EFFFC838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AFC3B-05BC-431D-9055-D263706B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37E76-EBEF-4DCE-994F-2F6F277E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DE2AC-FDEC-4C69-ADA9-FE865FB4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61F1D-8964-4440-B9DB-89F37F14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2B3C3-0A21-41E7-8DA3-B0D2BCD8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C37A6-F96D-4588-9E3D-446974537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392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57880" y="198864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3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392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57880" y="4081680"/>
            <a:ext cx="27460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42C57-1462-4E98-9870-B876A3FD8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5B97E-8F20-4034-92B6-50E9B78B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78729-0AB4-4613-834C-D4D2B241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2BA3C-AF01-4032-9E54-143323B5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17ED6-7DD8-4BF5-B8EF-BE0A2C5C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6CACE-DA84-4E4C-9309-606E8E74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1080" y="408168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27181-112A-42DF-8233-CEB4559F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noFill/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1080" y="1988640"/>
            <a:ext cx="416232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0320" y="4081680"/>
            <a:ext cx="8529480" cy="19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2B496-964C-4720-ACF4-79F611B7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07120"/>
            <a:ext cx="9140760" cy="647640"/>
          </a:xfrm>
          <a:prstGeom prst="rect">
            <a:avLst/>
          </a:prstGeom>
          <a:solidFill>
            <a:srgbClr val="abb202"/>
          </a:solidFill>
          <a:ln w="9360">
            <a:solidFill>
              <a:srgbClr val="abb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-270720"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1" marL="586800" indent="-22572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2" marL="90288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3" marL="1263960" indent="-180360">
              <a:spcBef>
                <a:spcPts val="100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4" marL="1625040" indent="-180360">
              <a:spcBef>
                <a:spcPts val="1001"/>
              </a:spcBef>
              <a:buClr>
                <a:srgbClr val="7f7358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5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6" marL="1625040" indent="-180360">
              <a:spcBef>
                <a:spcPts val="10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526080"/>
            <a:ext cx="76500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437A-7F84-46E9-BA51-97D4C2451853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618920" y="6526080"/>
            <a:ext cx="304920" cy="2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3EB3-5A53-4E2F-BDC9-5BDD97ADEC31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219640" y="6207120"/>
            <a:ext cx="392292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468000" y="6308640"/>
            <a:ext cx="2663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258920" y="6516720"/>
            <a:ext cx="36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ffffff"/>
                </a:solidFill>
                <a:latin typeface="Verdana"/>
              </a:rPr>
              <a:t>Pa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0760" cy="5235480"/>
          </a:xfrm>
          <a:prstGeom prst="rect">
            <a:avLst/>
          </a:prstGeom>
          <a:solidFill>
            <a:srgbClr val="7f7358"/>
          </a:solidFill>
          <a:ln w="9360">
            <a:solidFill>
              <a:srgbClr val="7f73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9BD6-864B-4939-840D-998C990AF4A3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A351-216D-44F7-805B-1654ECCBA73A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18200" y="6638760"/>
            <a:ext cx="3922560" cy="216000"/>
          </a:xfrm>
          <a:prstGeom prst="rect">
            <a:avLst/>
          </a:prstGeom>
          <a:solidFill>
            <a:srgbClr val="5f604a"/>
          </a:solidFill>
          <a:ln w="9360">
            <a:solidFill>
              <a:srgbClr val="5f6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81480" y="5541840"/>
            <a:ext cx="349092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7f735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35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7f7358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7f735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7f7358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358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79640" y="1618920"/>
            <a:ext cx="7772400" cy="20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Verdana"/>
              </a:rPr>
              <a:t>Artificial Intelligence 1: Logic agents</a:t>
            </a:r>
            <a:endParaRPr b="0" lang="en-US" sz="4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4114800"/>
            <a:ext cx="77407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ecturer: Tom Lenae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WITCH, Vlaams Interuniversitair Instituut voor Biotechnolog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Wumpus World PEAS Description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473200" y="1752480"/>
            <a:ext cx="41958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E2CAF-D420-41DC-8E6F-BDE24B41152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B51F03-67F1-4A34-8080-4CE3E46CDAA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Wumpus World Characterization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Observable?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Deterministic?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Episodic?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Static?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Discrete?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f604a"/>
                </a:solidFill>
                <a:latin typeface="Verdana"/>
              </a:rPr>
              <a:t>Single-agent?</a:t>
            </a:r>
            <a:endParaRPr b="0" lang="en-US" sz="36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AEEF7-4E13-43E4-86FE-9BC65E75D21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823B0A-2496-4A7D-8BE7-2507B1686D5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Wumpus World Characterization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Observable? No, only local perception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Deterministic?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Episodic?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Static?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Discrete?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Single-agent?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08C5D-1C04-484A-80AF-4DAA0803A9A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6D8AA-6B6D-424E-A719-2819BCF2C5E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Wumpus World Characterization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Observable? No, only local perception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Deterministic? Yes, outcome exactly specified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Episodic?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Static?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Discrete?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Single-agent?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F3FAB-D3C6-4233-95E3-958D4ABDBB2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CD7F2E-175B-4224-8E8A-CCCA4FB1B39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Wumpus World Characterization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Observable? No, only local perception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Deterministic? Yes, outcome exactly specified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Episodic? No, sequential at the level of actions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Static?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Discrete?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Single-agent?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288E5-D8BB-4B81-9EC4-4309E3055FB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8B477C-123B-46B3-A7F8-379DEACE215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Wumpus World Characterization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Observable? No, only local perception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Deterministic? Yes, outcome exactly specified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Episodic? No, sequential at the level of action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Static? Yes, Wumpus and pits do not mov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Discrete? 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Single-agent?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595E7-0C59-4914-925D-3448DF2CD94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5AD801-87E1-4869-966E-C23B69A6119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Wumpus World Characterization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Observable? No, only local perception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Deterministic? Yes, outcome exactly specified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Episodic? No, sequential at the level of action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Static? Yes, Wumpus and pits do not mov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Discrete? Ye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Single-agent?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21A9D-0977-47F8-892C-86638F52F8D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50FD78-AF34-4187-A8E8-F09E269755B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Wumpus World Characterization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Observable? No, only local perception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Deterministic? Yes, outcome exactly specified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Episodic? No, sequential at the level of action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Static? Yes, Wumpus and pits do not move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Discrete? Ye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Single-agent? Yes, Wumpus is essentially a natural feature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FEB4B-FA55-4A7B-99F2-1C7749B0F02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546881-0325-4437-8CAA-CD855BD6FF6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ploring the Wumpus Worl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0320" y="4503600"/>
            <a:ext cx="8529480" cy="14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[1,1] The KB initially contains the rules of the environment.  The first percept is [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none, none,none,none,none</a:t>
            </a: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], move to safe cell e.g. 2,1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[2,1] breeze which indicates that there is a pit in [2,2] or [3,1], return to [1,1] to try next safe cell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5595840" cy="249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9FC09-2407-4D3D-AB3A-EF391EE4B41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9CBCEB-45CA-472C-810A-9CE893B75DA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ploring the Wumpus Worl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0320" y="4503600"/>
            <a:ext cx="8529480" cy="14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[1,2] Stench in cell which means that wumpus is in [1,3] or [2,2]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YET … not in [1,1]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YET … not in [2,2] or stench would have been detected in [2,1]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THUS … wumpus is in [1,3]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THUS [2,2] is safe because of lack of breeze in [1,2]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THUS pit in [1,3]</a:t>
            </a:r>
            <a:endParaRPr b="0" lang="en-US" sz="16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5f604a"/>
                </a:solidFill>
                <a:latin typeface="Verdana"/>
              </a:rPr>
              <a:t>move to next safe cell [2,2]</a:t>
            </a: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599904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36B98-03B7-426E-A648-16BE25A78CD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240CD7-1EE0-41E6-9A0A-DFA23478DD5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Thinking Rationally”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74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omputational models of human “thought” processes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omputational models of human behavior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omputational systems that “think” rationally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Computational systems that behave rationally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733920"/>
            <a:ext cx="8381880" cy="609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6CBB6-38BF-46F1-99C1-6E27C9A93BF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D6FCA5-4757-4285-A8FF-47499955794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xploring the Wumpus Worl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0320" y="4503600"/>
            <a:ext cx="8529480" cy="14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[2,2] move to [2,3]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[2,3] detect glitter , smell, breeze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THUS pick up gold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THUS pit in [3,3] or [2,4]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604a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599904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18CD2-30F6-4F25-8363-EF18F1678E7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47A787-A14E-4B6A-B7EB-0BDC01C33CE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What is a logic?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A formal language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Syntax – what expressions are legal (well-formed)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Semantics – what legal expressions mean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in logic the truth of each sentence with respect to each possible world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E.g the language of arithmetic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X+2 &gt;= y is a sentence, x2+y is not a sentence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X+2 &gt;= y is true in a world where x=7 and y =1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X+2 &gt;= y is false in a world where x=0 and y =6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1C630-BD8C-48EB-A7A8-210C4890964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01BA28-042D-4BCF-A6E5-FB6136272E9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Entailmen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66720" y="1752480"/>
            <a:ext cx="7810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One thing follows from another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KB |= </a:t>
            </a:r>
            <a:r>
              <a:rPr b="0" i="1" lang="en-US" sz="28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KB entails sentence  </a:t>
            </a:r>
            <a:r>
              <a:rPr b="0" lang="en-US" sz="28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if and only if </a:t>
            </a:r>
            <a:r>
              <a:rPr b="0" lang="en-US" sz="28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is true in worlds where KB is true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Symbol"/>
                <a:ea typeface="Symbol"/>
              </a:rPr>
              <a:t>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g. x+y=4 entails 4=x+y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Entailment is a relationship between sentences that is based on semantics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78306-24C0-45B7-8A1E-5BCA7F5C324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C09C0-C6B0-414E-A049-910FB9C05A2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Model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66720" y="1752480"/>
            <a:ext cx="7810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Logicians typically think in terms of models, which are formally structured worlds with respect to which truth can be evaluated.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is a model of a sentence </a:t>
            </a:r>
            <a:r>
              <a:rPr b="0" i="1" lang="en-US" sz="28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 if </a:t>
            </a:r>
            <a:r>
              <a:rPr b="0" i="1" lang="en-US" sz="28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 is true in 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m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M(</a:t>
            </a:r>
            <a:r>
              <a:rPr b="0" i="1" lang="en-US" sz="28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i="1" lang="en-US" sz="2800" spc="-1" strike="noStrike">
                <a:solidFill>
                  <a:srgbClr val="5f604a"/>
                </a:solidFill>
                <a:latin typeface="Verdana"/>
              </a:rPr>
              <a:t>)</a:t>
            </a:r>
            <a:r>
              <a:rPr b="0" lang="en-US" sz="2800" spc="-1" strike="noStrike">
                <a:solidFill>
                  <a:srgbClr val="5f604a"/>
                </a:solidFill>
                <a:latin typeface="Verdana"/>
              </a:rPr>
              <a:t> is the set of all models of </a:t>
            </a:r>
            <a:r>
              <a:rPr b="0" i="1" lang="en-US" sz="28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604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D8535-3C93-43BA-ACF1-EC288AD6D93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6A18C4-B570-43D3-967F-FAC74266549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Wumpus world model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78040" y="1989000"/>
            <a:ext cx="7753320" cy="400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F38B5-C170-45D0-A2B9-153A90D419F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5EC9D5-D341-4261-BAB6-EED35C7D83A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Wumpus world model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347840" y="1989000"/>
            <a:ext cx="6815160" cy="400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57340-45A0-4C04-B715-0BE04471EBE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001FDF-74DA-4D74-9A6D-2CC1F449B01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Wumpus world model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263600" y="1989000"/>
            <a:ext cx="6983640" cy="400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FF7F8-8122-4006-9B01-C5280A9E9D8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34144A-522C-4E17-8962-AFE154C8F93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Wumpus world model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415200" cy="400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0B561-465B-4020-93AF-1686EA08C19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1D5D03-45D7-463E-B4BD-35E6432537C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Wumpus world model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16040" y="1989000"/>
            <a:ext cx="6278760" cy="400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5CE9B-97A5-4CF9-8572-BE322A6CD82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677A01-6A8F-4ECE-ADE5-20E90884AD2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Wumpus world model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587600" y="1989000"/>
            <a:ext cx="6334200" cy="400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6BD85-5FEC-4FF0-A4DF-35A60E58ACD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13D48D-FB16-4B57-811D-E0F10F4E0B4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Logical Agents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Reflex agents find their way from Arad to Bucharest by dumb luck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Chess program calculates legal moves of its king, but doesn’t know that no piece can be on 2 different squares at the same time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Logic (Knowledge-Based) agents combine general knowledge with current percepts to infer hidden aspects of current state prior to selecting actions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Crucial in partially observable environments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28057-87FF-44C1-8001-7676AD403AC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B817B1-3B9B-4C03-82C6-ECDE1A92BEE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Logical inferenc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The notion of entailment can be used for logic inference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Model checking (see wumpus example): enumerate all possible models and check whether </a:t>
            </a:r>
            <a:r>
              <a:rPr b="0" i="1" lang="en-US" sz="2300" spc="-1" strike="noStrike">
                <a:solidFill>
                  <a:srgbClr val="7f7358"/>
                </a:solidFill>
                <a:latin typeface="Symbol"/>
                <a:ea typeface="Symbol"/>
              </a:rPr>
              <a:t></a:t>
            </a:r>
            <a:r>
              <a:rPr b="0" lang="en-US" sz="2300" spc="-1" strike="noStrike">
                <a:solidFill>
                  <a:srgbClr val="7f735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is true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If an algorithm only derives entailed sentences it is called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sound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 or </a:t>
            </a:r>
            <a:r>
              <a:rPr b="0" i="1" lang="en-US" sz="2400" spc="-1" strike="noStrike">
                <a:solidFill>
                  <a:srgbClr val="5f604a"/>
                </a:solidFill>
                <a:latin typeface="Verdana"/>
              </a:rPr>
              <a:t>truth preserving</a:t>
            </a: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Otherwise it just makes things up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i is sound if whenever KB |-</a:t>
            </a:r>
            <a:r>
              <a:rPr b="0" i="1" lang="en-US" sz="1400" spc="-1" strike="noStrike" baseline="-25000">
                <a:solidFill>
                  <a:srgbClr val="7f7358"/>
                </a:solidFill>
                <a:latin typeface="Verdana"/>
              </a:rPr>
              <a:t>i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7f7358"/>
                </a:solidFill>
                <a:latin typeface="Symbol"/>
                <a:ea typeface="Symbol"/>
              </a:rPr>
              <a:t></a:t>
            </a:r>
            <a:r>
              <a:rPr b="0" i="1" lang="en-US" sz="1400" spc="-1" strike="noStrike">
                <a:solidFill>
                  <a:srgbClr val="7f7358"/>
                </a:solidFill>
                <a:latin typeface="Verdana"/>
              </a:rPr>
              <a:t> it is also true that KB|= </a:t>
            </a:r>
            <a:r>
              <a:rPr b="0" i="1" lang="en-US" sz="1400" spc="-1" strike="noStrike">
                <a:solidFill>
                  <a:srgbClr val="7f7358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7f735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604a"/>
                </a:solidFill>
                <a:latin typeface="Verdana"/>
              </a:rPr>
              <a:t>Completeness : the algorithm can derive any sentence that is entailed.</a:t>
            </a:r>
            <a:endParaRPr b="0" lang="en-US" sz="24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604a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i is complete if whenever KB |=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it is also true that KB|-</a:t>
            </a:r>
            <a:r>
              <a:rPr b="0" i="1" lang="en-US" sz="2000" spc="-1" strike="noStrike" baseline="-25000">
                <a:solidFill>
                  <a:srgbClr val="5f604a"/>
                </a:solidFill>
                <a:latin typeface="Verdana"/>
              </a:rPr>
              <a:t>i</a:t>
            </a:r>
            <a:r>
              <a:rPr b="0" i="1" lang="en-US" sz="20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5f604a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1E13E-FBE3-428C-8A2F-210BBA3A08A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659BE2-5D86-4B3B-ADFC-533DA5A8DEA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Schematic perspectiv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239240" cy="2468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514600" y="1981080"/>
            <a:ext cx="1523880" cy="2438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6200000">
            <a:off x="4533840" y="1485720"/>
            <a:ext cx="685800" cy="1523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15000" y="1981080"/>
            <a:ext cx="1523880" cy="2438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4495680" y="3276360"/>
            <a:ext cx="762120" cy="1523880"/>
          </a:xfrm>
          <a:prstGeom prst="rect">
            <a:avLst/>
          </a:prstGeom>
          <a:noFill/>
          <a:ln w="73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38800" y="4572000"/>
            <a:ext cx="632844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f KB is true in the real world, then any sentence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der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rom KB by a sound inference procedure is also true in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al world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ED784-E7D5-4E89-8B38-31E11C172F5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3BF150-F8E8-4407-8B63-59AE40255B8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Outlin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Knowledge-based agents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Wumpus world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Logic in general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Propositional and first-order logic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Inference, validity, equivalence and satifiability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Reasoning patterns 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Resolution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Forward/backward chaining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B836A-CCD7-45A0-87D7-7653CC5F1DD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91899C-B101-43F2-8829-B79F62DE0BE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Knowledge Bas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58880" y="190512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Knowledge Base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5f604a"/>
                </a:solidFill>
                <a:latin typeface="cmsy10"/>
              </a:rPr>
              <a:t>: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set of sentences represented in a knowledge representation language and represents assertions about the world.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Inference rule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: when one ASKs questions of the KB, the answer should </a:t>
            </a:r>
            <a:r>
              <a:rPr b="0" i="1" lang="en-US" sz="2300" spc="-1" strike="noStrike">
                <a:solidFill>
                  <a:srgbClr val="5f604a"/>
                </a:solidFill>
                <a:latin typeface="Verdana"/>
              </a:rPr>
              <a:t>follow</a:t>
            </a:r>
            <a:r>
              <a:rPr b="0" lang="en-US" sz="2300" spc="-1" strike="noStrike">
                <a:solidFill>
                  <a:srgbClr val="5f604a"/>
                </a:solidFill>
                <a:latin typeface="Verdana"/>
              </a:rPr>
              <a:t> from what has been TELLed to the KB previously.</a:t>
            </a:r>
            <a:endParaRPr b="0" lang="en-US" sz="2300" spc="-1" strike="noStrike">
              <a:solidFill>
                <a:srgbClr val="5f604a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04760" y="3048120"/>
            <a:ext cx="7134480" cy="1390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 rot="10800000">
            <a:off x="2666520" y="358092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3581280"/>
            <a:ext cx="2286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0560" y="3429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t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0" y="35053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DFB81-3A0B-4A06-8ACB-2AFC8F73FF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0313E4-A970-4792-93DA-A4DE34211FA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Generic KB-Based Agen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7315200" cy="3095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752480" y="205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3886200"/>
            <a:ext cx="6248520" cy="304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4267080"/>
            <a:ext cx="6248520" cy="304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4648320"/>
            <a:ext cx="6248520" cy="304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5029200"/>
            <a:ext cx="3886200" cy="304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398C3-1DDE-43BC-B69B-371AECA7896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3CFFE4-6E46-40A7-8C4D-17D07A12ACD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bilities KB agen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f604a"/>
                </a:solidFill>
                <a:latin typeface="Verdana"/>
              </a:rPr>
              <a:t>Agent must be able to:</a:t>
            </a:r>
            <a:endParaRPr b="0" lang="en-US" sz="40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Represent states and actions,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Incorporate new percepts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Update internal representation of the world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Deduce hidden properties of the world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f7358"/>
                </a:solidFill>
                <a:latin typeface="Verdana"/>
              </a:rPr>
              <a:t>Deduce appropriate actions</a:t>
            </a:r>
            <a:endParaRPr b="0" lang="en-US" sz="30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62745-353C-4786-9D58-90B190B829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3625E2-DA0B-4CD7-A46B-CB1DB989C6A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Description level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0320" y="1988640"/>
            <a:ext cx="8529480" cy="40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The KB agent is similar to agents with internal state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604a"/>
              </a:buClr>
              <a:buFont typeface="Verdana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604a"/>
                </a:solidFill>
                <a:latin typeface="Verdana"/>
              </a:rPr>
              <a:t>Agents can be described at different levels</a:t>
            </a:r>
            <a:endParaRPr b="0" lang="en-US" sz="3200" spc="-1" strike="noStrike">
              <a:solidFill>
                <a:srgbClr val="5f604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Knowledge level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What they know, regardless of the actual implementation. (Declarative description) 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7f735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f7358"/>
                </a:solidFill>
                <a:latin typeface="Verdana"/>
              </a:rPr>
              <a:t>Implementation level</a:t>
            </a:r>
            <a:endParaRPr b="0" lang="en-US" sz="2200" spc="-1" strike="noStrike">
              <a:solidFill>
                <a:srgbClr val="7f7358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7f735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358"/>
                </a:solidFill>
                <a:latin typeface="Verdana"/>
              </a:rPr>
              <a:t>Data structures in KB and algorithms that manipulate them e.g propositional logic and resolution.</a:t>
            </a:r>
            <a:endParaRPr b="0" lang="en-US" sz="1800" spc="-1" strike="noStrike">
              <a:solidFill>
                <a:srgbClr val="7f735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B2FA2-A349-44B6-BB8F-E66F6B51757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BCF88-0EDF-417B-B1F7-2C713AD3ADC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1440000"/>
          </a:xfrm>
          <a:prstGeom prst="rect">
            <a:avLst/>
          </a:prstGeom>
          <a:solidFill>
            <a:srgbClr val="5f604a"/>
          </a:solidFill>
          <a:ln w="0">
            <a:noFill/>
          </a:ln>
        </p:spPr>
        <p:txBody>
          <a:bodyPr lIns="792000" rIns="0" tIns="4320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A Typical Wumpus World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00400" y="1857240"/>
            <a:ext cx="4495680" cy="4214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rot="5208000">
            <a:off x="3238200" y="3085920"/>
            <a:ext cx="304560" cy="685800"/>
          </a:xfrm>
          <a:prstGeom prst="up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4600" y="32004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Wum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AI 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26D63-4B16-43F5-A668-CA3C239D2ED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6DC8C7-5495-47A2-A3F4-23471BB17FC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02:20:05Z</dcterms:created>
  <dc:creator>Eric Gurevitz</dc:creator>
  <dc:description/>
  <dc:language>en-US</dc:language>
  <cp:lastModifiedBy>ikke dikke</cp:lastModifiedBy>
  <cp:lastPrinted>2006-03-17T12:56:57Z</cp:lastPrinted>
  <dcterms:modified xsi:type="dcterms:W3CDTF">2006-03-17T12:57:50Z</dcterms:modified>
  <cp:revision>694</cp:revision>
  <dc:subject/>
  <dc:title>CMSC 723: Introduction to  Computational Linguistics</dc:title>
</cp:coreProperties>
</file>