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C4E7-A452-4138-9D6E-AC7233D6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CFF1-5815-4708-8D32-FCD653D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41DA-73DA-466D-B3A4-2D9307EC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DF41-0FAB-431B-8D6B-CC87DE10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36F-C2E8-47FD-A73A-E124E2A9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6982-09F0-4F5F-B976-A44CB0E7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C94A-3B57-4787-AB0B-7D207B20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49B-E856-4766-9A59-B5BB80A0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7091-F1E3-45A8-A18A-807FCEF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AFE2-F888-4B4B-965F-41327044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13E-43C8-4A37-BBAE-CDD237E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0984-65D6-4BC0-B16B-BB7E4881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196-78E3-49D2-AD94-3CE2246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5E1D-2E11-43A3-A477-79D92DB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F26-07D0-413E-B6EB-0F7E964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71C-9E5D-419D-B55E-F2653113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09E7-42EB-4616-A98A-753DCE8F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A3AA-06E7-48EE-BA00-472F12C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BBE8-111E-4ADF-8009-0D838AA5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72CB-E97F-46B6-912D-F78D352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D32C-0EE9-4C3E-9E52-B0BC4C8B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4495-0F34-4011-98F8-A76C1AE6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4E49-704B-4007-85BD-BC042DF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B172-9B39-4F05-B972-4A08185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7233-AE6F-4E7C-96BB-6DDEC6B39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D2A5-EAE6-4D03-B1A6-8047C360D6B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5B1A-6ED2-405B-BB97-CA3E63B9505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AFB-CFEA-425D-AEB0-3B7F56CB2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rtificial Intelli-gence 1: logic agent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2701800" y="30492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s adapted from lecture notes for CMSC 421 by B.J. D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r: Tom Lena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 de Recherches Interdisciplinaires et de Développements en Intelligence Artificielle (IRI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é Libre de Brux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of Using 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,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, Therefore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resolves with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deriving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equivalent to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F049-DC75-444F-94F0-07AFE12177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6FDB59-855E-4A14-A76C-C3114FA2F0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 (continue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9600" y="18288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 Negation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Resolution (special case of resolution)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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590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37339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4876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B201-0773-4C43-A40C-C20F223210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B1F99B-E504-4C3D-A84C-F729B8538F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umpus World K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osition Symbols for each i,j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pit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breeze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ntences in K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re is no pit in square 1,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square is breezy iff pit in a neighboring squar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quare 1,1 has no breeze”, “Square 1,2 has a breez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040E-9CD0-40BA-9BD5-D6AE4B5DB4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F457A1-2244-4414-BABA-DB157CEF872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ly biconditional elimination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pply AE to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trapositive of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us Ponens with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 Morgan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5036-35F8-4CD6-9DD4-CDCEBB3795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2D686F-E288-435C-A745-6246A11B93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arching for Proof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nding proofs is exactly like finding solutions to search proble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n search forward (forward chaining) to derive goal or search backward (backward chaining) from the go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arching for proofs is not more efficient than enumerating models, but in many practical cases, it’s more efficient because we can ignore irrelevant proposi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C73F-F845-4147-8695-1F5BBD6883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F4C731-54A2-4357-A003-3DD4B290AF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ll Resolution Rule Revisi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343400" cy="808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52480" y="416880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781280" y="5334120"/>
            <a:ext cx="4162320" cy="11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D8CF-79B8-4828-9064-76477055A7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E9EF0-7112-462E-8F21-9D8F5107BF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pplied to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t some point we determine the absenc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f a pit in square 2,2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iconditional elimination applied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llowed by modus ponens with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228E-491C-468C-8FCB-33829CCCA4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136BF-B8E4-4A97-916F-1EA4590B0A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: Complete Inference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 complete search algorithm, applying only the resolution rule, can derive any conclusion entailed by any knowledge base in propositional logi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futation completeness: Resolution can always be used to either confirm or refute a sentence, but it cannot be used to enumerate true senten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1A93-3B20-4D97-B6E5-D3889BD94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6F687-F96F-48CB-85DE-D904164A789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junctive Normal For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junctive Normal Form is a disjunction of liter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5295600"/>
            <a:ext cx="2324160" cy="954720"/>
            <a:chOff x="1676520" y="5295600"/>
            <a:chExt cx="2324160" cy="954720"/>
          </a:xfrm>
        </p:grpSpPr>
        <p:sp>
          <p:nvSpPr>
            <p:cNvPr id="375" name=""/>
            <p:cNvSpPr/>
            <p:nvPr/>
          </p:nvSpPr>
          <p:spPr>
            <a:xfrm rot="16200000">
              <a:off x="2705040" y="4266720"/>
              <a:ext cx="266760" cy="2324160"/>
            </a:xfrm>
            <a:custGeom>
              <a:avLst/>
              <a:gdLst>
                <a:gd name="textAreaLeft" fmla="*/ 170640 w 266760"/>
                <a:gd name="textAreaRight" fmla="*/ 266760 w 266760"/>
                <a:gd name="textAreaTop" fmla="*/ 60480 h 2324160"/>
                <a:gd name="textAreaBottom" fmla="*/ 2263680 h 23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10400" y="5668920"/>
              <a:ext cx="12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la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2819520"/>
            <a:ext cx="3577680" cy="2361960"/>
            <a:chOff x="1752480" y="2819520"/>
            <a:chExt cx="3577680" cy="2361960"/>
          </a:xfrm>
        </p:grpSpPr>
        <p:sp>
          <p:nvSpPr>
            <p:cNvPr id="378" name=""/>
            <p:cNvSpPr/>
            <p:nvPr/>
          </p:nvSpPr>
          <p:spPr>
            <a:xfrm flipH="1">
              <a:off x="2209680" y="3276720"/>
              <a:ext cx="1828800" cy="1371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819520" y="3352680"/>
              <a:ext cx="137160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80920" y="3352680"/>
              <a:ext cx="76212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2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4648320"/>
              <a:ext cx="838440" cy="533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49920" y="2819520"/>
              <a:ext cx="138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itera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52E7-1915-4368-B8B2-1A3D18DDA1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F8E54E-E86E-4695-B9FD-8511E7EE71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NF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(A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rive in negations</a:t>
            </a:r>
            <a:br>
              <a:rPr sz="19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br>
              <a:rPr sz="21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1DD7-3928-4A41-B5B5-F45A7725B2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23D260-5C73-4B43-A517-037F386D4D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Logical Equival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060640"/>
            <a:ext cx="731520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2057-3E55-4480-9860-ADBCD55FDF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4A568-3002-40B3-8E92-B1F131601D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show KB </a:t>
            </a:r>
            <a:r>
              <a:rPr b="0" lang="en-US" sz="21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e show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s unsatisfiab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a proof by contradic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rst convert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nto CNF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apply resolution rule to resulting claus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cess continues unt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re are no new clauses that can be add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does not entai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wo clauses resolve to yield empty clau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entail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722B-F069-4159-9E34-5FE795155B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2E026-F37E-4D99-AD09-4C3132B97B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7520" y="1980720"/>
            <a:ext cx="8099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B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dding the negatio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KB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38200" y="3657600"/>
            <a:ext cx="7629480" cy="1809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87680" y="5832360"/>
            <a:ext cx="470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-RESOLU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01DF-5418-47F4-8583-0246D0C493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4826B6-1644-46C4-987C-C734AB1A165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rn Cla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l World KB’s are often a conjunction of Horn clau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n claus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osition symbol; 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conjunction of symbols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symbo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66800" y="5715000"/>
            <a:ext cx="534348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3FF7-B0EB-4645-BF40-6F6F1F5D21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87D43-011D-4A8C-9792-809874FA44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e any rule whose premises are satisfied in the K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d its conclusion to the KB until query is fou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19640" y="3809880"/>
            <a:ext cx="458136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97C2-AD91-470C-BADF-069A6FF046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0A91C-1B49-4D6A-B501-C031630CCD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12531" t="0" r="0" b="0"/>
          <a:stretch/>
        </p:blipFill>
        <p:spPr>
          <a:xfrm>
            <a:off x="1808280" y="1895400"/>
            <a:ext cx="3297240" cy="4734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E177-CF71-4D15-AACE-78084AF7A2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EE2E9-EBD8-4220-8952-984331C6F2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18482" t="0" r="3893" b="8878"/>
          <a:stretch/>
        </p:blipFill>
        <p:spPr>
          <a:xfrm>
            <a:off x="1797120" y="1905120"/>
            <a:ext cx="3308400" cy="4647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C88A-36F4-437E-9A5A-505FE6C453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1D81D4-5CFB-4D1F-B1E8-7593C91F02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11597" t="2071" r="12140" b="0"/>
          <a:stretch/>
        </p:blipFill>
        <p:spPr>
          <a:xfrm>
            <a:off x="1828800" y="190512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D85B-315A-473A-A037-BF0EF9EF40A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C60790-0316-4862-ABD0-A9A5B76C12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11876" t="0" r="8073" b="0"/>
          <a:stretch/>
        </p:blipFill>
        <p:spPr>
          <a:xfrm>
            <a:off x="1828800" y="1905120"/>
            <a:ext cx="3276720" cy="469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A60F-BA9C-428F-A328-25E737F169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76A7A5-6725-4A35-92AC-D6268EB8DC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0" r="6754" b="0"/>
          <a:stretch/>
        </p:blipFill>
        <p:spPr>
          <a:xfrm>
            <a:off x="1819440" y="1886040"/>
            <a:ext cx="3209760" cy="4743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3DFB-7FB3-4278-90C4-76AD764442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16BDA-6984-45A5-9725-6698175C9F1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10530" t="1624" r="3114" b="0"/>
          <a:stretch/>
        </p:blipFill>
        <p:spPr>
          <a:xfrm>
            <a:off x="1782720" y="1905120"/>
            <a:ext cx="3246480" cy="4800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9750-3D1B-4A05-8F24-7670DDC179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8033B-0B2C-4DC7-B4D9-8948DB35151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 (</a:t>
            </a:r>
            <a:r>
              <a:rPr b="0" lang="en-US" sz="2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alid sentenc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t least one interpre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atisfiable sentences: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un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satisfiable sentences: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33F0-4611-4017-9403-43DE1C1E78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7200B-7428-436B-B7BC-80A6139626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14842" t="0" r="10411" b="0"/>
          <a:stretch/>
        </p:blipFill>
        <p:spPr>
          <a:xfrm>
            <a:off x="1809720" y="1905120"/>
            <a:ext cx="314316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53AB-3015-4EA5-9361-BBDB54ED1CE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5635F-46F0-4923-B8DB-C75DB18A3E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0566" t="0" r="8933" b="0"/>
          <a:stretch/>
        </p:blipFill>
        <p:spPr>
          <a:xfrm>
            <a:off x="1809720" y="1905120"/>
            <a:ext cx="3143160" cy="4724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7208-164B-4A52-93A9-BA402656D1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3092B-DBBA-46C9-BCE1-0F7FE5D8155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ivation: Need goal-directed reasoning in order to keep from getting overwhelmed with irrelevant consequ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 backwards from query q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prove q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q is known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by backward chaining all premises of some rule concluding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39C0-DCE1-4D5A-A271-0CCCFCB45A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7569E-33E1-45C4-BD4A-619E24C91C3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rcRect l="13207" t="0" r="12533" b="0"/>
          <a:stretch/>
        </p:blipFill>
        <p:spPr>
          <a:xfrm>
            <a:off x="1803240" y="1866960"/>
            <a:ext cx="3225960" cy="4838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9B5B-2C97-4B65-A848-B4D10F93F66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A3531-E84A-4F8C-91EA-D4E1CD5121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rcRect l="6431" t="0" r="11947" b="0"/>
          <a:stretch/>
        </p:blipFill>
        <p:spPr>
          <a:xfrm>
            <a:off x="1800360" y="1895400"/>
            <a:ext cx="3228840" cy="4734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B418-5EBE-466E-BA05-91E83936C3D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F40B44-BCB8-4D3A-886B-51985BD505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rcRect l="6082" t="0" r="10813" b="1640"/>
          <a:stretch/>
        </p:blipFill>
        <p:spPr>
          <a:xfrm>
            <a:off x="1800360" y="1905120"/>
            <a:ext cx="3228840" cy="472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F57D-C8C9-478F-988D-0FE559E443E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CC13D-2484-42FA-9901-55C1C99D4D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rcRect l="24125" t="2112" r="3979" b="0"/>
          <a:stretch/>
        </p:blipFill>
        <p:spPr>
          <a:xfrm>
            <a:off x="1808280" y="1905120"/>
            <a:ext cx="3144600" cy="4800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C596-4205-42D8-B8E6-FBD2A00F19B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BF1185-DD87-448F-BDBA-A4E9348E11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10902" t="0" r="7848" b="1563"/>
          <a:stretch/>
        </p:blipFill>
        <p:spPr>
          <a:xfrm>
            <a:off x="1828800" y="1905120"/>
            <a:ext cx="3124080" cy="4800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CCF1-5958-4D9D-BF57-F2CB0B0C649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C61EF-0005-414A-A72B-D8A376F448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6884" t="0" r="7675" b="0"/>
          <a:stretch/>
        </p:blipFill>
        <p:spPr>
          <a:xfrm>
            <a:off x="1828800" y="1905120"/>
            <a:ext cx="3343320" cy="4800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402E-6346-4D55-A1A1-F2612FC8B17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06588-D205-4D96-9E86-CE886ADEF6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12689" t="1535" r="5371" b="1535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33DA-E2F0-4BE0-9E40-868441C8051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C31CF-8159-4653-BB28-4B020140FF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D4D6-7FAC-4B23-8F04-4E02B95256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CEB007-3FA1-497E-B978-2B1D0E5AFB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4176" t="0" r="2825" b="0"/>
          <a:stretch/>
        </p:blipFill>
        <p:spPr>
          <a:xfrm>
            <a:off x="1782720" y="1866960"/>
            <a:ext cx="3398760" cy="4838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4177-5E73-46F6-B847-EDE413275E6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33B592-3371-4C5E-A791-C6A8A3C1FC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9152" t="382" r="7755" b="3061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EB32-1B3F-476A-AFB6-51D64CBCBD8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F5CFB-02C2-4418-A68C-8AD21CC692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8204" t="0" r="5724" b="1366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A5EF-0F63-4E9D-8433-370A5F92DF1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03FD50-6066-41BC-AF15-01AAF36B90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6378" t="0" r="8515" b="0"/>
          <a:stretch/>
        </p:blipFill>
        <p:spPr>
          <a:xfrm>
            <a:off x="1779480" y="1905120"/>
            <a:ext cx="3173400" cy="480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84DB-0E0E-4A52-9A1D-7AEC479B4EE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7A576-273B-4A2B-A4AB-E0BBC45BCF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vs. 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C is data-driven—it may do lots of work irrelevant to the go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C is goal-driven—appropriate for problem-solv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AC8B-3EF9-47D5-B233-A9059BFB15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39D01-161E-4FD3-B929-AAA802697A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429000"/>
            <a:ext cx="746784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EF98-62D6-4CF5-AAE3-79E9F8D61B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3131D-797F-43A2-AF61-FC3AE6A625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undness: Inference procedure i is sound if whenever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ness: Inference procedure i is complete if whenever 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9675-9FA4-42A7-A7A2-C72069DB67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3F1115-A1CB-4DCB-AFAF-AFD0D3E864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idity and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249360" y="2454120"/>
            <a:ext cx="25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(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8280" y="352908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676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1680" y="352908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868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11040" y="35337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04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20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204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7360" y="3533760"/>
            <a:ext cx="33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836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4520" y="3533760"/>
            <a:ext cx="37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560760"/>
            <a:ext cx="21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1912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0680" y="3560760"/>
            <a:ext cx="6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3692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33560" y="3511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9720" y="3532320"/>
            <a:ext cx="45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(P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2760" y="3560760"/>
            <a:ext cx="16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6200" y="353232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3160" y="3560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92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960" y="3560760"/>
            <a:ext cx="7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16720" y="3532320"/>
            <a:ext cx="630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91000" y="3532320"/>
            <a:ext cx="21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5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721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6240" y="350820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56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3240" y="350820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7172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9360" y="350820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68560" y="350820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1328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0920" y="350820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896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256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7172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1328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454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82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5840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711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61320" y="39481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492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7800" y="39481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2680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87360" y="39481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429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936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606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896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6240" y="392760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56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3240" y="392760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172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89360" y="392760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68560" y="392760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1328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30920" y="392760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454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896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256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7172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328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454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756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116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61680" y="4243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172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07800" y="4243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2680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664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024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9360" y="4243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606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896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42242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56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3240" y="42242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9360" y="42242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8560" y="42242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1328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30920" y="42242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454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896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256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172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328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454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828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538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61320" y="4540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492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07800" y="4540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2680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8736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4296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9360" y="4540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606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896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6240" y="4519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3240" y="4519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7172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89360" y="4519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128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68560" y="4519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1328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30920" y="4519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454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896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256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7172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5128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1328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454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82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538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172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8160" y="4836960"/>
            <a:ext cx="80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1600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36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4296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9360" y="483696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606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896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6240" y="4816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56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4816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7172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4816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8560" y="4816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1328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0920" y="4816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454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896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6240" y="511344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256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6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3240" y="511344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172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172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9360" y="511344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511344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328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1328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0920" y="511344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454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98280" y="5133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70B5-12F4-42B2-9F00-DCD669C874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78FF5E-9737-4394-AF45-83637F500A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id Rules of Inferen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odus Pone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Elimin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r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 Neg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nit 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895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BD14-DA58-4FC4-A9F8-59E4CC114B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0D96B-04DE-4D97-8C87-108987A2BE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us Ponens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, 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d-Elimina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)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677360" y="2743200"/>
            <a:ext cx="696600" cy="1008720"/>
            <a:chOff x="7677360" y="2743200"/>
            <a:chExt cx="696600" cy="1008720"/>
          </a:xfrm>
        </p:grpSpPr>
        <p:sp>
          <p:nvSpPr>
            <p:cNvPr id="340" name=""/>
            <p:cNvSpPr/>
            <p:nvPr/>
          </p:nvSpPr>
          <p:spPr>
            <a:xfrm>
              <a:off x="7677360" y="2743200"/>
              <a:ext cx="6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)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0320" y="340992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604280" y="4098960"/>
            <a:ext cx="896760" cy="703800"/>
            <a:chOff x="7604280" y="4098960"/>
            <a:chExt cx="896760" cy="703800"/>
          </a:xfrm>
        </p:grpSpPr>
        <p:sp>
          <p:nvSpPr>
            <p:cNvPr id="343" name=""/>
            <p:cNvSpPr/>
            <p:nvPr/>
          </p:nvSpPr>
          <p:spPr>
            <a:xfrm>
              <a:off x="7604280" y="4098960"/>
              <a:ext cx="89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Æ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28120" y="449568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81800" y="5334120"/>
            <a:ext cx="1654920" cy="1008720"/>
            <a:chOff x="7381800" y="5334120"/>
            <a:chExt cx="1654920" cy="1008720"/>
          </a:xfrm>
        </p:grpSpPr>
        <p:sp>
          <p:nvSpPr>
            <p:cNvPr id="346" name=""/>
            <p:cNvSpPr/>
            <p:nvPr/>
          </p:nvSpPr>
          <p:spPr>
            <a:xfrm>
              <a:off x="7381800" y="5334120"/>
              <a:ext cx="1654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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: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6080" y="60199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9702-A4F3-4830-8EB8-459D806E27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CA5F5-DBB3-457C-8E33-087C9370AA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dcterms:modified xsi:type="dcterms:W3CDTF">2004-11-03T13:45:17Z</dcterms:modified>
  <cp:revision>596</cp:revision>
  <dc:subject/>
  <dc:title>CMSC 723: Introduction to  Computational Linguistics</dc:title>
</cp:coreProperties>
</file>