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730E-2661-4D2A-8B82-01458574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16A7-1493-43D1-9435-EA5A559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CFFF-4EB2-45D3-A9C7-30F25FA2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CCD6-016B-4E66-B79D-4D2A3EC8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0D0F-0451-463E-B2D6-67A30547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724F-864A-42DB-B069-A8710F79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8C23-63C1-43E7-B575-74DE2495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394D-3706-4277-884D-ECB7E26B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48C5-32E1-49E3-A3C1-C4E9CA3A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B39B-5A3B-4B12-B790-2AFB95E8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398F-A25A-4DFD-B2BE-80AB3805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85C8-1886-40FD-9574-19970F7B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697E-97D0-4F3D-9CB2-8AF8E7BC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3F72-697A-425A-89BE-2C7B102D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BC92-637D-4D27-B039-817DD766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0363-DE32-40E6-8998-94868A86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BA74-4D15-4A09-86F1-19056668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0B2B-3B90-49D5-801F-1CECE821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B9B6-F341-4576-8447-EF6EBB0F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E3E1-BBB1-4D50-9C3F-F2BFF95F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F282-5FFC-40E0-8EA3-AB3DDD9E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62FB-096E-428A-BB74-8A920566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3E54-9189-4959-A62B-AC03AF9C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ADEF-3C15-4BC2-BB5D-55C38127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122A-AAE6-43E5-B467-2AD7AFC77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D280-0D3D-495F-9E2C-C85382997C8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D028-EF24-4F6A-A81D-2C92D051418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483F-733C-475D-9E19-43D4D9D5C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Artificial Intelli-gence 1: logic agent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2701800" y="304920"/>
            <a:ext cx="64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es adapted from lecture notes for CMSC 421 by B.J. Do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cturer: Tom Lenae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 de Recherches Interdisciplinaires et de Développements en Intelligence Artificielle (IRI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é Libre de Brux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of Using Rules of Infer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rov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, (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, Therefore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resolves with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 deriving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is equivalent to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5662-C2A9-4ECC-BEE7-BDE2BE462B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D8B27B-AAB2-4E81-B0F6-ADB19F4DEB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ules of Inference (continue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79600" y="18288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-Introdu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-Introdu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e Negation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Resolution (special case of resolution)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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ly: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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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25909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37339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48769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5120" y="6248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6248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F6BA-4134-4381-840B-57F5FFB8D6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CE0001-27AA-4793-9BFD-3E352BCB696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umpus World K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34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osition Symbols for each i,j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t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be true if there is a pit in square i,j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t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be true if there is a breeze in square i,j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ntences in K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re is no pit in square 1,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square is breezy iff pit in a neighboring square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,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3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,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quare 1,1 has no breeze”, “Square 1,2 has a breeze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69F9-0B18-4289-AFCB-3CCAC5EADC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E5F04F-8720-4362-B7CE-B5267E52464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erence in Wumpus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pply biconditional elimination to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1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(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pply AE to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(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ntrapositive of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(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dus Ponens with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e Morgan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E1AB-FBCB-47BA-8411-60E6CC2F95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542F52-18AC-4E41-A08C-3D60BAB849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arching for Proof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nding proofs is exactly like finding solutions to search problem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n search forward (forward chaining) to derive goal or search backward (backward chaining) from the goa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arching for proofs is not more efficient than enumerating models, but in many practical cases, it’s more efficient because we can ignore irrelevant proposi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79A6-E930-44FF-963E-26B087E8C1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AD8E5F-05ED-457B-92B6-05CF92CAA8C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ll Resolution Rule Revisi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rt with Unit Resolution Inference 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ull Resolution Rule is a generalization of this 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clauses of length tw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4343400" cy="808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752480" y="4168800"/>
            <a:ext cx="7391520" cy="708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1781280" y="5334120"/>
            <a:ext cx="4162320" cy="11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CA79-89FE-485B-B763-450771427A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3D32BD-AE12-49C5-8818-894924C28F7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lution Applied to Wumpus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t some point we determine the absenc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f a pit in square 2,2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iconditional elimination applied to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llowed by modus ponens with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7DC16-19F2-4F86-A5D3-862F1DFFDF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889532-F5DF-441A-BFD9-7B69A971216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lution: Complete Inference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 complete search algorithm, applying only the resolution rule, can derive any conclusion entailed by any knowledge base in propositional logi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futation completeness: Resolution can always be used to either confirm or refute a sentence, but it cannot be used to enumerate true sentenc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E187-643F-4072-84B8-A8392B39A1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AC870B-B119-4166-ACDA-3BF03A3088F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junctive Normal For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junctive Normal Form is a disjunction of litera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)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)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)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5295600"/>
            <a:ext cx="2324160" cy="954720"/>
            <a:chOff x="1676520" y="5295600"/>
            <a:chExt cx="2324160" cy="954720"/>
          </a:xfrm>
        </p:grpSpPr>
        <p:sp>
          <p:nvSpPr>
            <p:cNvPr id="375" name=""/>
            <p:cNvSpPr/>
            <p:nvPr/>
          </p:nvSpPr>
          <p:spPr>
            <a:xfrm rot="16200000">
              <a:off x="2705040" y="4266720"/>
              <a:ext cx="266760" cy="2324160"/>
            </a:xfrm>
            <a:custGeom>
              <a:avLst/>
              <a:gdLst>
                <a:gd name="textAreaLeft" fmla="*/ 170640 w 266760"/>
                <a:gd name="textAreaRight" fmla="*/ 266760 w 266760"/>
                <a:gd name="textAreaTop" fmla="*/ 60480 h 2324160"/>
                <a:gd name="textAreaBottom" fmla="*/ 2263680 h 232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10400" y="5668920"/>
              <a:ext cx="124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clau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2819520"/>
            <a:ext cx="3577680" cy="2361960"/>
            <a:chOff x="1752480" y="2819520"/>
            <a:chExt cx="3577680" cy="2361960"/>
          </a:xfrm>
        </p:grpSpPr>
        <p:sp>
          <p:nvSpPr>
            <p:cNvPr id="378" name=""/>
            <p:cNvSpPr/>
            <p:nvPr/>
          </p:nvSpPr>
          <p:spPr>
            <a:xfrm flipH="1">
              <a:off x="2209680" y="3276720"/>
              <a:ext cx="1828800" cy="1371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819520" y="3352680"/>
              <a:ext cx="1371600" cy="129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580920" y="3352680"/>
              <a:ext cx="762120" cy="129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52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382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24080" y="4648320"/>
              <a:ext cx="838440" cy="5331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49920" y="2819520"/>
              <a:ext cx="138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itera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2E283-9F2A-408A-BD04-44DE9E7FE0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179D80-8B10-4C75-B600-BDB0531DE30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NF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(A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liminate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(A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B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C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)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(C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B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liminate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B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)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B) 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25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rive in negations</a:t>
            </a:r>
            <a:br>
              <a:rPr sz="1900"/>
            </a:b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)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(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)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br>
              <a:rPr sz="2100"/>
            </a:b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C795-C124-458E-9FE5-30C3F45456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6D4046-55A5-453E-90D8-5BB5ACA1A14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Logical Equival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2060640"/>
            <a:ext cx="731520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B71AA-847F-4476-B5D3-81587E7678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3E613F-8EA7-4BD5-8B44-93E673DF76C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lution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show KB </a:t>
            </a:r>
            <a:r>
              <a:rPr b="0" lang="en-US" sz="21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we show (KB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is unsatisfiabl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is is a proof by contradic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rst convert (KB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into CNF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n apply resolution rule to resulting claus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process continues until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re are no new clauses that can be add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KB does not entai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wo clauses resolve to yield empty clau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KB entail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3D68-A79D-4B3F-A5EB-1C3FD36718F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62475B-F55F-4997-883E-CE5536C14AE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Inference in Wumpus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7520" y="1980720"/>
            <a:ext cx="80992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B =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e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adding the negation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t KB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CN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38200" y="3657600"/>
            <a:ext cx="7629480" cy="1809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687680" y="5832360"/>
            <a:ext cx="4706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-RESOLUTI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71DB-A0AD-4150-90E2-E3BC00F375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7C2D7D-44ED-4247-8AA2-91284C0C3D1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rn Cla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l World KB’s are often a conjunction of Horn clau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rn claus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position symbol; o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conjunction of symbols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symbo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)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666800" y="5715000"/>
            <a:ext cx="534348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9D25-2D15-4FDD-8B85-4A8F7EF8140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4EC8C5-EA6F-41F0-BF97-03C84B5854B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re any rule whose premises are satisfied in the K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d its conclusion to the KB until query is foun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419640" y="3809880"/>
            <a:ext cx="458136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2602B-2E2A-427E-A317-6C05240A50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3061AB-62DB-4FB7-900C-505A9601AFA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12531" t="0" r="0" b="0"/>
          <a:stretch/>
        </p:blipFill>
        <p:spPr>
          <a:xfrm>
            <a:off x="1808280" y="1895400"/>
            <a:ext cx="3297240" cy="4734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07B0-E5DF-4E55-ACEA-C8194B6F3A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53D9E1-6B74-4BCB-BF6B-7C9A1D64092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rcRect l="18482" t="0" r="3893" b="8878"/>
          <a:stretch/>
        </p:blipFill>
        <p:spPr>
          <a:xfrm>
            <a:off x="1797120" y="1905120"/>
            <a:ext cx="3308400" cy="46479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F005-F794-4E74-9DDD-1C470980252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BCD3D1-36AA-4843-A4DB-CDF0BF38771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11597" t="2071" r="12140" b="0"/>
          <a:stretch/>
        </p:blipFill>
        <p:spPr>
          <a:xfrm>
            <a:off x="1828800" y="190512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A374-06B2-4E71-9CAC-DFBF67B9775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9781CD-EA2D-4816-AD68-C3F3F6779D4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rcRect l="11876" t="0" r="8073" b="0"/>
          <a:stretch/>
        </p:blipFill>
        <p:spPr>
          <a:xfrm>
            <a:off x="1828800" y="1905120"/>
            <a:ext cx="3276720" cy="4695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BD2F-F75C-4D45-AC19-FF815E8548B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398838-2F02-42BC-AE29-6CF78383F8C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rcRect l="0" t="0" r="6754" b="0"/>
          <a:stretch/>
        </p:blipFill>
        <p:spPr>
          <a:xfrm>
            <a:off x="1819440" y="1886040"/>
            <a:ext cx="3209760" cy="4743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DFB8-EBE9-49D3-8781-F8964BC968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18A3C4-439D-4A09-8A37-C0D52D277B6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rcRect l="10530" t="1624" r="3114" b="0"/>
          <a:stretch/>
        </p:blipFill>
        <p:spPr>
          <a:xfrm>
            <a:off x="1782720" y="1905120"/>
            <a:ext cx="3246480" cy="48006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F38F-E88A-40B0-BED5-D410F1B7533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CBAE56-97BB-4C58-A148-30C9A21AB79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ntence is </a:t>
            </a:r>
            <a:r>
              <a:rPr b="0" lang="en-US" sz="2600" spc="-1" strike="noStrike">
                <a:solidFill>
                  <a:srgbClr val="ff0066"/>
                </a:solidFill>
                <a:latin typeface="Times New Roman"/>
              </a:rPr>
              <a:t>val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f its truth valu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ll interpretations (</a:t>
            </a:r>
            <a:r>
              <a:rPr b="0" lang="en-US" sz="2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alid sentenc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P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ntence is </a:t>
            </a:r>
            <a:r>
              <a:rPr b="0" lang="en-US" sz="2600" spc="-1" strike="noStrike">
                <a:solidFill>
                  <a:srgbClr val="ff0066"/>
                </a:solidFill>
                <a:latin typeface="Times New Roman"/>
              </a:rPr>
              <a:t>satisfi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f its truth valu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t least one interpre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atisfiable sentences: P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ntence is </a:t>
            </a:r>
            <a:r>
              <a:rPr b="0" lang="en-US" sz="2600" spc="-1" strike="noStrike">
                <a:solidFill>
                  <a:srgbClr val="ff0066"/>
                </a:solidFill>
                <a:latin typeface="Times New Roman"/>
              </a:rPr>
              <a:t>unsatisfi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f its truth value 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ll interpre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Unsatisfiable sentences: P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BBDD-5CE9-46CF-A0CC-243114F503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68126C-D160-4F53-86C4-415763BA5F6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rcRect l="14842" t="0" r="10411" b="0"/>
          <a:stretch/>
        </p:blipFill>
        <p:spPr>
          <a:xfrm>
            <a:off x="1809720" y="1905120"/>
            <a:ext cx="3143160" cy="48006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BF36-560D-4450-92DF-CB805F1435F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8BA815-69F8-479B-93D7-AC32AB2AC6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10566" t="0" r="8933" b="0"/>
          <a:stretch/>
        </p:blipFill>
        <p:spPr>
          <a:xfrm>
            <a:off x="1809720" y="1905120"/>
            <a:ext cx="3143160" cy="47242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0B9A-A6B5-4B92-B323-3B8B597BFF4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167690-FB49-4071-83A6-CD8D36DF719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tivation: Need goal-directed reasoning in order to keep from getting overwhelmed with irrelevant consequ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rk backwards from query q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 prove q: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f q is known al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 by backward chaining all premises of some rule concluding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04C7-4F5E-42D3-A5B0-D6A2978F484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90C2FF-F50F-4803-87BF-4B8ECDD2B62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rcRect l="13207" t="0" r="12533" b="0"/>
          <a:stretch/>
        </p:blipFill>
        <p:spPr>
          <a:xfrm>
            <a:off x="1803240" y="1866960"/>
            <a:ext cx="3225960" cy="48387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0E55-DFEF-4A1A-BDAD-0022A79B423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DBC40B-E1AC-474B-A8B7-C81CE5C871C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rcRect l="6431" t="0" r="11947" b="0"/>
          <a:stretch/>
        </p:blipFill>
        <p:spPr>
          <a:xfrm>
            <a:off x="1800360" y="1895400"/>
            <a:ext cx="3228840" cy="4734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1D3F-D460-45C0-A088-ED5C0878504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A60587-3731-4F91-AFA0-6B1BEC6BC8B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rcRect l="6082" t="0" r="10813" b="1640"/>
          <a:stretch/>
        </p:blipFill>
        <p:spPr>
          <a:xfrm>
            <a:off x="1800360" y="1905120"/>
            <a:ext cx="3228840" cy="4724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F3EA-B61C-4687-A7E1-7F7D63BAF7B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37A971-A66C-435A-9AE7-BEED17DAE8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rcRect l="24125" t="2112" r="3979" b="0"/>
          <a:stretch/>
        </p:blipFill>
        <p:spPr>
          <a:xfrm>
            <a:off x="1808280" y="1905120"/>
            <a:ext cx="3144600" cy="48006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D570-8B77-42B6-8D1F-5B7494C14F5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EF67A4-BCDC-4EAB-ACCC-99AFA8DDBB0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rcRect l="10902" t="0" r="7848" b="1563"/>
          <a:stretch/>
        </p:blipFill>
        <p:spPr>
          <a:xfrm>
            <a:off x="1828800" y="1905120"/>
            <a:ext cx="3124080" cy="4800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9FEB-3D12-493C-907C-B4CDD96B13C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4E3179-65CB-4074-8E28-0BF71F3EE71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rcRect l="6884" t="0" r="7675" b="0"/>
          <a:stretch/>
        </p:blipFill>
        <p:spPr>
          <a:xfrm>
            <a:off x="1828800" y="1905120"/>
            <a:ext cx="3343320" cy="4800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8EB2C-4143-4358-AA46-C0606ABCAA8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EDE44A-4CA3-41EF-BE6D-74DE7597E58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12689" t="1535" r="5371" b="1535"/>
          <a:stretch/>
        </p:blipFill>
        <p:spPr>
          <a:xfrm>
            <a:off x="1828800" y="190512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5A87-7DE1-4C03-ADE2-A9DC48828E5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AE4E15-59D6-4C42-99DE-F6614171549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6244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27016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62440" y="341316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isfiable, not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341316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62440" y="4343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isfiable, not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34340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3565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4419720"/>
            <a:ext cx="33526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334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6244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25780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5029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6244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0160" y="600408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191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238F-EC85-4AC0-8DB7-05450A9D4C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AADF0A-B22C-41C5-9D2D-D8405B00D0C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4176" t="0" r="2825" b="0"/>
          <a:stretch/>
        </p:blipFill>
        <p:spPr>
          <a:xfrm>
            <a:off x="1782720" y="1866960"/>
            <a:ext cx="3398760" cy="48387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2DEB5-CD77-490C-B04D-3A2CB2C3EAE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681E1A-E208-4CA8-A186-7DB0B27BDC1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rcRect l="9152" t="382" r="7755" b="3061"/>
          <a:stretch/>
        </p:blipFill>
        <p:spPr>
          <a:xfrm>
            <a:off x="1828800" y="190512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6F4C-39EC-487B-85C2-1819C8B55C86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909A2B-2085-4C28-91C4-75BB4987FC4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rcRect l="8204" t="0" r="5724" b="1366"/>
          <a:stretch/>
        </p:blipFill>
        <p:spPr>
          <a:xfrm>
            <a:off x="1828800" y="190512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EA0E-67F0-4340-B977-572B46C9BFE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E6BC1C-B8B2-4EE1-8320-DA838C4F62E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rcRect l="6378" t="0" r="8515" b="0"/>
          <a:stretch/>
        </p:blipFill>
        <p:spPr>
          <a:xfrm>
            <a:off x="1779480" y="1905120"/>
            <a:ext cx="3173400" cy="48006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F3FD-C044-4A27-8FB9-5AB78DDE5E8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184568-2705-4989-A2EE-5D9E07E55EF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vs. Backward Cha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C is data-driven—it may do lots of work irrelevant to the go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C is goal-driven—appropriate for problem-solv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85A1-6E51-4216-A676-2D87146705F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C33DBA-4898-45F8-ABD5-4D33B10B637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6244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27016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62440" y="341316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isfiable, not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341316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62440" y="4343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isfiable, not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34340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3565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4419720"/>
            <a:ext cx="33526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5334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6244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525780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5029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6244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10160" y="600408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191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3429000"/>
            <a:ext cx="7467840" cy="2514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5597-CD0C-4D0D-8091-6F7C3186C7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FE87A7-8028-4698-8AF1-66AA36CBF8C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er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K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undness: Inference procedure i is sound if whenever K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it is also true tha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KB </a:t>
            </a:r>
            <a:r>
              <a:rPr b="0" lang="en-US" sz="3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ness: Inference procedure i is complete if whenever KB </a:t>
            </a:r>
            <a:r>
              <a:rPr b="0" lang="en-US" sz="3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it is also true that K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4B23-7851-44CB-8AA0-837A4A4B2C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C2130B-958D-4BB5-A036-0B2B293548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idity and Infer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3249360" y="2454120"/>
            <a:ext cx="256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(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98280" y="352908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56760" y="352908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1680" y="3529080"/>
            <a:ext cx="296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58680" y="352908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11040" y="353376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81040" y="3560760"/>
            <a:ext cx="153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7200" y="3533760"/>
            <a:ext cx="296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22040" y="35337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87360" y="3533760"/>
            <a:ext cx="337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38360" y="3560760"/>
            <a:ext cx="153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84520" y="3533760"/>
            <a:ext cx="376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3560760"/>
            <a:ext cx="21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19120" y="35337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80680" y="3560760"/>
            <a:ext cx="64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36920" y="3533760"/>
            <a:ext cx="296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33560" y="3511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9720" y="3532320"/>
            <a:ext cx="459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(P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22760" y="3560760"/>
            <a:ext cx="169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6200" y="353232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3160" y="3560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71920" y="3532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9960" y="3560760"/>
            <a:ext cx="7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16720" y="3532320"/>
            <a:ext cx="630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91000" y="3532320"/>
            <a:ext cx="21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560" y="3532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72160" y="3532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8960" y="350820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8960" y="350820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76240" y="3508200"/>
            <a:ext cx="549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560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3240" y="3508200"/>
            <a:ext cx="528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7172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89360" y="3508200"/>
            <a:ext cx="9619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350820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68560" y="3508200"/>
            <a:ext cx="1944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1328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30920" y="3508200"/>
            <a:ext cx="2814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64540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4540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8960" y="3525840"/>
            <a:ext cx="1728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25600" y="3525840"/>
            <a:ext cx="1764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71720" y="3525840"/>
            <a:ext cx="1764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1280" y="3525840"/>
            <a:ext cx="1728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13280" y="3525840"/>
            <a:ext cx="1764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45400" y="3525840"/>
            <a:ext cx="1764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828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58400" y="394812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7116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61320" y="3948120"/>
            <a:ext cx="270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3492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07800" y="3948120"/>
            <a:ext cx="81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2680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87360" y="394812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4296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9360" y="394812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6068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8960" y="392760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76240" y="3927600"/>
            <a:ext cx="54936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25600" y="392760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3240" y="3927600"/>
            <a:ext cx="528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71720" y="392760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89360" y="3927600"/>
            <a:ext cx="9619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51280" y="392760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68560" y="3927600"/>
            <a:ext cx="19447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13280" y="392760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30920" y="3927600"/>
            <a:ext cx="2814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45400" y="392760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8960" y="39448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25600" y="39448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71720" y="39448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39448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13280" y="39448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45400" y="39448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97560" y="4243320"/>
            <a:ext cx="270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7116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61680" y="424332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1728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07800" y="4243320"/>
            <a:ext cx="81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2680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86640" y="4243320"/>
            <a:ext cx="270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024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49360" y="424332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6068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8960" y="42242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76240" y="4224240"/>
            <a:ext cx="549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25600" y="42242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43240" y="4224240"/>
            <a:ext cx="528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71720" y="42242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9360" y="4224240"/>
            <a:ext cx="9619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51280" y="42242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8560" y="4224240"/>
            <a:ext cx="1944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13280" y="42242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30920" y="4224240"/>
            <a:ext cx="2814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645400" y="42242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58960" y="4241880"/>
            <a:ext cx="1728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25600" y="4241880"/>
            <a:ext cx="1764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71720" y="4241880"/>
            <a:ext cx="1764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4241880"/>
            <a:ext cx="1728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13280" y="4241880"/>
            <a:ext cx="1764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645400" y="4241880"/>
            <a:ext cx="1764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98280" y="454032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5388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61320" y="4540320"/>
            <a:ext cx="270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3492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07800" y="4540320"/>
            <a:ext cx="81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2680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87360" y="454032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4296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9360" y="454032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6068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8960" y="45194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76240" y="4519440"/>
            <a:ext cx="549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4519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3240" y="4519440"/>
            <a:ext cx="528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71720" y="4519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89360" y="4519440"/>
            <a:ext cx="9619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51280" y="45194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68560" y="4519440"/>
            <a:ext cx="1944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13280" y="4519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30920" y="4519440"/>
            <a:ext cx="2814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645400" y="4519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58960" y="45370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25600" y="4537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71720" y="4537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51280" y="45370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13280" y="4537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645400" y="4537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98280" y="483696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5388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61680" y="483696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1728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08160" y="4836960"/>
            <a:ext cx="80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1600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87360" y="483696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4296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9360" y="483696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6068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8960" y="48164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76240" y="4816440"/>
            <a:ext cx="549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25600" y="4816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43240" y="4816440"/>
            <a:ext cx="528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71720" y="4816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89360" y="4816440"/>
            <a:ext cx="9619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51280" y="48164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68560" y="4816440"/>
            <a:ext cx="1944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13280" y="4816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30920" y="4816440"/>
            <a:ext cx="2814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45400" y="4816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8960" y="48340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8960" y="511344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8960" y="511344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76240" y="5113440"/>
            <a:ext cx="54936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25600" y="4834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2560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43240" y="5113440"/>
            <a:ext cx="528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1720" y="4834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7172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89360" y="5113440"/>
            <a:ext cx="9619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1280" y="48340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51280" y="511344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68560" y="5113440"/>
            <a:ext cx="19447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13280" y="4834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1328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0920" y="5113440"/>
            <a:ext cx="2814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45400" y="4834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4540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4540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98280" y="5133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08E8D-309A-4245-87A5-430DF85943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C622A8-FA86-49F7-805A-58F9B06628E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ules of Infer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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id Rules of Inferenc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odus Ponen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d-Elimina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d-Introduc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r-Introduc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uble Nega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nit Resolu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olu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2895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8482-168C-4552-81EA-AA78F99427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29077D-7216-484F-9435-1C9FE37121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in Wumpus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us Ponens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WumpusAh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live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ot, (WumpusAh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live)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d-Elimination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WumpusAh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live)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l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lution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WumpusD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head)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h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ot)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WumpusD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ot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677360" y="2743200"/>
            <a:ext cx="696600" cy="1008720"/>
            <a:chOff x="7677360" y="2743200"/>
            <a:chExt cx="696600" cy="1008720"/>
          </a:xfrm>
        </p:grpSpPr>
        <p:sp>
          <p:nvSpPr>
            <p:cNvPr id="340" name=""/>
            <p:cNvSpPr/>
            <p:nvPr/>
          </p:nvSpPr>
          <p:spPr>
            <a:xfrm>
              <a:off x="7677360" y="2743200"/>
              <a:ext cx="68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)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80320" y="3409920"/>
              <a:ext cx="5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604280" y="4098960"/>
            <a:ext cx="896760" cy="703800"/>
            <a:chOff x="7604280" y="4098960"/>
            <a:chExt cx="896760" cy="703800"/>
          </a:xfrm>
        </p:grpSpPr>
        <p:sp>
          <p:nvSpPr>
            <p:cNvPr id="343" name=""/>
            <p:cNvSpPr/>
            <p:nvPr/>
          </p:nvSpPr>
          <p:spPr>
            <a:xfrm>
              <a:off x="7604280" y="4098960"/>
              <a:ext cx="89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Æ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28120" y="4495680"/>
              <a:ext cx="5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381800" y="5334120"/>
            <a:ext cx="1654920" cy="1008720"/>
            <a:chOff x="7381800" y="5334120"/>
            <a:chExt cx="1654920" cy="1008720"/>
          </a:xfrm>
        </p:grpSpPr>
        <p:sp>
          <p:nvSpPr>
            <p:cNvPr id="346" name=""/>
            <p:cNvSpPr/>
            <p:nvPr/>
          </p:nvSpPr>
          <p:spPr>
            <a:xfrm>
              <a:off x="7381800" y="5334120"/>
              <a:ext cx="1654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Ç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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: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Ç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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Ç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96080" y="60199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FDB2-0E87-473B-929A-4490CAC898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A72B91-A97E-4237-B3FA-553DE827749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ikke dikke</cp:lastModifiedBy>
  <dcterms:modified xsi:type="dcterms:W3CDTF">2004-11-03T13:45:17Z</dcterms:modified>
  <cp:revision>596</cp:revision>
  <dc:subject/>
  <dc:title>CMSC 723: Introduction to  Computational Linguistics</dc:title>
</cp:coreProperties>
</file>