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22F0-1BE7-4AA9-8257-371E205C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F941-7D95-478F-BD44-6A8BCBA7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4E43-39E2-4BA0-9E44-8F804E10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4351-718D-4DC3-9437-F1A1FD3A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0AFC-EA0B-4699-AF76-80363273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D873-FC5A-4AF1-8C40-E0DB048B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49AF-18E1-42A9-80F7-0CEC0108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A1DB-2FCB-443A-9030-C7A2E589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16B9-14F9-43F8-8078-CCA9CA7A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8783-692C-46F1-A8F0-86B335C3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9D21-590D-4253-877C-04A59F23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B3A4C-CAB9-45A6-87D9-5FB54B13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912D-8759-44E4-9C9B-A8DB2B9C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FB14-194E-4584-B366-5EEF31D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439A-28EC-4DF0-8582-E95138F6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F127-0A0B-4967-A5C7-B6CFABCF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EFA9-5513-4B31-BFD0-BA439C79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53A1-5EFE-4EC1-94FF-F6840613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EDDE-7802-494D-99CF-5B6B6065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E67E-ACE5-4D38-B009-90535A58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9A0C-BEF4-4D4B-B101-8E89A728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3681-C5B5-47F3-A800-E99BF355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2D0B-2FFC-4ACD-9A0D-61DD112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F1A7-10D0-4601-8BDD-4DF1B2E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24BB-A7FD-487E-9D71-4C0604791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A241-DE87-4873-8752-021F20F4641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AD84-961B-4755-B9DF-231AF6EF385A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0DF3-2ACA-4AAE-B970-62603A774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Artificial Intelli-gence 1: logic agent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2701800" y="30492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es adapted from lecture notes for CMSC 421 by B.J. Do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cturer: Tom Lenae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 de Recherches Interdisciplinaires et de Développements en Intelligence Artificielle (IRI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é Libre de Brux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of Using Rules of 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ove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, (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, Therefore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resolves with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 deriving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his is equivalent to A </a:t>
            </a:r>
            <a:r>
              <a:rPr b="1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72FF-135E-4435-8DEE-3289102C86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C1F59F-A358-4083-9D80-2EB1F6B98FB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 of Inference (continue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79600" y="18288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-Introdu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-Introdu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 Negation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 Resolution (special case of resolution)</a:t>
            </a:r>
            <a:br>
              <a:rPr sz="22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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ly: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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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5120" y="25909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1080" y="37339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4876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6248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6248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9F26-9DB9-4581-8C4A-CABDB45BEC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6FF5AA-5C1A-4309-BC73-03454D476B1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umpus World K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34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position Symbols for each i,j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t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be true if there is a pit in square i,j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et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be true if there is a breeze in square i,j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ntences in K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re is no pit in square 1,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square is breezy iff pit in a neighboring squar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,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3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2,2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quare 1,1 has no breeze”, “Square 1,2 has a breez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Black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E219-07CA-4A64-866A-10C45FA3A7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DF03E1-EF09-4D15-9FC8-387F757E100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erence in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pply biconditional elimination to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(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Apply AE to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(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ntrapositive of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(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Modus Ponens with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e Morgan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6D0C-86DB-402A-929C-5E8B0F11F4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C6E898-235C-45A9-8966-EEB57B520F6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arching for Proof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nding proofs is exactly like finding solutions to search proble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n search forward (forward chaining) to derive goal or search backward (backward chaining) from the goa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earching for proofs is not more efficient than enumerating models, but in many practical cases, it’s more efficient because we can ignore irrelevant proposi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765EF-A135-4FD9-AC1B-5718DA3C2A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7B49BA-E2DC-4C1C-9465-5907008EB66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ll Resolution Rule Revisi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rt with Unit Resolution Inference 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ull Resolution Rule is a generalization of this ru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clauses of length tw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4343400" cy="808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752480" y="4168800"/>
            <a:ext cx="7391520" cy="708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781280" y="5334120"/>
            <a:ext cx="4162320" cy="11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4182-378E-4EC8-A563-60AD3C7F2C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010E60-B8DA-43F8-AFA8-39B1FEE75DF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lution Applied to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t some point we determine the absenc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f a pit in square 2,2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iconditional elimination applied to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llowed by modus ponens with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EB45-57E0-4FD8-9762-07131C2857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D848EB-9DA1-4818-B75C-66CA0BDA07D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lution: Complete Inference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 complete search algorithm, applying only the resolution rule, can derive any conclusion entailed by any knowledge base in propositional logi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futation completeness: Resolution can always be used to either confirm or refute a sentence, but it cannot be used to enumerate true sentenc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4C71-461C-400B-B72A-6FEC5190DE7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7130E0-D01A-479E-8300-19F504A113D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junctive Normal For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junctive Normal Form is a disjunction of litera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A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5295600"/>
            <a:ext cx="2324160" cy="954720"/>
            <a:chOff x="1676520" y="5295600"/>
            <a:chExt cx="2324160" cy="954720"/>
          </a:xfrm>
        </p:grpSpPr>
        <p:sp>
          <p:nvSpPr>
            <p:cNvPr id="375" name=""/>
            <p:cNvSpPr/>
            <p:nvPr/>
          </p:nvSpPr>
          <p:spPr>
            <a:xfrm rot="16200000">
              <a:off x="2705040" y="4266720"/>
              <a:ext cx="266760" cy="2324160"/>
            </a:xfrm>
            <a:custGeom>
              <a:avLst/>
              <a:gdLst>
                <a:gd name="textAreaLeft" fmla="*/ 170640 w 266760"/>
                <a:gd name="textAreaRight" fmla="*/ 266760 w 266760"/>
                <a:gd name="textAreaTop" fmla="*/ 60480 h 2324160"/>
                <a:gd name="textAreaBottom" fmla="*/ 2263680 h 232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10400" y="5668920"/>
              <a:ext cx="124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clau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752480" y="2819520"/>
            <a:ext cx="3577680" cy="2361960"/>
            <a:chOff x="1752480" y="2819520"/>
            <a:chExt cx="3577680" cy="2361960"/>
          </a:xfrm>
        </p:grpSpPr>
        <p:sp>
          <p:nvSpPr>
            <p:cNvPr id="378" name=""/>
            <p:cNvSpPr/>
            <p:nvPr/>
          </p:nvSpPr>
          <p:spPr>
            <a:xfrm flipH="1">
              <a:off x="2209680" y="3276720"/>
              <a:ext cx="1828800" cy="1371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819520" y="3352680"/>
              <a:ext cx="1371600" cy="129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580920" y="3352680"/>
              <a:ext cx="762120" cy="129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52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82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24080" y="4648320"/>
              <a:ext cx="838440" cy="533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49920" y="2819520"/>
              <a:ext cx="138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itera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70C4-C2ED-4567-B6B5-F450751ADF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59A53D-FE63-4638-8B46-1164C1CB218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NF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: (A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liminate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(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liminate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D)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B) 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25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rive in negations</a:t>
            </a:r>
            <a:br>
              <a:rPr sz="19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(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br>
              <a:rPr sz="21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17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7C89-1C41-41ED-96F4-8D129E7170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98276A-DEE5-4451-AC34-05C0A26D4B6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Logical Equival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00200" y="2060640"/>
            <a:ext cx="731520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410B-A77F-414D-A830-CF0871C510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749E6E-1D13-4022-B70D-562D007C7FC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lution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show KB </a:t>
            </a:r>
            <a:r>
              <a:rPr b="0" lang="en-US" sz="21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we show (KB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is unsatisfiabl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is is a proof by contradictio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rst convert (KB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into CNF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n apply resolution rule to resulting claus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process continues unti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re are no new clauses that can be add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KB does not entai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wo clauses resolve to yield empty clau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KB entail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E5C4-BCA7-4C1C-A951-9B5BCF63DA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5A7713-0850-4D53-9476-2938B99E217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Inference in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7520" y="1980720"/>
            <a:ext cx="8099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B =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(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e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adding the negation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t KB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CN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38200" y="3657600"/>
            <a:ext cx="7629480" cy="1809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687680" y="5832360"/>
            <a:ext cx="4706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-RESOLUTI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0CF5-C02D-4C5F-B3BE-E03B818261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A2636F-3BD9-485C-896B-A05BCADD757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rn Cla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l World KB’s are often a conjunction of Horn clau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rn claus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position symbol; o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(conjunction of symbols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symbo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)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666800" y="5715000"/>
            <a:ext cx="5343480" cy="111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E41F2-EAB7-416C-9F22-B3A307FC63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D572DF-95D2-4A70-8616-070BEE664D3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re any rule whose premises are satisfied in the KB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d its conclusion to the KB until query is foun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419640" y="3809880"/>
            <a:ext cx="458136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E819-0F72-4A75-B974-3E1EF0C227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553D33-859C-4BB0-BA73-013C6E519A0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rcRect l="12531" t="0" r="0" b="0"/>
          <a:stretch/>
        </p:blipFill>
        <p:spPr>
          <a:xfrm>
            <a:off x="1808280" y="1895400"/>
            <a:ext cx="3297240" cy="4734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273F9-2B1E-4196-8909-3844F90479E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570BB7-B39D-441D-A522-0627AC2A5AC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rcRect l="18482" t="0" r="3893" b="8878"/>
          <a:stretch/>
        </p:blipFill>
        <p:spPr>
          <a:xfrm>
            <a:off x="1797120" y="1905120"/>
            <a:ext cx="3308400" cy="4647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5558-CB45-4822-8141-2E5F76C59D2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226B9A-1179-4ED9-BCB9-D10F6203D35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11597" t="2071" r="12140" b="0"/>
          <a:stretch/>
        </p:blipFill>
        <p:spPr>
          <a:xfrm>
            <a:off x="1828800" y="1905120"/>
            <a:ext cx="3352680" cy="47242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FB31-08F6-42D8-9BA5-F6E3D07F982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D485F4-FB55-40DA-AC45-C6427E75E62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rcRect l="11876" t="0" r="8073" b="0"/>
          <a:stretch/>
        </p:blipFill>
        <p:spPr>
          <a:xfrm>
            <a:off x="1828800" y="1905120"/>
            <a:ext cx="3276720" cy="4695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C97AB-6EB6-4135-93D0-95C66D1874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57F9D4-7BAF-45A0-B9DC-12B112ABACF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rcRect l="0" t="0" r="6754" b="0"/>
          <a:stretch/>
        </p:blipFill>
        <p:spPr>
          <a:xfrm>
            <a:off x="1819440" y="1886040"/>
            <a:ext cx="3209760" cy="4743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660F-4D6B-47D8-80C8-D78DCB4609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701784-EFA2-4B7A-9A2B-745A8E26D31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rcRect l="10530" t="1624" r="3114" b="0"/>
          <a:stretch/>
        </p:blipFill>
        <p:spPr>
          <a:xfrm>
            <a:off x="1782720" y="1905120"/>
            <a:ext cx="3246480" cy="48006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3DD94-1B81-4FED-B786-10893052C2C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867CFC-20C6-4CAB-9429-6040803372A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ntence is 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vali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f its truth valu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ll interpretations (</a:t>
            </a:r>
            <a:r>
              <a:rPr b="0" lang="en-US" sz="2600" spc="-1" strike="noStrike">
                <a:solidFill>
                  <a:srgbClr val="000000"/>
                </a:solidFill>
                <a:latin typeface="msam10"/>
              </a:rPr>
              <a:t>²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alid sentenc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P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ntence is 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satisf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f its truth value i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t least one interpre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atisfiable sentences: P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entence is </a:t>
            </a:r>
            <a:r>
              <a:rPr b="0" lang="en-US" sz="2600" spc="-1" strike="noStrike">
                <a:solidFill>
                  <a:srgbClr val="ff0066"/>
                </a:solidFill>
                <a:latin typeface="Times New Roman"/>
              </a:rPr>
              <a:t>unsatisfiabl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ff its truth value i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all interpre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Unsatisfiable sentences: P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P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A5DF-D0BE-4A8F-93C7-5628817CB0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45008C-F738-4590-817E-049DAAFFCCA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14842" t="0" r="10411" b="0"/>
          <a:stretch/>
        </p:blipFill>
        <p:spPr>
          <a:xfrm>
            <a:off x="1809720" y="1905120"/>
            <a:ext cx="3143160" cy="48006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BC19-9097-44C7-858B-706E1085727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A96B8E-52A2-4524-A1E3-DB4ADE5C853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10566" t="0" r="8933" b="0"/>
          <a:stretch/>
        </p:blipFill>
        <p:spPr>
          <a:xfrm>
            <a:off x="1809720" y="1905120"/>
            <a:ext cx="3143160" cy="47242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67CC-9487-4E82-B4CB-E093D77EEEA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90C006-E12C-4B5D-9174-62F9B013E0E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tivation: Need goal-directed reasoning in order to keep from getting overwhelmed with irrelevant consequ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in idea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rk backwards from query q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o prove q: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f q is known al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 by backward chaining all premises of some rule concluding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7EFD-7902-4605-AD9D-2C4279CC09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32F75B-436E-42F5-B839-665642549C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rcRect l="13207" t="0" r="12533" b="0"/>
          <a:stretch/>
        </p:blipFill>
        <p:spPr>
          <a:xfrm>
            <a:off x="1803240" y="1866960"/>
            <a:ext cx="3225960" cy="48387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37D1-3B5B-4CA2-B3D0-A90ED9C72F3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896973-1B36-4812-90E5-B4038F650B9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rcRect l="6431" t="0" r="11947" b="0"/>
          <a:stretch/>
        </p:blipFill>
        <p:spPr>
          <a:xfrm>
            <a:off x="1800360" y="1895400"/>
            <a:ext cx="3228840" cy="47340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7EB2-4A70-42BA-9777-9C2ABE2B7F8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BAB545-1736-4C17-837D-DF6B3AFEB9C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rcRect l="6082" t="0" r="10813" b="1640"/>
          <a:stretch/>
        </p:blipFill>
        <p:spPr>
          <a:xfrm>
            <a:off x="1800360" y="1905120"/>
            <a:ext cx="3228840" cy="472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1E14-1DDC-4A0E-A352-B8422BC62BC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B07BD5-29AE-473B-839F-5C5694B5789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rcRect l="24125" t="2112" r="3979" b="0"/>
          <a:stretch/>
        </p:blipFill>
        <p:spPr>
          <a:xfrm>
            <a:off x="1808280" y="1905120"/>
            <a:ext cx="3144600" cy="48006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4533-3666-4F81-A9B3-EA3AA44C8BE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865109-C680-4C06-B8B3-C11CE74708A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rcRect l="10902" t="0" r="7848" b="1563"/>
          <a:stretch/>
        </p:blipFill>
        <p:spPr>
          <a:xfrm>
            <a:off x="1828800" y="1905120"/>
            <a:ext cx="3124080" cy="48006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07E5-EB52-480E-B477-66C240F47AB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ABD1DF-0A16-42FB-8656-1B4EAE5BA29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rcRect l="6884" t="0" r="7675" b="0"/>
          <a:stretch/>
        </p:blipFill>
        <p:spPr>
          <a:xfrm>
            <a:off x="1828800" y="1905120"/>
            <a:ext cx="3343320" cy="4800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BFE9-38E4-42A0-9D49-7409325EDD1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5231C5-546B-4C7F-AEC9-121C50E4B4F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12689" t="1535" r="5371" b="1535"/>
          <a:stretch/>
        </p:blipFill>
        <p:spPr>
          <a:xfrm>
            <a:off x="1828800" y="190512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CFD4-F965-4431-838C-8DB5A4F8556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373043-5815-4BE9-8BAB-A27D12E4B97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6244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27016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62440" y="341316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341316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62440" y="4343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3434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565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4419720"/>
            <a:ext cx="33526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6244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2578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244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0160" y="600408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7B0C-1D57-4E58-84B7-63DAB8A83C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F41D14-FED2-42FB-BDC2-F5D20ADFC01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4176" t="0" r="2825" b="0"/>
          <a:stretch/>
        </p:blipFill>
        <p:spPr>
          <a:xfrm>
            <a:off x="1782720" y="1866960"/>
            <a:ext cx="3398760" cy="48387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F683D-6494-482C-9F68-796B684C526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E55EA6-33DC-4D13-9111-B810877E3C0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rcRect l="9152" t="382" r="7755" b="3061"/>
          <a:stretch/>
        </p:blipFill>
        <p:spPr>
          <a:xfrm>
            <a:off x="1828800" y="190512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CCDFB-39E0-4746-8506-2AA059C860C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A231B6-C1F8-48A4-9365-D4C39F0CE11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rcRect l="8204" t="0" r="5724" b="1366"/>
          <a:stretch/>
        </p:blipFill>
        <p:spPr>
          <a:xfrm>
            <a:off x="1828800" y="1905120"/>
            <a:ext cx="3200400" cy="48006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DE26-CCC7-4D37-A2D6-E8A81C35C40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2AC404-5712-4425-8C5B-32B89293588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ward Chaining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rcRect l="6378" t="0" r="8515" b="0"/>
          <a:stretch/>
        </p:blipFill>
        <p:spPr>
          <a:xfrm>
            <a:off x="1779480" y="1905120"/>
            <a:ext cx="3173400" cy="48006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012360" y="2646360"/>
            <a:ext cx="157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E649-8387-41BF-ABE6-5B8AF8F6ECF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D9F11A-85C1-4DDE-A515-1F1D59C195B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ward Chaining vs. Backward Chai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C is data-driven—it may do lots of work irrelevant to the go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C is goal-driven—appropriate for problem-solv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92D1-8138-411E-AD53-8FE9912F560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6F1958-97AF-46F4-B8CD-E0457958DBA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6244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27016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62440" y="341316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341316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419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62440" y="4343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atisfiable, not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3434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3565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4419720"/>
            <a:ext cx="33526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3341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6244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5257800"/>
            <a:ext cx="75960" cy="533520"/>
          </a:xfrm>
          <a:custGeom>
            <a:avLst/>
            <a:gdLst>
              <a:gd name="textAreaLeft" fmla="*/ 0 w 75960"/>
              <a:gd name="textAreaRight" fmla="*/ 2736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5029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6244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10160" y="600408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3429000"/>
            <a:ext cx="7467840" cy="2514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5D05-17BD-4F44-80E3-C9094DDD42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7F6758-1D8B-481F-9BC5-6760EFC3A18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undness: Inference procedure i is sound if whenever K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it is also true tha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KB </a:t>
            </a:r>
            <a:r>
              <a:rPr b="0" lang="en-US" sz="3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leteness: Inference procedure i is complete if whenever KB </a:t>
            </a:r>
            <a:r>
              <a:rPr b="0" lang="en-US" sz="3000" spc="-1" strike="noStrike">
                <a:solidFill>
                  <a:srgbClr val="000000"/>
                </a:solidFill>
                <a:latin typeface="msam10"/>
              </a:rPr>
              <a:t>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it is also true that KB </a:t>
            </a:r>
            <a:r>
              <a:rPr b="0" lang="en-US" sz="30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2DF5-5447-4F96-A3E2-AA0AA45D5D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FA2252-F80A-4556-89B7-321E4087AEC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lidity and 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3249360" y="2454120"/>
            <a:ext cx="256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(P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1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98280" y="352908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6760" y="35290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61680" y="352908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58680" y="35290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11040" y="35337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81040" y="3560760"/>
            <a:ext cx="15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7200" y="353376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22040" y="35337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87360" y="3533760"/>
            <a:ext cx="337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P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38360" y="3560760"/>
            <a:ext cx="15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84520" y="3533760"/>
            <a:ext cx="376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560760"/>
            <a:ext cx="21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19120" y="35337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0680" y="3560760"/>
            <a:ext cx="64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msy10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36920" y="353376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33560" y="3511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9720" y="3532320"/>
            <a:ext cx="459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(P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2760" y="3560760"/>
            <a:ext cx="169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6200" y="353232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)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3160" y="3560760"/>
            <a:ext cx="23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71920" y="3532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9960" y="3560760"/>
            <a:ext cx="72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16720" y="3532320"/>
            <a:ext cx="630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21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91000" y="3532320"/>
            <a:ext cx="21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560" y="3532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72160" y="3532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8960" y="350820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8960" y="350820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76240" y="350820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2560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3240" y="350820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7172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89360" y="350820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350820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68560" y="350820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1328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30920" y="350820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4540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45400" y="350820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8960" y="3525840"/>
            <a:ext cx="1728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2560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7172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1280" y="3525840"/>
            <a:ext cx="1728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1328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45400" y="3525840"/>
            <a:ext cx="1764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828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58400" y="39481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7116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61320" y="39481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492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07800" y="3948120"/>
            <a:ext cx="81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2680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87360" y="39481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4296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49360" y="39481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60680" y="39481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8960" y="392760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76240" y="3927600"/>
            <a:ext cx="5493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2560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3240" y="3927600"/>
            <a:ext cx="528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7172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89360" y="3927600"/>
            <a:ext cx="9619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392760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68560" y="3927600"/>
            <a:ext cx="19447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1328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30920" y="3927600"/>
            <a:ext cx="2814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45400" y="392760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8960" y="39448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2560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7172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51280" y="39448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1328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45400" y="39448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97560" y="42433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7116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61680" y="42433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1728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07800" y="4243320"/>
            <a:ext cx="81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2680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86640" y="42433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024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49360" y="42433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60680" y="4243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8960" y="42242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76240" y="422424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2560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43240" y="422424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89360" y="422424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51280" y="42242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8560" y="422424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1328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30920" y="422424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45400" y="42242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8960" y="4241880"/>
            <a:ext cx="1728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2560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7172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4241880"/>
            <a:ext cx="1728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1328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645400" y="4241880"/>
            <a:ext cx="17640" cy="27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98280" y="45403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5388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61320" y="4540320"/>
            <a:ext cx="270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3492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07800" y="4540320"/>
            <a:ext cx="81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2680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87360" y="454032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4296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9360" y="454032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60680" y="4540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8960" y="4519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76240" y="451944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3240" y="451944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7172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89360" y="451944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51280" y="4519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68560" y="451944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81328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30920" y="451944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645400" y="4519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58960" y="4537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2560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7172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51280" y="4537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1328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645400" y="4537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98280" y="48369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5388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61680" y="48369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1728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08160" y="4836960"/>
            <a:ext cx="80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   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1600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87360" y="4836960"/>
            <a:ext cx="2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4296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9360" y="4836960"/>
            <a:ext cx="20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60680" y="4836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8960" y="4816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76240" y="4816440"/>
            <a:ext cx="549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2560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43240" y="4816440"/>
            <a:ext cx="528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7172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89360" y="4816440"/>
            <a:ext cx="9619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51280" y="4816440"/>
            <a:ext cx="172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68560" y="4816440"/>
            <a:ext cx="19447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1328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30920" y="4816440"/>
            <a:ext cx="2814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45400" y="4816440"/>
            <a:ext cx="176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8960" y="4834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8960" y="5113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8960" y="5113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76240" y="5113440"/>
            <a:ext cx="5493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2560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2560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43240" y="5113440"/>
            <a:ext cx="528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7172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7172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89360" y="5113440"/>
            <a:ext cx="9619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4834080"/>
            <a:ext cx="1728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51280" y="5113440"/>
            <a:ext cx="172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8560" y="5113440"/>
            <a:ext cx="19447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1328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1328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0920" y="5113440"/>
            <a:ext cx="28144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45400" y="4834080"/>
            <a:ext cx="17640" cy="27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4540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45400" y="5113440"/>
            <a:ext cx="176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98280" y="51339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BB54-5C23-4CCB-908E-AC9C079F18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CC0693-E8FA-4F22-BDDF-3720A0DC4CE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ules of Infer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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id Rules of Inferen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odus Ponen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d-Elimin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d-Introduc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r-Introduc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uble Nega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nit Resolu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2895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0664-68DD-4598-B8B0-30E7EC728E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D7691B-255C-4ED3-ADC6-39F0B5CC22C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in Wumpus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us Ponens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)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, (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d-Elimination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l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olution: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WumpusD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head)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umpusAh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)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WumpusDead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hoot)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677360" y="2743200"/>
            <a:ext cx="696600" cy="1008720"/>
            <a:chOff x="7677360" y="2743200"/>
            <a:chExt cx="696600" cy="1008720"/>
          </a:xfrm>
        </p:grpSpPr>
        <p:sp>
          <p:nvSpPr>
            <p:cNvPr id="340" name=""/>
            <p:cNvSpPr/>
            <p:nvPr/>
          </p:nvSpPr>
          <p:spPr>
            <a:xfrm>
              <a:off x="7677360" y="2743200"/>
              <a:ext cx="6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)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780320" y="3409920"/>
              <a:ext cx="5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604280" y="4098960"/>
            <a:ext cx="896760" cy="703800"/>
            <a:chOff x="7604280" y="4098960"/>
            <a:chExt cx="896760" cy="703800"/>
          </a:xfrm>
        </p:grpSpPr>
        <p:sp>
          <p:nvSpPr>
            <p:cNvPr id="343" name=""/>
            <p:cNvSpPr/>
            <p:nvPr/>
          </p:nvSpPr>
          <p:spPr>
            <a:xfrm>
              <a:off x="7604280" y="4098960"/>
              <a:ext cx="89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Æ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28120" y="4495680"/>
              <a:ext cx="5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381800" y="5334120"/>
            <a:ext cx="1654920" cy="1008720"/>
            <a:chOff x="7381800" y="5334120"/>
            <a:chExt cx="1654920" cy="1008720"/>
          </a:xfrm>
        </p:grpSpPr>
        <p:sp>
          <p:nvSpPr>
            <p:cNvPr id="346" name=""/>
            <p:cNvSpPr/>
            <p:nvPr/>
          </p:nvSpPr>
          <p:spPr>
            <a:xfrm>
              <a:off x="7381800" y="5334120"/>
              <a:ext cx="1654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Ç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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: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Ç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</a:t>
              </a:r>
              <a:br>
                <a:rPr sz="2000"/>
              </a:b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</a:t>
              </a:r>
              <a:r>
                <a:rPr b="0" lang="en-US" sz="2000" spc="-1" strike="noStrike">
                  <a:solidFill>
                    <a:srgbClr val="ff0000"/>
                  </a:solidFill>
                  <a:latin typeface="cmsy10"/>
                </a:rPr>
                <a:t>Ç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96080" y="60199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4F6F-F584-4D81-91E8-11F631EF4A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4D956E-6239-4F5D-903A-E85118849BD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ikke dikke</cp:lastModifiedBy>
  <dcterms:modified xsi:type="dcterms:W3CDTF">2004-11-03T13:45:17Z</dcterms:modified>
  <cp:revision>596</cp:revision>
  <dc:subject/>
  <dc:title>CMSC 723: Introduction to  Computational Linguistics</dc:title>
</cp:coreProperties>
</file>