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9C71-ED8C-4ECF-9E2C-B2F8520D9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B464-9701-482E-B1FC-0E0D8D8E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2F3-4EAC-4D9D-AB2F-7BE51A08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E206-C7DD-4D9A-8307-4C529430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AF72-62EC-4075-99F1-6D0721DC6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FB06-8F61-4E27-9D04-0EC4C6F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A4E5-50E8-452B-B5D2-67564D93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1598-8672-49CF-B3BB-CDD54278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6062-DF38-4B29-AECB-BA7A0827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E782A-F984-41C8-94BD-DA00985A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53B9-DCFA-4193-B5BA-40B01681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9E3A4-0339-4D08-9912-AF530733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4566-D623-469E-8013-27E299B6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D248-0DA6-4D5F-ADCD-A70EAFEC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60E91-60BE-4053-8A8C-929B1B2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DA069-87F5-48D5-95DA-68623FC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5CCB-F354-42A9-8EDE-2F7E183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A790A-6600-460B-9477-C219E26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601D4-0E87-4D11-B3BE-79AD4FF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9CE25-E7B8-4C5F-B475-393E120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4A19E-FB07-4AAA-B504-18B792EE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48656-3EC1-4DF2-B0B4-AD75C671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8CB6-217E-4A16-8354-565592CC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BAAA-0556-4573-A3C8-2265ACC4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2F77-7E68-4909-9A84-A2012E1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3464-5A44-4610-AC7E-3F25CE4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C8D7-0E8F-4EB6-80FB-2F92D22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B484-D886-449D-81E3-0F4CB117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B43D-1EB6-42C8-988B-AE4CF38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C9FC-CEB3-4D43-AC6F-8DB5AF34477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EA5A-556A-4064-B0AB-D697592CA10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22A-F633-4656-ACEF-2C6152B1070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005C-F217-49B0-97D2-C984CA3FB71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3440" y="1371240"/>
            <a:ext cx="69724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 Agents and First-Order Logic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dels for FOL: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1617840"/>
            <a:ext cx="617220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FC30-7ABB-4B52-B1A7-EE8BB327D9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85142-EC42-4BD2-BE71-0785A68B6E5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dels for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7334280" cy="1631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e can enumerate the models for a given KB vocabular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ing entailment by enumerating the models will not be easy !!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C7C8-FABF-425A-BC5D-6F3D0EF0CD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875C3-EB46-4A7D-8EF2-FC4ECD4B925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Quantifier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llows us to express properties of collections of objects instead of enumerating objects by nam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Universal: “for all”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istential: “there exists”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66E5-5A40-46F1-A5AD-9D888CFF53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DE15D-C0C9-4840-B2F8-4F2D3223B34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versal quantific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&lt;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variable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&gt; &lt;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entenc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&gt;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veryone at VUB is smart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At(x,VUB)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mart(x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true in a model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f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true with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being each possible object in the mode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oughly speaking, equivalent to the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jun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stantiation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t(KingJohn,VUB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Smart(KingJohn)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t(Richard,VUB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 Smart(Richard)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t(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VUB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,VUB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Smart(VUB)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..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2175-9B14-4B14-B52D-0E8128CC14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4C512-3DCF-48D6-A0AA-888608AE69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common mistake to avoi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ypically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 universally quantifier is also equivalent to a set of implications over all objec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mon mistake: using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a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 At(x,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VUB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Smart(x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means “Everyone is at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VUB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nd everyone is smart”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E2B5-E995-4F7D-8CB9-99DD1F8ABF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E070A-2620-4425-B968-92E71F62CA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istential quantific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&lt;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variables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&gt; &lt;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sentenc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&gt;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Someone at VUB is smart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At(x, VUB)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Smart(x)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s true in a model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m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ff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s true with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being some possible object in the mode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Roughly speaking, equivalent to the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disjunctio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instantiations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(KingJohn,VUB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mart(KingJohn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(Richard,VUB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mart(Richard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(VUB, VUB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mart(VUB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3010-1AF4-4DF2-86E1-53FFA27CAA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F74E4-35EA-4D29-84CC-A265148B83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nother common mistake to avoi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ypically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mon mistake: using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a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At(x,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UB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Smart(x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true even if there is anyone who is not at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UB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DD82-3764-40A0-9E2F-1F47811093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C8E48-36C0-4E12-A78A-85664F600B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erties of quantifier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is the same as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is the same as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is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he same as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Loves(x,y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There is a person who loves everyone in the world”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Loves(x,y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Everyone in the world is loved by at least one person”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Quantifier dual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each can be expressed using the othe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Likes(x,IceCream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ikes(x,IceCream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Likes(x,Broccoli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ikes(x,Broccoli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F940-AC24-484B-B7CD-F29CEDB5DA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029C0-AF7D-4E4D-AA73-EF121A6C684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qu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= 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true under a given interpretation if and only if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nd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fer to the same object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.g., definition of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Sibling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n terms of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Parent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Sibling(x,y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[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(x = y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,f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(m = f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Parent(m,x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Parent(f,x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Parent(m,y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 Parent(f,y)]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4981-2E67-4FD0-BDC0-44BCF07DEF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F1345-6A8A-4AD5-90EE-0D64F3150D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teracting with FOL KB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Suppose a wumpus-world agent is using an FOL KB and perceives a smell and a breeze (but no glitter) at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t=5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4" marL="1666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Courier New"/>
              </a:rPr>
              <a:t>Tell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(KB,Percept([Smell,Breeze,None],5)) (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assertio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Courier New"/>
              </a:rPr>
              <a:t>Ask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(KB,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 BestAction(a,5)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4" marL="1666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358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I.e., does the KB entail some best action at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t=5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nswer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Yes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, {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/Shoot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}  </a:t>
            </a:r>
            <a:r>
              <a:rPr b="0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33399"/>
                </a:solidFill>
                <a:latin typeface="Verdana"/>
              </a:rPr>
              <a:t>substitution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(binding list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Given a sentence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and a substitution 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denotes the result of plugging 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into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; e.g.,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= Smarter(x,y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= {x/Hillary,y/Bill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  <a:ea typeface="Arial"/>
              </a:rPr>
              <a:t>S</a:t>
            </a:r>
            <a:r>
              <a:rPr b="0" lang="el-GR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= Smarter(Hillary,Bill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Courier New"/>
              </a:rPr>
              <a:t>Ask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(KB,S) returns some/all 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such that KB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  <a:ea typeface="Arial"/>
              </a:rPr>
              <a:t> |= S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l-GR" sz="1900" spc="-1" strike="noStrike">
                <a:solidFill>
                  <a:srgbClr val="5f604a"/>
                </a:solidFill>
                <a:latin typeface="Verdana"/>
                <a:ea typeface="Arial"/>
              </a:rPr>
              <a:t>.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(=queries)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2B3B-C736-4F7E-8EC5-8CA6CA94EE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5E8DE-AC17-4831-B35C-5A0B3C3FDE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y FOL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yntax and semantics of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sing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umpus world in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Knowledge engineering in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7D05-B2C2-42BF-A546-8E2F81A1A5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71AA8-B3A5-4FE0-B0EF-AAB33F6B3C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sing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kinship domai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rothers are sibling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x,y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rother(x,y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ibling(x,y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ne's mother is one's female par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,c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other(c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m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(Female(m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arent(m,c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ibling” is symmetric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x,y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ibling(x,y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Sibling(y,x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 first cousin is a child of a parent’s sibl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x,y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irstCousin(x,y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,ps Parent(p,x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ibling(ps,p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arent(ps,y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EC3F-31BA-46E3-9921-80D9C223C1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AC013-1098-4A7B-9222-2714335078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sing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The set domain: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 Set(s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 = {} 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et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= {x|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}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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 {x|s} = {}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= {x|s}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[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y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} (s = {y|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}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x = y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)]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=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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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6B82-3ABC-4C23-A7F1-D48AFCD0A1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12DA9-E664-449D-9460-F2A9A90511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L Version of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ypical percept sentence:</a:t>
            </a:r>
            <a:br>
              <a:rPr sz="2800"/>
            </a:b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ercept([Stench,Breeze,Glitter,None,None],5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:</a:t>
            </a:r>
            <a:br>
              <a:rPr sz="2800"/>
            </a:b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urn(Right), Turn(Left), Forward, Shoot, Grab, Release, Climb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o determine best action, construct query:</a:t>
            </a:r>
            <a:br>
              <a:rPr sz="2800"/>
            </a:b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a BestAction(a,5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K solves this and returns {a/Grab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nd TELL about the ac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0A0D-856F-4D03-A8FA-727D1A6D8D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2B1AA-38B7-4D66-863A-99DB27B270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nowledge base for the wumpus wor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,g,t Percept([Smell,b,g],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melt(t)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,b,t Percept([s,b,Glitter],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Glitter(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flex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 Glitter(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Action(Grab,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flex with internal stat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 Glitter(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lding(Gold,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Action(Grab,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lding(Gold,t) can not be observed: keep track of chang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synchronic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entences!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31BD-9A7D-4529-AA1D-2E18E71FC4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EB41E-7A0B-4288-BAC5-17D56D9559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ducing hidden propert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nvironment definitio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x,y,a,b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Adjacent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([x,y],[a,b]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[a,b]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{[x+1,y], [x-1,y],[x,y+1],[x,y-1]}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Properties of locationsß: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,t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At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(Agent,s,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Smelt(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Smelly(s)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,t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At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(Agent,s,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Breeze(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Breezy(s)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quares are breezy near a pit: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agnostic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rule---infer cause from effec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Breezy(s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r Adjacent(r,s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Pit(r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ausal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ule---infer effect from cause (model based reasoning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 Pit(r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[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Adjacent(r,s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reezy(s)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B69F-0387-4515-9352-B413494287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F7449-78A2-458F-86C2-BC8DDDBA1F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nowledge engineering in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dentify the task (what will the KB be used f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emble the relevant knowledg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Knowledge acquisi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ecide on a vocabulary of predicates, functions, and constan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ranslate domain-level knowledge into logic-level name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ncode general knowledge about the domai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define axiom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ncode a description of the specific problem insta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ose queries to the inference procedure and get answer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ebug the knowledge bas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FB5F-34D0-48AA-A30B-6B1F897476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E4EFF-4281-45D5-9BD9-BEF88AF9FA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ne-bit full adder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1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F8D0-8737-4503-88A8-4A236EC44C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E6303-F831-433C-B8A4-4EA8AD32CD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80000"/>
              </a:lnSpc>
              <a:spcBef>
                <a:spcPts val="726"/>
              </a:spcBef>
              <a:buClr>
                <a:srgbClr val="5f604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f604a"/>
                </a:solidFill>
                <a:latin typeface="Verdana"/>
              </a:rPr>
              <a:t>Identify the task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oes the circuit actually add properly? (circuit verificatio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Assemble the relevant knowledge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osed of wires and gates;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ypes of gates (AND, OR, XOR, NO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nections between termin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rrelevant: size, shape, color, cost of g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Decide on a vocabulary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ternatives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= XO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XOR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XOR(X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771D-63E8-4FEB-ACBC-C27CE45FE1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8DD75-9B00-45A5-A97A-5F0965F44CF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ncode general knowledge of the domai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nnected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= Signal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 Signal(t) = 1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t) = 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  <a:ea typeface="Arial"/>
              </a:rPr>
              <a:t>≠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nnected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nnected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OR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= 1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 Signal(In(n,g)) = 1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AND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= 0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 Signal(In(n,g)) = 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XOR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= 1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In(1,g))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  <a:ea typeface="Arial"/>
              </a:rPr>
              <a:t>≠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In(2,g)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NOT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  <a:ea typeface="Arial"/>
              </a:rPr>
              <a:t>≠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In(1,g)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9B98-6746-4629-AAA2-25F0AF9CA5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90C42-5038-46BF-BF7E-80716EC06F0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Encode the specific problem instance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XOR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XOR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AND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A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OR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1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1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2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2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Out(1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3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Out(2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3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9C00-A118-4E01-A2EF-7A53493FD5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4011E-7508-487C-8B25-9880B71449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s and cons of propositional logic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is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declarative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allows partial/disjunctive/negated information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(unlike most data structures and database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is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compositional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eaning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derived from meaning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eaning in propositional logic is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context-independent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(unlike natural language, where meaning depends on contex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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has very limited expressive power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(unlike natural languag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cannot say "pits cause breezes in adjacent squares“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xcept by writing one sentence for each squar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3C0B-B8D3-4D7A-93DC-75870BF6C3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2646A-D18A-40E1-A0AF-1CC85D0A8A0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ose queries to the inference procedur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What are the possible sets of values of all the terminals for the adder circuit? 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In(1,C_1)) = 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In(2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In(3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Out(1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Out(2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bug the knowledge bas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ay have omitted assertions like 1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  <a:ea typeface="Arial"/>
              </a:rPr>
              <a:t>≠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3A0F-03BF-4368-8CAA-B9185ADAA8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E5F6D-0830-497F-BC23-6584E3FD55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First-order logic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objects and relations are semantic primitiv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yntax: constants, functions, predicates, equality, quantifier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Increased expressive power: sufficient to define wumpus world 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1EAA-B98B-4D54-914B-19F6EC2926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20D43-E9E7-492C-BDBB-9D22EC0EBC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irst-order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hereas propositional logic assumes the world contain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act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-order logic (like natural language) assumes the world contai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bject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people, houses, numbers, colors, baseball games, wars, 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lation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red, round, prime, brother of, bigger than, part of, comes between, 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unction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father of, best friend, one more than, plus, 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5A23-4329-4096-A449-C3CA176D1A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C7B32-5F15-4B62-ACC4-8A62CA4C8A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s in Genera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ntological Commitment: What exists in the world — TRUTH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PL : facts hold or do not hold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L : objects with relatios between them that hold or do not hold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pistemoligical Commitment: What an agent believes about facts — BELIE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38360" y="4229280"/>
            <a:ext cx="6743520" cy="15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2CA5-8E2B-4CF8-9DD4-635EEDA9CD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DEF6F-F3A6-45F1-96D6-9A7092CBF61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ntax of FOL: Basic ele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nstant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KingJohn, 2, NUS,...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redicate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Brother, &gt;,..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unction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qrt, LeftLegOf,..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Variable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x, y, a, b,..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nnective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quality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Quantifiers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FE97-0936-4D62-8A1A-4C95F9F597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9171B-2425-442C-8DB9-86BBE272F33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tomic senten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tomic sentence =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redicate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...,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or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 = 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erm           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=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function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...,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or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constant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or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variabl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E.g.,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Brother(KingJohn,RichardTheLionheart) &gt; (Length(LeftLegOf(Richard)), Length(LeftLegOf(KingJohn)))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F09D-B5C5-4077-9398-55070F1B28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E67E3-785A-4CE1-A73E-E0FEB2361A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mplex senten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x sentences are made from atomic sentences using connectiv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.g.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Sibling(KingJohn,Richard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Sibling(Richard,KingJohn)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&gt;(1,2)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  <a:ea typeface="Arial"/>
              </a:rPr>
              <a:t>≤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(1,2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&gt;(1,2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&gt;(1,2)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A077-15F5-4FCF-A02B-E78A685457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02593-910A-4452-ACD1-14AF923027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uth in first-order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tences are true with respect to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ode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an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terpret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odel contains objects (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omai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lement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and relations among them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terpretation specifies referents fo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constant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symbol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→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object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predicate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symbol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→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relation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symbol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→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functional relation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tomic sentenc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edicate(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,...,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s tr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ff the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objects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ferred to b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,...,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re in the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rela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referred to b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edicat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F85F-031E-496E-A43D-9E05788F78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EB2C1-B2DE-4CE4-9D5C-A582DF4B4C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tlo</cp:lastModifiedBy>
  <cp:lastPrinted>2006-03-23T11:51:06Z</cp:lastPrinted>
  <dcterms:modified xsi:type="dcterms:W3CDTF">2006-03-31T13:29:09Z</dcterms:modified>
  <cp:revision>97</cp:revision>
  <dc:subject/>
  <dc:title>First-Order Logic</dc:title>
</cp:coreProperties>
</file>