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768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600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EF29AF-9924-48BA-8D6E-48DC4146D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412A48-1EE8-4AB3-B1F1-759361851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A2584B-8D88-4B83-85DB-1635A480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F7A7FE-F5E3-4573-97D6-2E6183EE7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0A8E12-C62B-4F13-B463-8E9A9DEDB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64BC4C-C887-4F1C-921C-1BEFDDCF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F9B064-2B47-4E11-A413-5E7B8EA89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8C68EB-4473-4DF0-8F62-8D2EBF7EC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FC9013-A36B-4957-AD1A-076068A4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6F92C0-C7CB-4DDA-8606-58879882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4616BA-DE62-44D0-BB59-D80BE44C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DC173D-DF83-422B-80EF-A510CF8A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80856A-5E5C-4BF1-B800-4C436F157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BDC7D9-D0EB-41D6-BF5E-F24C0970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BD57B0-7C15-4500-AB0A-EB2C7F49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301B16-0571-4AAB-AC8B-C1F5BC8C3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F2DA17-B80D-437E-8F76-106A43866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6F01C7-7ADF-4F80-BB03-462EF951A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8BA69E-601F-4278-B9D7-6F7A4B4FF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099315-99C0-4156-910B-996362374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531761-6D6F-429A-96B7-49069D74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DB17B3-BAA4-4215-9F1B-9427EF6E7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110F43-A46E-47B6-857D-EBE9F36D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160EFC-DAFD-466B-900D-81145D7B5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8789C8-A9AD-462D-AE14-309704865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E5D9E8-1C7C-4842-83CE-87C6C571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A4ABF6-098B-4CE2-A11F-4CF8F99D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E65DC4-F4B0-459F-9CE4-704300D9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2FD4D5-61E1-4924-A87F-91E7A2F1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986B8E-FA8B-4B14-8A1C-0550B30C6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CB920A-B9ED-4E08-8F32-673C89146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35DE3B-93E1-477E-91BE-9ADB09C03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E36641-150D-4124-91E9-6A3DD430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EC51AA-39CD-4303-92BD-DB8A88518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9A4B8C-A148-434F-82BB-AE1BF7F75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9299A9-FB97-4463-BD9B-3F5A1740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C06ED9-4787-4103-92EE-9FEA7D431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BED6F4-179D-455E-BF24-D313B96C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7E16C9-B076-40FE-AE90-600355B74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E5BF0D-5574-4BAE-BCA7-BBA03774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EE64B7-E22D-4F32-A244-23F426A8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EBF241-CBC1-416E-B269-9CE1C185A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55B95A-0779-479F-9081-6029FE413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D0E706-2920-44AF-B079-F41BB38A3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591D92-A26A-4972-A622-0CF19DF4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C49C90-262A-40FF-9476-88635081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8ED6CE-5A44-498F-981A-4C75F1082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39040F-4FD0-496C-88A1-11A7E4EE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8DEF79-B2DF-4BA0-8D1F-04E6F638A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72E415-2CAF-4351-9834-FF4771D4C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1751B1-ABD2-4F4D-ACFD-3CD6FBAD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D4E973-D086-4EB4-9444-342197EE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A74A14-9AF3-4E52-B44E-67D1789C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DA2D10-6ED1-4B1D-88E5-8A1D3A22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1B730C-F67F-41D4-82CA-FA2FF962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F653D7-F35D-4736-84A8-C96C77A9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1DA65E-6895-4073-9D71-107A4C1C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730B85-8C49-475A-B774-A8EC7D619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BA71DE-CD44-4029-89A6-AA74F1004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2196-E643-4C02-93B0-325E538B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5C4C-70CD-4F85-9039-7CC8746F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CE7B-B4C1-4C90-A528-F861810D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D4B0-8406-45F9-9BA1-DD65C233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9CBC3-C374-46A9-8006-58F25DA2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3CD8D-1902-4E8B-AB6C-5AD7D8A7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B0C93-9B96-4F3D-B2EA-EC5B63E3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5AEA9-A1CF-4B80-98B3-B824B112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A72E6-C9C9-4EAD-9C66-EB79BF6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B563-D3E4-454E-9181-0EDF89BC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EB90C-FA0F-43C0-81A8-D8F4C8A2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58CC-BCCB-4DCE-B68F-0762C21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D6F7F-FB1F-4EFE-9576-A2409C9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E9EEF-D467-46A1-A244-8C364BA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44CD6-6FE9-47E2-BA09-A9415B4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EC5C8-0A7E-438E-9369-3C0166F7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F9241-FE8C-4F7F-A3B4-B613A4DB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0EDD-5DAA-4ED4-9DCE-06E55F89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5BA7-C8E4-440F-8002-B58037D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D1CC-C376-4860-861F-E7B62531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5181-AE51-4CA6-ACF3-54144862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2B40-1E23-40AF-9634-9501946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7BE1-1285-4FD1-8F3A-3825602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8D4C-D30A-47CF-8B19-823407B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F00E-D432-4B15-9341-A76AA747160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97F-093D-427D-88C9-1F1E5A2AACD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VUB_logo sign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B69F-363D-4C42-ADF5-D777DEA5932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1BE-FCCD-45CC-A976-6AEE144F7D2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Artificial Intelligence 1: Planning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31920" y="4290840"/>
            <a:ext cx="7740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5221-7EA9-489F-A0F4-D1666FC2D54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D308-991F-46C3-A648-19F0E613EA6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ressiveness and extens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RIPS is simplified 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mportant limit: function-free liter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llows for propositional representation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unction symbols lead to infinitely many states and action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cent extension:Action Description language (ADL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ction(Fly(p:Plane, from: Airport, to: Airport),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RECOND: At(p,from)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from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to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At(p,to)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tandardization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: Planning domain definition language (PDDL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5EDE-85D1-4217-ACFE-4BD26067E1C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9E9-0283-46FE-B076-3A089A2B7D7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air cargo transpor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C1, SFO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C2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1,SFO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2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argo(C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argo(C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lane(P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lane(P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irport(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irport(SF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At(C1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C2,SF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Load(c,p,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argo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(c,p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Unload(c,p,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(c,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argo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In(c,p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Fly(p,from,to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to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 At(p,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,t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[Load(C1,P1,SFO), Fly(P1,SFO,JFK), Load(C2,P2,JFK), Fly(P2,JFK,SFO)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1494-D68C-4F16-AE7C-12AB517D138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0C5A-1D3D-49BE-A2ED-63940681022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¬At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At(Spare,Ground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his example goes beyond STRIPS: negative literal in pre-condition (ADL description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2B85-C6DB-4022-B259-240EB158A9D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05EE-5485-4CCA-A363-3D3F514E3BB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Block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Init(On(A, 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B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C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A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C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A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C)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Goal(On(A,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B,C)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ction(Move(b,x,y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x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y) 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On(b,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Clear(y)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ction(MoveToTable(b,x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x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x)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x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On(b,x))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purious actions are possible: Move(B,C,C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D74D-6CDD-4EAE-A00B-76CE4541652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1E55-B87B-4EAF-BC40-FCDCC7391F8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nning with state-space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oth forward and backward search possib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ogression planner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rward state-space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ider the effect of all possible actions in a given stat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gression planners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ackward state-space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o achieve a goal, what must have been true in the previous stat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B3F2-5A72-44EA-BE67-4D6F0A3E0E1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B9FC-9D30-4928-AB44-E6A8B886688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gression and regress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397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861D-D108-4573-B06B-9B00198CBA6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F883-D51D-4447-8E7E-FD7372EC25E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gress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mulation as state-space search problem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itial state = initial state of the planning proble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Literals not appearing are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ctions = those whose preconditions are satisfi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dd positive effects, delete negativ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oal test = does the state satisfy the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ep cost = each action costs 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 functions … any graph search that is complete is a complete planning algorith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E.g. A*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efficient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(1) irrelevant action problem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(2) good heuristic required for efficient search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3258-A046-47F0-88F2-AE514D1BFDC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CFA6-AB3C-4825-ACB8-A8FD4BF42F7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gress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to determine predecessor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hat  are the states from which applying a given action leads to the goal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Goal state =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1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0, 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levant action for first conjunct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: Unload(C1,p,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Works only if pre-conditions are satisfied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Previous state=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In(C1, p) </a:t>
            </a:r>
            <a:r>
              <a:rPr b="0" i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 At(p, B)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0, 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Subgoal At(C1,B) should not be present in this state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 must not undo desired literals (consistent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in advantage: only relevant actions are consider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ften much lower branching factor than forward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E059-FB0A-4888-888D-A1B840ABA10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1CF0-59DF-42CB-83F0-71C34091C90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gression algorithm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process for predecessor construc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ive a goal description 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t A be an action that is relevant and consist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predecessors is as follows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y positive effects of A that appear in G are delet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ach precondition literal of A is added , unless it already appear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y standard search algorithm can be added to perform the searc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ermination when predecessor satisfied by initial stat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 FO case, satisfaction might require a substitu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AA0-D0FA-4AE5-ACF9-B658435C522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94ED-6846-4D8A-BF1F-F779110DC8C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euristics for state-space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Neither progression or regression are very efficient without a good heuristic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w many actions are needed to achieve the goal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act solution is NP hard, find a good estimat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wo approaches to find admissible heuristic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optimal solution to the relaxed problem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move all preconditions from action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subgoal independence assumption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cost of solving a conjunction of subgoals is approximated by the sum of the costs of solving the subproblems independently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7DF1-D017-429C-914F-653C4385041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96E-0B17-42ED-A569-17202372D16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1000" y="2360520"/>
            <a:ext cx="65610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Planning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with State-space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rtial-order 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graph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with propositional logic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alysis of planning approach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5A48-6C4E-4808-A50E-8421C9CCF52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498B-8476-4BA1-8323-8689A55185B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ial-order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Progression and regression planning are </a:t>
            </a:r>
            <a:r>
              <a:rPr b="0" i="1" lang="en-US" sz="3600" spc="-1" strike="noStrike">
                <a:solidFill>
                  <a:srgbClr val="5f604a"/>
                </a:solidFill>
                <a:latin typeface="Verdana"/>
              </a:rPr>
              <a:t>totally ordered plan search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form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y cannot take advantage of problem decompositio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isions must be made on how to sequence actions on all the subproble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Least commitment strategy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Delay choice during search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3BB-6DFA-446C-B24F-54C8BD9DF2D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0881-A33D-4F48-842B-CE75853F621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ho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Goal(RightShoeO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Lef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it(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RightShoe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RightSock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Righ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RightSock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RightSock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LeftShoe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LeftSock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Lef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LeftSock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LeftSock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nner: combine two action sequences (1)leftsock, leftshoe (2)rightsock, rightsho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8E65-0D10-4A6E-8800-A21942CD5A2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292B-2D5E-4BD0-B49C-50EE72EDC94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ial-order planning(POP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6360" y="142560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y planning algorithm that can place two actions into a plan without which comes first is a PO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895480" y="2486160"/>
            <a:ext cx="5181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63BC-3733-4CD0-A2CA-DAF25EE7147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DEAC-5BE4-44F3-8ECB-BF8051DD318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 as a search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es are (mostly unfinished) pla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empty plan contains only start and finish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ach plan has 4 component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actions (steps of the pla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ordering constraints: A &lt; B (A before B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ycles represent contradiction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causal link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plan may not be extended by adding a new action C that conflicts with the causal link. (if the effect of C is ¬p and if C could come after A and before B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open precondi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precondition is not achieved by action in the plan.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114800" y="4114800"/>
                <a:ext cx="1689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3FCD-BD8D-46A7-B0C8-1F5B019C3FA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E8ED-AB38-4C25-ACA1-D936671B4E1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 of final pla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={Rightsock, Rightshoe, Leftsock, Leftshoe, Start, Finish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rderings={Rightsock &lt; Rightshoe; Leftsock &lt; Leftshoe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inks={Rightsock-&gt;Rightsockon -&gt; Rightshoe, Leftsock-&gt;Leftsockon-&gt; Leftshoe, Rightshoe-&gt;Rightshoeon-&gt;Finish, …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en preconditions={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99DD-07B3-4BC7-A85C-EFE3B835F25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DC86-7927-43BE-84D1-CBB8BF0DAEF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 as a search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lan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nsisten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ff there are no cycles in the ordering constraints and no conflicts with the causal link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consistent plan with no open preconditions is a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artial order plan is executed by repeatedly choosing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of the possible next ac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is flexibility is a benefit in non-cooperative environmen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BEB8-C186-43C9-AD8B-8B644087793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ABCD-87C1-4802-9167-55649A0BC08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PO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ssume propositional planning problems: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 initial plan contains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tart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, the ordering constrain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tart &lt; 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, no causal links, all the preconditions in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re ope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uccessor function :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icks one open precondi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on an ac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enerates a successor plan for every possible consistent way of choosing ac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that achieves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est goa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6455-C984-41CE-AF79-15F4205BB55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BE4-9A3F-4891-AB66-CB8DB33391F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forcing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en generating successor pla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causal link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-&gt;p-&gt;B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 and the ordering constraint A &lt; B is added to the pla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 is new also add start &lt; A and A &lt; B to the pla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new causal link and all existing action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action A (if new) and all existing causal link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9082-A2D7-4FC1-B859-EC439EE00CC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7A7B-C338-48E9-AB57-43040DE8CCF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cess 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erators on partial pla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 link from existing plan to open precondi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 a step to fulfill an open condi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rder one step w.r.t another to remove possible conflic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adually move from incomplete/vague plans to complete/correct pla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acktrack if an open condition is unachievable or if a conflict is irresolvabl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C47D-0D87-4BDD-9756-6215D246A26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309E-7912-4F2A-ABCA-D5850F03792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Flat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Ar(Spare,Ground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745-5D7F-4569-88BE-4BE8CA38DF9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6E1A-71C3-4EC9-8BE5-D31C3B735A3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enerate sequences of actions to perform tasks and achieve objectiv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ates, actions and goal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earch for solution over abstract space of plan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lassical planning environment: fully observable, deterministic, finite, static and discret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ists humans in practical applica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sign and manufactur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ilitary opera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am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pace explor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8D61-5F0A-482E-AA9C-364BCA7893F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5377-D8A6-49AE-871F-4BA8ACD6F95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itial plan: Start with EFFECTS and Finish with PRECON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90680" y="2408400"/>
            <a:ext cx="8529480" cy="1087200"/>
          </a:xfrm>
          <a:prstGeom prst="rect">
            <a:avLst/>
          </a:prstGeom>
          <a:ln w="0">
            <a:noFill/>
          </a:ln>
        </p:spPr>
      </p:pic>
      <p:sp>
        <p:nvSpPr>
          <p:cNvPr id="245" name="Oval 6"/>
          <p:cNvSpPr/>
          <p:nvPr/>
        </p:nvSpPr>
        <p:spPr>
          <a:xfrm>
            <a:off x="0" y="2666880"/>
            <a:ext cx="243828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6553080" y="2666880"/>
            <a:ext cx="243864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74A-E326-434B-9FCE-148A8866D07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54E-076D-420D-97F4-6B7A66A9FA6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itial plan: Start with EFFECTS and Finish with PRECON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Axl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utOn(Spare, Axle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utOn(Spare, Axle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Finish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490680" y="2408400"/>
            <a:ext cx="8529480" cy="1087200"/>
          </a:xfrm>
          <a:prstGeom prst="rect">
            <a:avLst/>
          </a:prstGeom>
          <a:ln w="0">
            <a:noFill/>
          </a:ln>
        </p:spPr>
      </p:pic>
      <p:sp>
        <p:nvSpPr>
          <p:cNvPr id="253" name="Oval 5"/>
          <p:cNvSpPr/>
          <p:nvPr/>
        </p:nvSpPr>
        <p:spPr>
          <a:xfrm>
            <a:off x="4876920" y="2666880"/>
            <a:ext cx="312408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971800" y="5105520"/>
                <a:ext cx="45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xle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Finis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658F-388F-46F1-A311-8E9BDDD3AA1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6521-F675-42B1-8D56-3DEAC7D6A5C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Groun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PutOn(Spare,Axl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90680" y="2395440"/>
            <a:ext cx="8529480" cy="1086120"/>
          </a:xfrm>
          <a:prstGeom prst="rect">
            <a:avLst/>
          </a:prstGeom>
          <a:ln w="0">
            <a:noFill/>
          </a:ln>
        </p:spPr>
      </p:pic>
      <p:sp>
        <p:nvSpPr>
          <p:cNvPr id="261" name="Oval 5"/>
          <p:cNvSpPr/>
          <p:nvPr/>
        </p:nvSpPr>
        <p:spPr>
          <a:xfrm rot="557400">
            <a:off x="2361960" y="2133720"/>
            <a:ext cx="312408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6"/>
              <p:cNvSpPr txBox="1"/>
              <p:nvPr/>
            </p:nvSpPr>
            <p:spPr>
              <a:xfrm>
                <a:off x="2922480" y="4724280"/>
                <a:ext cx="62215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2CCC-ED4E-4465-B0E1-96935F2DBFA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C8A-BDE3-499A-A39E-F4DF4DCB454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1600200" y="5257800"/>
                <a:ext cx="62215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Picture 10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426672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ick an open precondition: ¬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Flat, Axle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onflict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lso has the effect ¬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Ground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o resolve, add constraint 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&lt; Remove(Spare, Trunk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0" name="Oval 12"/>
          <p:cNvSpPr/>
          <p:nvPr/>
        </p:nvSpPr>
        <p:spPr>
          <a:xfrm rot="20922600">
            <a:off x="1704960" y="2587320"/>
            <a:ext cx="41911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8C1B-81E0-4221-8431-43E82C1AB30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1B0B-F830-4525-9EF8-7E5FBE9244A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1905120" y="4648320"/>
                <a:ext cx="62211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Groun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flict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o resolve, 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Remove(Spare, Trunk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9" name="Oval 6"/>
          <p:cNvSpPr/>
          <p:nvPr/>
        </p:nvSpPr>
        <p:spPr>
          <a:xfrm rot="20922600">
            <a:off x="1704960" y="2587320"/>
            <a:ext cx="41911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2971800" y="5638680"/>
                <a:ext cx="56973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veOverNight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Ø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4FB7-CB76-4248-A30A-44A6953869F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C0B4-535F-4D54-A88E-3BFC5D36544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 Trunk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Only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Sta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onflict: of causal link with effect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No re-ordering solution possible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backtrack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8" name="Oval 6"/>
          <p:cNvSpPr/>
          <p:nvPr/>
        </p:nvSpPr>
        <p:spPr>
          <a:xfrm rot="20922600">
            <a:off x="398520" y="1777680"/>
            <a:ext cx="23623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8"/>
              <p:cNvSpPr txBox="1"/>
              <p:nvPr/>
            </p:nvSpPr>
            <p:spPr>
              <a:xfrm>
                <a:off x="2819520" y="4648320"/>
                <a:ext cx="45831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rt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E5D-B0B8-48CC-AC83-0280380D492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75A7-58DE-4695-A0A6-5748D3A69C3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Remov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and causal links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Repeat step with Remove(Spare,Trunk)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Add also RemoveFlatAxle and finish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6" name="Picture 9" descr=""/>
          <p:cNvPicPr/>
          <p:nvPr/>
        </p:nvPicPr>
        <p:blipFill>
          <a:blip r:embed="rId1"/>
          <a:stretch/>
        </p:blipFill>
        <p:spPr>
          <a:xfrm>
            <a:off x="490680" y="2104920"/>
            <a:ext cx="85294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A7E-2165-485C-AA77-3B7C1E43207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5D8-B759-49A4-9083-A4E5B073FCF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me details …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at happens when a first-order representation that includes variables is used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licates the process of detecting and resolving conflic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 be resolved by introducing inequality constrai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SP’s most-constrained-variable constraint can be used for planning algorithms to select a PRECON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230D-618F-438F-B142-E834EE1E5B7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3E39-4AA7-4072-9D2D-79E8DD84C9F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graph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d to achieve better heuristic estimat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olution can also directly extracted using GRAPH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sists of a sequence of levels that correspond to time steps in the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vel 0 is the initial stat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level consists of a set of literals and a set of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iteral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all those that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ould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e true at that time step, depending upon the actions executed at the preceding time step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ction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all those actions that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ould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have their preconditions satisfied at that time step, depending on which of the literals actually hol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05E4-9F79-406C-9469-9F040875DCD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A3DB-7396-41C0-855B-9D66CAE95F1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graph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uld”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cords only a restricted subset of possible negative interactions among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y work only for propositional problem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nit(Have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Goal(Have(Cake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aten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Eat(Cake), PRECOND: Have(Cake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FFECT: ¬Have(Cake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aten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Bake(Cake), PRECOND: ¬ Have(Cake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FFECT: Have(Cake))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4047-9263-4001-B882-7E85DF72123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C8F5-A0FA-4909-8218-C1310BECFB3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fficulty of real world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Assume a problem-solving agent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using some search method …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ich actions are relevant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haustive search vs. backward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at is a good heuristic functions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ood estimate of the cost of the state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roblem-dependent vs, -independ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How to decompose the problem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ost real-world problems are </a:t>
            </a:r>
            <a:r>
              <a:rPr b="1" i="1" lang="en-US" sz="2000" spc="-1" strike="noStrike">
                <a:solidFill>
                  <a:srgbClr val="7f7358"/>
                </a:solidFill>
                <a:latin typeface="Verdana"/>
              </a:rPr>
              <a:t>nearly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decomposabl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874-9F4C-43D2-AD74-4AA5F5C01D7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5BB0-9D70-4E5D-964C-4B2E5A01BBF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rt at level S0 and determine action level A0 and next level S1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0 &gt;&gt; all actions whose preconditions are satisfied in the previous level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nnect precond and effect of actions S0 --&gt; S1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action is represented by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ersistence actions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Level A0 contains the actions that could occu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Conflicts between actions are represented by 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mutex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links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AAB7-46B4-43EB-B90E-DDD71F41A7B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AF66-452E-41BB-BA6A-7CD2B0936DD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evel S1 contains all literals that could result from picking any subset of actions in A0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nflicts between literals that can not occur together (as a consequence of the selection action) are represented by mutex link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1 defines multiple states and the mutex links are the constraints that define this set of state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inue until two consecutive levels are identical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veled off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Or contain the same amount of literals (explanation follows later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1E7-B4A5-4456-89F8-B4073A5D91A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FB72-8C65-41E1-B19D-886983EBDCF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mutex relation holds between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wo action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when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Inconsistent effects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action negates the effect of an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Interference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of the effects of one action is the negation of a precondition of the 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Competing needs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of the preconditions of one action is mutually exclusive with the precondition of the 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mutex relation holds between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wo liter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when 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inconsistent suppo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f one is the negation of the other OR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f each possible action pair that could achieve the literals is mutex.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C7D-BA62-4248-8966-125486BB027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A5CA-DE83-4479-B154-0D226CA5915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G and heuristic esti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G’s provide information about th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literal that does not appear in the final level of the graph cannot be achieved by any 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seful for backward search (cost = inf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vel of appearance can be used as cost estimate of achieving any goal literals =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level cos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mall problem: several actions can occu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strict to one action using serial PG (add mutex links between every pair of actions, except persistence actions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st of a conjunction of goals? Max-level, sum-level and set-level heuristic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G is a relaxed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D2AC-FB60-42F3-BACD-A9A5EBDF046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42A0-882B-4902-9A70-D9BD22A36EB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GRAPHPLA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How to extract a solution directly from the PG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RAPHPLA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ITIAL-PLANNING-GRAP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OALS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ll non-mutex in last level of graph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XTRACT-SOLU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, goals,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LENGTH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graph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ailure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else 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NO-SOLUTION-POSSIBL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     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XPAND-GRAP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, 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B446-C239-4A23-8EEB-8A288705C1F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9B09-7664-460C-9AC6-B434862889C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¬At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At(Spare,Ground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his example goes beyond STRIPS: negative literal in pre-condition (ADL description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EE7-607F-49BE-B80D-002804A14FA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491-84E9-4707-ABF5-BD70011DDA4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itially the plan consist of 5 literals from the initial state and the CWA literals (S0)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actions whose preconditions are satisfied by EXPAND-GRAPH (A0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lso add persistence actions and mutex relations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the effects at level S1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peat until goal is in level Si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0BFA-D1A7-4074-98FA-3873E4C8068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43CB-D8B7-45BB-8091-ACC2EB56571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XPAND-GRAPH also looks for mutex relation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consistent effect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Remove(Spare, Trunk) and LeaveOverNight due to At(Spare,Ground)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Spare, Ground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terference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Remove(Flat, Axle) and LeaveOverNight At(Flat, Axle) as PRECOND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Flat,Axle) as EFFECT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mpeting need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PutOn(Spare,Axle) and Remove(Flat, Axle) due to At(Flat.Axle)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Flat, Axle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consistent suppor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in S2, At(Spare,Axle) and At(Flat,Axle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A14-B887-4FAE-AA3C-69736ACA8B4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5F4A-5CF5-4E0B-89C8-B96CC1897D5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 S2, the goal literals exist and are not mutex with any othe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olution might exist and EXTRACT-SOLUTION will try to find i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XTRACT-SOLUTION can use Boolean CSP to solve the problem or a search process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nitial state = last level of PG and goal goals of planning problem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Actions = select any set of non-conflicting actions that cover the goals in the stat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Goal = reach level S0 such that all goals are satisfied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Cost = 1 for each action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1FC7-A183-4AED-962D-C971CAE69D4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7EDE-0C27-4983-8421-0F6ABE929B8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ermination? Y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G are monotonically increasing or decreasing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Literals in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Actions in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Mutexes de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Because of these properties and because there is a finite number of actions and literals, every PG will eventually level off !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806-4754-4020-B880-E521646D2DB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736F-894A-409E-AE91-D855E1FB4C3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languag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at is a good languag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pressive enough to describe a wide variety of problem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trictive enough to allow efficient algorithms to operate on i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Planning algorithm should be able to take advantage of the logical structure of the problem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TRIPS and AD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B3D-D7EA-4866-A752-B11A5CE865D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F129-72BD-469D-959C-764BB74612B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nning with propositional logic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lanning can be done by proving theorem in situation calculu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Here: test th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atisfiabil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a logical sentence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ntence contains propositions for every action occurren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 model will assign true to the actions that are part of the correct plan and false to the other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 assignment that corresponds to an incorrect plan will not be a model because of inconsistency with the assertion that the goal is tru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the planning is unsolvable the sentence will be unsatisfia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1523880" y="2971800"/>
                <a:ext cx="60962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</m:t>
                    </m:r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rPr>
                        <m:lit/>
                        <m:nor/>
                      </m:rPr>
                      <m:t xml:space="preserve">possible</m:t>
                    </m:r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rPr>
                        <m:lit/>
                        <m:nor/>
                      </m:rPr>
                      <m:t xml:space="preserve">descriptions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go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B51-E667-4CFB-BBEA-F5B84E48217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B9FF-6BC9-4766-B480-88412496280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AFE-42E4-4E36-A1B1-E428D130A4C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F7D4-D9E0-432F-A767-58C9D165AB5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ATPLA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ATPLAN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, 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r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puts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a planning problem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an upper limit to the plan length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= 0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 do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    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nf, mapp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RANSLATE-TO_SAT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, 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    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AT-SOLVER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n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not null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then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EXTRACT-SOLUTION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, mapp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D96-5531-47CA-AC9F-F1F2BB9A50F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6E7-2572-490F-A02F-3EDC16C7C3F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tinct propositions for assertions about each time step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uperscripts denote the time ste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o CWA thus specify which propositions are not tru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¬At(P1,SFO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¬At(P2,JFK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nknown propositions are left unspecifi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goal is associated with a particular time-step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ut which one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492F-DDCE-4458-9090-979B709C0A3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2960-E790-4DAA-9FB2-ACE5D198BD6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to determine the time step where the goal will be reached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tart a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T=0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er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Failure .. Try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T=1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er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baseline="30000">
                <a:solidFill>
                  <a:srgbClr val="7f7358"/>
                </a:solidFill>
                <a:latin typeface="Verdana"/>
              </a:rPr>
              <a:t>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Repeat this until some minimal path length is reached.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ermination is ensured by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63C-3F77-4018-AB2D-C023A249B52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7AD0-3C0E-464E-B721-D2383D01ED0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to encode actions into PL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ropositional versions of successor-state axio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(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 ¬(Fly(P1,JFK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(Fly(P1,SFO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uch an axiom is required for each plane, airport and time ste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more airports add another way to travel than additional disjuncts are required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Once all these axioms are in place, the satisfiability algorithm can start to find a plan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8951-4FAF-42D1-90C1-B41A7C08EB6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B133-712A-4CFE-B5F6-0D73D69E045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ssign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T-SOLVER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n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ultiple models can be foun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y are NOT satisfactory: (for T=1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Fly(P1,JFK,SFO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Fly(P2,JFK.SFO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second action is infeasibl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Yet the plan IS a model of the sente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voiding illegal actions: pre-condition axiom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At(P1,JFK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actly one model now satisfies all the axioms where the goal is achieved a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T=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914400" y="4038480"/>
                <a:ext cx="6167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</m:t>
                    </m:r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rPr>
                        <m:lit/>
                        <m:nor/>
                      </m:rPr>
                      <m:t xml:space="preserve">possible</m:t>
                    </m:r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rPr>
                        <m:lit/>
                        <m:nor/>
                      </m:rPr>
                      <m:t xml:space="preserve">descriptions</m:t>
                    </m:r>
                    <m:r>
                      <m:t xml:space="preserve">Ù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0E8-70CF-4004-8102-28CE8F9010C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DD69-CA4E-473F-B1BF-1DBEF2D818B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ssign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T-SOLVER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n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lane can fly at two destinations at onc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y are NOT satisfactory: (for T=1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,SFO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.LAX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he second action is infeasibl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Yet the plan allows spurious relation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void spurious solutions: action-exclusion axiom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¬(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Fly(P2,JFK,SFO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,LAX)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revents simultaneous ac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ost of flexibility since plan becomes totally ordered : no actions are allowed to occur at the same tim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strict exclusion to precondition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10A-87B8-4048-8120-766DB46EAAD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DCB3-C6B9-4C5E-88A1-CC5E8B7534D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alysis of planning approa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lanning is an area of great interest within AI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Search for solu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Constructively prove a existence of solu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Biggest problem is the combinatorial explosion in state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fficient methods are under research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E.g. divide-and-conquer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9802-9712-444B-88F8-18F2EE4C518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CD21-4F8E-43ED-B380-C8E7095E1C2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language featur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presentation of stat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ompose the world in logical conditions and represent a state as a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onjunction of positive literals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opositional literals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oor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Unknow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-literals (grounded and function-free)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lane1, Melbourne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lane2, Sydney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losed world assump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presentation of goal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artially specified state and represented as a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onjunction of positive ground liter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goal i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satisfied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the state contains all literals in goal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D0B-066A-41E6-8A63-895997562F3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227-2E46-4B39-B521-FD93C72FBDC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language featur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presentations of actio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ction = PRECOND + EFFEC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ction(Fly(p,from, to),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RECOND: At(p,from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from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to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,to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= action schema (p, from, to need to be instantiated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ction name and parameter lis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recondition (conj. of function-free literal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ffect (conj of function-free literals and P is True and not P is fals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dd-list vs delete-list in Effec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1FD7-559A-4B33-8A1A-80F9AE2382D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CF99-412D-4783-9C76-66275EA2D90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anguage semantic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How do actions affect states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n action is applicable in any state that satisfies the preconditio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FO action schema applicability involves a substitution </a:t>
            </a:r>
            <a:r>
              <a:rPr b="0" lang="en-US" sz="31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the variables in the PRECOND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JFK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SFO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1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2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JFK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SFO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atisfies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: 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to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ith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=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{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/P1,from/JFK,to/SFO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hus the action is applicabl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CDA8-41F0-491B-AE44-B6EC4C4D69F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2749-86DD-4E1D-97A9-53124CB5A38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anguage semantic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result of executing action a in state s is the state s’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’ is same as s excep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ny positive liter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n the effect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added to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’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ny negative liter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¬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removed from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’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,to):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At(P1,SFO)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2,SFO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1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2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JFK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SFO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TRIPS assumption: (avoids representational frame problem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every literal NOT in the effect remains unchang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user</cp:lastModifiedBy>
  <dcterms:modified xsi:type="dcterms:W3CDTF">2008-05-27T10:49:24Z</dcterms:modified>
  <cp:revision>973</cp:revision>
  <dc:subject/>
  <dc:title>CMSC 723: Introduction to  Computational Linguistics</dc:title>
</cp:coreProperties>
</file>