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768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1600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970E2E-CBB1-4B03-A572-A8CA30EE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A374E9-4F3D-4690-BA1A-2E8F1F7CB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60E3AA-3C83-493F-BE20-25D087441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48E18A-5AB0-4E06-A53A-E32C43BF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7ACA3A-1814-4356-BAC2-271B7CBB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5E45FC-5D1F-47AC-99B5-72FB8F793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706C12-A220-46D5-B311-7863BBC06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61CA3F-A145-4F8C-8FD7-46E15A17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028BAD-C3A5-40C9-A14D-5920DEF29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A5540B-F4FB-4524-A801-29F0F122E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7C31C0-C64E-488C-83CE-6B1053247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984F34-16BE-4D77-9F58-711D031C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4DB4A5-E4CC-43D1-B9A5-52AC45BE5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3ADBBF-9E3F-4295-A3E5-10E54C4E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980101-AA93-4F08-9BE2-DF2E8BA84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793B24-C736-4FCB-B648-0AADF2A09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E3E9CA-9128-4039-A8EA-E65DC8C0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8745F-D0DE-49FE-9E95-47309B002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27E8E4-64D0-4301-92DD-2FF37C407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8449FA-A20F-471F-83F3-5A777E23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BE90AF-B0ED-4BD8-981B-D3EB829AF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31488A-D113-474D-B09C-A59F62F1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170F11-165D-4E2F-92D6-1092C9301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9C9C75-ADA8-45F2-BAC1-7C4FF6928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815680-A016-4C06-87CE-CBEBE6831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6FA367-6AE1-42B1-A974-048C17245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474479-5C09-4E50-B886-6B5CEEA51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8D6C5A-E600-4F1D-B3F2-95FCEBD1C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A4398D-B768-4DD2-AAF8-2F09445E4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BFF665-8E3F-45CE-B861-2A15BCD65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D1E9BD-582A-4616-BBDF-5B8FC2443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B94FE9-313C-4F1C-8940-CA4FF8B61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18A589-1317-4284-A3DA-6B74BA9D5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FE1147-916A-40C0-91C5-04E5F838D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2B4EAD-8CA4-4323-A393-054BCC388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E3210A-E54C-460A-9DFE-778EC83EE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81F275-6426-419D-A393-F720B7B7A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4891B3-B473-4E0F-A7B4-AB66924E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A133FC-3840-4626-9786-D2594D6B0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05CC64-A2AD-4471-B9CD-43ACAA3F4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51E843-A41A-4233-86FC-74F332A33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AF2AD0-8654-4311-BAE7-65DD63659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BB17E6-B515-4514-8947-0D1A071C6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C0897B-B701-4DBE-885D-912120B8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E403DA-D9EF-4C0A-850D-B33EE527D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399AC6-AEAB-44D0-B4E7-62EA1B72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6097A1-9B0C-410B-A27B-16AFD3314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5B0F3A-D9BC-46C8-B667-A096CBC24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E0072A-7E40-4ECC-BC4B-A8E45EB4F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57C643-2186-4D8B-AF36-4BEBF467A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D8A74F-5260-4CF4-A71A-04BA962B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62DF96-60E5-443F-85A0-44683B7C5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0970E5-A300-4BF7-A94F-F04D4DF98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F76E4F-28D9-4AE2-A881-364CA00AF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02BC82-306B-4E72-AF05-28672AF74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86484D-7BC0-4ABF-B736-F0A16740A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759F0C-38BF-4223-A53B-946DEF1D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D4679F-C5B1-49E5-92AB-ABD4A6319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1636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894C18-CAB9-491C-9FBB-32F643BA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7680" cy="36975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70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9554-AD92-450B-8517-73EE106E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8FD2-1A4E-435D-A6EE-2FA2A026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D5A7-DAC5-4A51-AE6C-4E83B2EC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67BA-A2AE-47FD-AB9A-C27A79CF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36602-CA65-40ED-BC3A-CDBE6855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72A13-5B52-478F-864E-B989ED0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40A19-903A-4331-8956-A5B7139E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9D4C9-3DAE-4CE0-A2E6-B2B633C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59A92-8103-4A1C-AE04-7C0339A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EC653-0E23-4EDA-ACB1-46B15E3F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B556A-9149-4428-9322-93539953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713E-2172-4963-8BC4-4059F762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ECD26-A242-4DC5-A4DA-3A79733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223A8-F746-477F-BBCC-1133D7A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36AA1-C596-4165-85E6-5945C5CD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15BE8-E4E1-41AF-930F-3B510498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556BA-3D69-46E6-8CBF-EE2FA316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2A69-F0FD-4102-BE84-755E0C00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8C1C-5E43-42CD-88DA-DF20E874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BC73-C7CA-4BFE-B33D-0FC9F90E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19DC-76A2-4F00-804A-213DEDB1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98AC-1389-48CE-9BA1-7C43BCCE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E930-425A-4860-AC42-40F4379E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1741-559A-4B41-8FE9-1D6D155F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67F9-81C9-4CC0-990B-E0C6EEEC2A9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3370-CA29-4394-852D-C59B72C9CAF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VUB_logo sign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84B-89A3-4A40-B32A-9A29CE62DD7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6E2E-C141-43CA-B268-6AFA38824C7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Artificial Intelligence 1: Planning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231920" y="4290840"/>
            <a:ext cx="77407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4A4B-1915-40CD-8D4B-2C6D83DF394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88E9-6C54-40F5-BF60-DF230B5EAA1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ressiveness and extens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RIPS is simplified 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mportant limit: function-free literal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Allows for propositional representation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unction symbols lead to infinitely many states and action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cent extension:Action Description language (ADL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Action(Fly(p:Plane, from: Airport, to: Airport),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RECOND: At(p,from)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(from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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to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EFFECT: ¬At(p,from)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At(p,to)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tandardization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 : Planning domain definition language (PDDL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2537-65B0-40B0-8E75-0492B4A7310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4221-6F63-475F-9931-990D8679483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air cargo transpor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At(C1, SFO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C2,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P1,SFO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P2,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argo(C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argo(C2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lane(P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lane(P2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irport(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irport(SFO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At(C1,JF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C2,SFO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Load(c,p,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c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argo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e(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c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(c,p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Unload(c,p,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(c,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argo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e(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a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c,a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In(c,p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Fly(p,from,to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,from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e(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from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irport(to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 At(p,from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p,to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[Load(C1,P1,SFO), Fly(P1,SFO,JFK), Load(C2,P2,JFK), Fly(P2,JFK,SFO)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1A82-AB80-4402-B28B-28CA205C7AE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4CC9-1865-4924-836B-F5B47F66434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Spare tir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Init(At(Flat, 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trunk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Goal(At(Spare,Axle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Spare,Trunk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Flat,Axle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Flat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Flat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PutOn(Spare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Groundp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¬At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At(Spare,Ground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LeaveOvernight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 At(Spare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Axle) 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his example goes beyond STRIPS: negative literal in pre-condition (ADL description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7C4A-E1F2-4DB7-8468-25C1DEF0173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54B0-EB7D-4B11-8210-6A022F8BF9F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Block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Init(On(A, 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On(B,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On(C,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A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C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A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C)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Goal(On(A,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On(B,C)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Action(Move(b,x,y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y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b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b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y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x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y) 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y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¬ On(b,x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¬ Clear(y)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Action(MoveToTable(b,x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x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Block(b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(b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x)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On(b,Table)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Clear(x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 ¬ On(b,x))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purious actions are possible: Move(B,C,C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60BE-7160-455E-B9EA-B1B317E0596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F4FF-E2B6-4E2B-836A-4241329A859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nning with state-space searc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oth forward and backward search possib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rogression planner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rward state-space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sider the effect of all possible actions in a given stat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gression planners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ackward state-space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o achieve a goal, what must have been true in the previous stat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2FA3-6593-4A97-8C44-E0F648CB022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E02A-03CA-4DEF-A568-4EA1129A537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gression and regress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397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895-676C-489B-9E13-50DB7004DD2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DC93-0ABD-446D-98E1-87CC5D88EB9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gress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mulation as state-space search problem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itial state = initial state of the planning proble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Literals not appearing are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ctions = those whose preconditions are satisfi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dd positive effects, delete negativ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oal test = does the state satisfy the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ep cost = each action costs 1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No functions … any graph search that is complete is a complete planning algorithm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E.g. A*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efficient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(1) irrelevant action problem 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(2) good heuristic required for efficient search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25DD-832C-457D-B859-EB70ADFA784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A441-EA5A-4B41-BFD8-45566792B14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gressio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ow to determine predecessor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hat  are the states from which applying a given action leads to the goal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Goal state =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1, B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, B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0, B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Relevant action for first conjunct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: Unload(C1,p,B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Works only if pre-conditions are satisfied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Previous state=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In(C1, p) </a:t>
            </a:r>
            <a:r>
              <a:rPr b="0" i="1" lang="en-US" sz="13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 At(p, B)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, B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…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C20, B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Subgoal At(C1,B) should not be present in this state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 must not undo desired literals (consistent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ain advantage: only relevant actions are considere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ften much lower branching factor than forward search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139B-DD7D-4CA5-861C-06107CAB82C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7239-88A1-4CF5-934D-B7D2E478549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gression algorithm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eneral process for predecessor construc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ive a goal description G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et A be an action that is relevant and consist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predecessors is as follows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ny positive effects of A that appear in G are delete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ach precondition literal of A is added , unless it already appear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y standard search algorithm can be added to perform the search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ermination when predecessor satisfied by initial stat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 FO case, satisfaction might require a substitu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1206-4E5D-477D-BC4E-4467A3602DA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6CF3-A6D5-4463-B255-9F745C53033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Heuristics for state-space searc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Neither progression or regression are very efficient without a good heuristic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w many actions are needed to achieve the goal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act solution is NP hard, find a good estimat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wo approaches to find admissible heuristic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optimal solution to the relaxed problem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emove all preconditions from action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subgoal independence assumption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cost of solving a conjunction of subgoals is approximated by the sum of the costs of solving the subproblems independently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2BD6-7587-44DB-BD01-C07BF52CA88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F43D-329D-4619-A718-D64F1E2365F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1000" y="2360520"/>
            <a:ext cx="656100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Planning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lanning with State-space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rtial-order plan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lanning graph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lanning with propositional logic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alysis of planning approach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14B5-CD1F-4313-9AB9-57EFAA72D2B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258F-EFDF-4CF9-8A5E-CFE5023DAA3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artial-order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Progression and regression planning are </a:t>
            </a:r>
            <a:r>
              <a:rPr b="0" i="1" lang="en-US" sz="3600" spc="-1" strike="noStrike">
                <a:solidFill>
                  <a:srgbClr val="5f604a"/>
                </a:solidFill>
                <a:latin typeface="Verdana"/>
              </a:rPr>
              <a:t>totally ordered plan search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 forms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y cannot take advantage of problem decompositio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ecisions must be made on how to sequence actions on all the subproblem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Least commitment strategy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Delay choice during search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C227-7C33-480F-97BB-B60E7A70F541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7DA4-254C-4755-8611-DC9F0780C04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ho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Goal(RightShoeOn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LeftShoe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it(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RightShoe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RightSock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RightShoe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RightSock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RightSock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LeftShoe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LeftSock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LeftShoe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ction(LeftSock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: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FFECT: LeftSockO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lanner: combine two action sequences (1)leftsock, leftshoe (2)rightsock, rightsho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84AF-71AC-4258-A537-E87F0EB61EE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9F52-FD52-4488-8F20-CB3B8033486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artial-order planning(POP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6360" y="142560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ny planning algorithm that can place two actions into a plan without which comes first is a PO pla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895480" y="2486160"/>
            <a:ext cx="5181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09EA-D735-49F0-A222-3B9D45EBAEB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DD1B-6820-4FBA-99D6-EEB101B41EB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 as a search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tes are (mostly unfinished) pla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empty plan contains only start and finish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ach plan has 4 component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actions (steps of the plan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ordering constraints: A &lt; B (A before B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ycles represent contradiction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causal link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plan may not be extended by adding a new action C that conflicts with the causal link. (if the effect of C is ¬p and if C could come after A and before B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et of open precondi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f precondition is not achieved by action in the plan.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114800" y="4114800"/>
                <a:ext cx="1689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4E4B-F8FD-4294-A272-31128D9ED47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AE53-3046-4B8E-9EFF-6DCF09BF975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 of final pla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={Rightsock, Rightshoe, Leftsock, Leftshoe, Start, Finish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rderings={Rightsock &lt; Rightshoe; Leftsock &lt; Leftshoe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inks={Rightsock-&gt;Rightsockon -&gt; Rightshoe, Leftsock-&gt;Leftsockon-&gt; Leftshoe, Rightshoe-&gt;Rightshoeon-&gt;Finish, …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pen preconditions={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1817-7D98-4452-8FF6-0705725E1EA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9569-26B2-4653-BD82-220AA5770EB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 as a search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plan is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consisten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ff there are no cycles in the ordering constraints and no conflicts with the causal link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consistent plan with no open preconditions is a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partial order plan is executed by repeatedly choosing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of the possible next actio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is flexibility is a benefit in non-cooperative environment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D39-503F-4CB4-98F4-DD28E78E151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D41C-617C-429E-B2D2-78DEC22FEE9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PO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ssume propositional planning problems: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he initial plan contains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Start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, the ordering constraint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Start &lt; Finish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, no causal links, all the preconditions in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re ope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uccessor function :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icks one open preconditio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on an actio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an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enerates a successor plan for every possible consistent way of choosing actio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that achieves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est goa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96E3-2E5A-472A-BE88-1DB212719DD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74DC-0952-42F6-BDEA-4EF38FECA26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forcing consisten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en generating successor pla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 causal link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A-&gt;p-&gt;B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 and the ordering constraint A &lt; B is added to the pla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A is new also add start &lt; A and A &lt; B to the pla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new causal link and all existing action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action A (if new) and all existing causal link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C145-10C5-42CD-94CA-3F95ECDDB60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BFE4-C555-4B02-AEBC-2CA5DD9531A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cess 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perators on partial pla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dd link from existing plan to open precondi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dd a step to fulfill an open condi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rder one step w.r.t another to remove possible conflic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radually move from incomplete/vague plans to complete/correct pla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acktrack if an open condition is unachievable or if a conflict is irresolvabl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C671-D20F-4982-9DD9-0FC39E3B3F8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3540-33A6-47D5-A4B9-FB4D97CB738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Spare tir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At(Flat, 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Spare,trunk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At(Spare,Axle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Remove(Spare,Trunk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Spare,Trun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Spare,Ground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Remove(Flat,Axl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Flat,Axle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Flat,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Flat,Ground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PutOn(Spare,Axl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Spare,Groundp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At(Flat,Axl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Spare,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Ar(Spare,Ground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LeaveOvernigh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 At(Spare,Groun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Spare,Axle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Spare,trunk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Flat,Groun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At(Flat,Axle) 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568E-417B-49DF-829C-4E667B59D20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B733-B146-4D0A-810B-6014202259D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enerate sequences of actions to perform tasks and achieve objectiv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ates, actions and goal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earch for solution over abstract space of plan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lassical planning environment: fully observable, deterministic, finite, static and discret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ists humans in practical applicatio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esign and manufacturing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ilitary operat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gam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pace explor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909E-5AFD-4CBB-8E6F-4D5E08C5BBF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4A2C-1D3C-4BB0-8045-20C75260167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itial plan: Start with EFFECTS and Finish with PRECON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490680" y="2408400"/>
            <a:ext cx="8529480" cy="1087200"/>
          </a:xfrm>
          <a:prstGeom prst="rect">
            <a:avLst/>
          </a:prstGeom>
          <a:ln w="0">
            <a:noFill/>
          </a:ln>
        </p:spPr>
      </p:pic>
      <p:sp>
        <p:nvSpPr>
          <p:cNvPr id="245" name="Oval 6"/>
          <p:cNvSpPr/>
          <p:nvPr/>
        </p:nvSpPr>
        <p:spPr>
          <a:xfrm>
            <a:off x="0" y="2666880"/>
            <a:ext cx="243828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6553080" y="2666880"/>
            <a:ext cx="243864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C05A-7E7B-4852-8E8A-23A36F1C7AE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68D-DEEE-4AE0-8605-C6DC1359E00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itial plan: Start with EFFECTS and Finish with PRECON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t(Spare, Axle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nl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utOn(Spare, Axle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ausal link: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onstraint 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utOn(Spare, Axle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&lt; Finish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490680" y="2408400"/>
            <a:ext cx="8529480" cy="1087200"/>
          </a:xfrm>
          <a:prstGeom prst="rect">
            <a:avLst/>
          </a:prstGeom>
          <a:ln w="0">
            <a:noFill/>
          </a:ln>
        </p:spPr>
      </p:pic>
      <p:sp>
        <p:nvSpPr>
          <p:cNvPr id="253" name="Oval 5"/>
          <p:cNvSpPr/>
          <p:nvPr/>
        </p:nvSpPr>
        <p:spPr>
          <a:xfrm>
            <a:off x="4876920" y="2666880"/>
            <a:ext cx="312408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971800" y="5105520"/>
                <a:ext cx="4533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xle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Finis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97B8-A1E1-430C-BD67-A1CFCCE9949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8D27-83D1-4074-A6D5-1D9116B606D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t(Spare, Ground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nl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Remove(Spare, Trunk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ausal link: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onstraint 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Remove(Spare, Trunk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&lt; PutOn(Spare,Axle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90680" y="2395440"/>
            <a:ext cx="8529480" cy="1086120"/>
          </a:xfrm>
          <a:prstGeom prst="rect">
            <a:avLst/>
          </a:prstGeom>
          <a:ln w="0">
            <a:noFill/>
          </a:ln>
        </p:spPr>
      </p:pic>
      <p:sp>
        <p:nvSpPr>
          <p:cNvPr id="261" name="Oval 5"/>
          <p:cNvSpPr/>
          <p:nvPr/>
        </p:nvSpPr>
        <p:spPr>
          <a:xfrm rot="557400">
            <a:off x="2361960" y="2133720"/>
            <a:ext cx="312408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6"/>
              <p:cNvSpPr txBox="1"/>
              <p:nvPr/>
            </p:nvSpPr>
            <p:spPr>
              <a:xfrm>
                <a:off x="2922480" y="4724280"/>
                <a:ext cx="62215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7E8E-341D-44C0-A2C9-D649B2ECE84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DBE7-63F6-4E55-B285-04E9520F4AF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1600200" y="5257800"/>
                <a:ext cx="62215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Picture 10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529480" cy="19256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426672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ick an open precondition: ¬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Flat, Axle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onflict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lso has the effect ¬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Spare,Ground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o resolve, add constraint 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&lt; Remove(Spare, Trunk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0" name="Oval 12"/>
          <p:cNvSpPr/>
          <p:nvPr/>
        </p:nvSpPr>
        <p:spPr>
          <a:xfrm rot="20922600">
            <a:off x="1704960" y="2587320"/>
            <a:ext cx="41911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590920" y="2209320"/>
            <a:ext cx="5331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6D24-F942-48C7-93DE-D02EACC61B2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DE94-0327-422F-BB24-D68AAA973EE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1905120" y="4648320"/>
                <a:ext cx="62211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8529480" cy="19256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t(Spare, Ground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flict: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o resolve, add constraint 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&lt; Remove(Spare, Trunk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d causal link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9" name="Oval 6"/>
          <p:cNvSpPr/>
          <p:nvPr/>
        </p:nvSpPr>
        <p:spPr>
          <a:xfrm rot="20922600">
            <a:off x="1704960" y="2587320"/>
            <a:ext cx="41911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2590920" y="2209320"/>
            <a:ext cx="5331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0"/>
              <p:cNvSpPr txBox="1"/>
              <p:nvPr/>
            </p:nvSpPr>
            <p:spPr>
              <a:xfrm>
                <a:off x="2971800" y="5638680"/>
                <a:ext cx="56973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veOverNight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Ø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round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PutO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x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1B95-A7AE-45E2-B9CC-7726B659F5B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D281-5814-414E-87F7-3D3C37BA3C8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8529480" cy="1925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ick an open precondition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Spare, Trunk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Only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Star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s applicabl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dd causal link: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Conflict: of causal link with effect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No re-ordering solution possible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backtrack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8" name="Oval 6"/>
          <p:cNvSpPr/>
          <p:nvPr/>
        </p:nvSpPr>
        <p:spPr>
          <a:xfrm rot="20922600">
            <a:off x="398520" y="1777680"/>
            <a:ext cx="23623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"/>
          <p:cNvSpPr/>
          <p:nvPr/>
        </p:nvSpPr>
        <p:spPr>
          <a:xfrm flipV="1">
            <a:off x="2590920" y="2209320"/>
            <a:ext cx="5331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8"/>
              <p:cNvSpPr txBox="1"/>
              <p:nvPr/>
            </p:nvSpPr>
            <p:spPr>
              <a:xfrm>
                <a:off x="2819520" y="4648320"/>
                <a:ext cx="45831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rt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ar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unk</m:t>
                        </m:r>
                        <m:r>
                          <m:t xml:space="preserve">)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mov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pare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run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167D-D5F4-406F-BAB1-E9F0104E8E9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92FE-23CC-4403-AD4E-3A577E1BC5D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ving th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Remove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LeaveOverNight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Remove(Spare, Trunk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and causal links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Repeat step with Remove(Spare,Trunk)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Add also RemoveFlatAxle and finish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6" name="Picture 9" descr=""/>
          <p:cNvPicPr/>
          <p:nvPr/>
        </p:nvPicPr>
        <p:blipFill>
          <a:blip r:embed="rId1"/>
          <a:stretch/>
        </p:blipFill>
        <p:spPr>
          <a:xfrm>
            <a:off x="490680" y="2104920"/>
            <a:ext cx="85294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EC30-0E02-448C-B88E-0BC8B5EE26D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5E69-536D-427D-BE2E-1A762169D01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me details …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hat happens when a first-order representation that includes variables is used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licates the process of detecting and resolving conflict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an be resolved by introducing inequality constrai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SP’s most-constrained-variable constraint can be used for planning algorithms to select a PRECON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DA9B-A945-4FFA-8912-43ED2B79CC4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C6C-269E-48F7-BB55-11A8753D044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graph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d to achieve better heuristic estimat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solution can also directly extracted using GRAPHPLA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sists of a sequence of levels that correspond to time steps in the pla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evel 0 is the initial stat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level consists of a set of literals and a set of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iteral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= all those that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ould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e true at that time step, depending upon the actions executed at the preceding time step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ction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= all those actions that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ould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have their preconditions satisfied at that time step, depending on which of the literals actually hol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AB31-C7CD-44F4-93FE-ABAF525FA56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AD66-E53E-48CD-88FC-B5FA1FA1713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graph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uld”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cords only a restricted subset of possible negative interactions among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y work only for propositional problem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nit(Have(Cake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Goal(Have(Cake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Eaten(Cake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Eat(Cake), PRECOND: Have(Cake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FFECT: ¬Have(Cake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Eaten(Cake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Bake(Cake), PRECOND: ¬ Have(Cake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FFECT: Have(Cake))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7508-276B-46C4-A394-DCB1002D089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31E1-A3B2-445B-9F05-29BD04B91A5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Difficulty of real world problem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Assume a problem-solving agent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using some search method …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Which actions are relevant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haustive search vs. backward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What is a good heuristic functions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ood estimate of the cost of the state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roblem-dependent vs, -independ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How to decompose the problem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Most real-world problems are </a:t>
            </a:r>
            <a:r>
              <a:rPr b="1" i="1" lang="en-US" sz="2000" spc="-1" strike="noStrike">
                <a:solidFill>
                  <a:srgbClr val="7f7358"/>
                </a:solidFill>
                <a:latin typeface="Verdana"/>
              </a:rPr>
              <a:t>nearly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decomposabl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E650-FF6E-46A4-87B5-8B799AD889D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6EA0-4BC9-4AE4-AC01-80AD6D8F38C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k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tart at level S0 and determine action level A0 and next level S1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0 &gt;&gt; all actions whose preconditions are satisfied in the previous level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onnect precond and effect of actions S0 --&gt; S1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action is represented by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ersistence actions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Level A0 contains the actions that could occur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Conflicts between actions are represented by 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mutex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 links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560520" y="1989000"/>
            <a:ext cx="83898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A1D4-C136-4B16-9B01-C1FF97D0CC5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F20E-BA41-4B67-97F6-3CF57E19B81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k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evel S1 contains all literals that could result from picking any subset of actions in A0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onflicts between literals that can not occur together (as a consequence of the selection action) are represented by mutex link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1 defines multiple states and the mutex links are the constraints that define this set of states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tinue until two consecutive levels are identical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leveled off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Or contain the same amount of literals (explanation follows later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560520" y="1989000"/>
            <a:ext cx="83898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1D97-8841-43AF-AE6E-5B4D54BC55E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5C09-86B0-40E7-8AC2-ED079DF58F3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k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mutex relation holds between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wo action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when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Inconsistent effects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: one action negates the effect of another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Interference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: one of the effects of one action is the negation of a precondition of the other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Competing needs</a:t>
            </a: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: one of the preconditions of one action is mutually exclusive with the precondition of the other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mutex relation holds between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wo literal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when 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inconsistent suppor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If one is the negation of the other OR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if each possible action pair that could achieve the literals is mutex.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560520" y="1989000"/>
            <a:ext cx="83898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963-A132-4189-9BF0-73BB6AA1C2D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3B70-5480-4294-BD26-707D95E1246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G and heuristic esti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G’s provide information about the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literal that does not appear in the final level of the graph cannot be achieved by any pla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seful for backward search (cost = inf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evel of appearance can be used as cost estimate of achieving any goal literals =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level cost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mall problem: several actions can occur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estrict to one action using serial PG (add mutex links between every pair of actions, except persistence actions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st of a conjunction of goals? Max-level, sum-level and set-level heuristic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G is a relaxed problem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3DC2-1184-45D4-A11E-41AACD500DD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D942-5C2E-48CB-8FAD-198E0DE411B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GRAPHPLA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How to extract a solution directly from the PG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GRAPHPLA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or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ITIAL-PLANNING-GRAPH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GOALS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ll non-mutex in last level of graph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XTRACT-SOLUTIO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, goals,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LENGTH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(graph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failure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olu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else 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NO-SOLUTION-POSSIBL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        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XPAND-GRAPH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raph, 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8A67-CA83-47A0-A09E-4D17E7EB519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0653-BA0C-4914-8954-0B0DE448CBF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Spare tire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Init(At(Flat, 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trunk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Goal(At(Spare,Axle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Spare,Trunk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Trunk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Spare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Remove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Flat,Axle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At(Flat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At(Flat,Ground))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PutOn(Spare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Groundp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¬At(Flat,Axle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At(Spare,Ground)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ction(LeaveOvernight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PRECOND: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¬ At(Spare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Axle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Spare,trunk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Ground) </a:t>
            </a:r>
            <a:r>
              <a:rPr b="0" i="1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¬ At(Flat,Axle) 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his example goes beyond STRIPS: negative literal in pre-condition (ADL description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FFAE-1D72-455C-8236-9081B592BF4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795-D379-437D-92E2-81014CFDD81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itially the plan consist of 5 literals from the initial state and the CWA literals (S0)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dd actions whose preconditions are satisfied by EXPAND-GRAPH (A0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lso add persistence actions and mutex relations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dd the effects at level S1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peat until goal is in level Si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D49A-1851-48A4-BC1A-AA1D5603750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89F5-2389-4C61-B42F-40D255E0AE9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XPAND-GRAPH also looks for mutex relation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consistent effect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Remove(Spare, Trunk) and LeaveOverNight due to At(Spare,Ground) and </a:t>
            </a:r>
            <a:r>
              <a:rPr b="1" lang="en-US" sz="1000" spc="-1" strike="noStrike">
                <a:solidFill>
                  <a:srgbClr val="7f7358"/>
                </a:solidFill>
                <a:latin typeface="Verdana"/>
              </a:rPr>
              <a:t>not</a:t>
            </a: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 At(Spare, Ground)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terference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Remove(Flat, Axle) and LeaveOverNight At(Flat, Axle) as PRECOND and </a:t>
            </a:r>
            <a:r>
              <a:rPr b="1" lang="en-US" sz="1000" spc="-1" strike="noStrike">
                <a:solidFill>
                  <a:srgbClr val="7f7358"/>
                </a:solidFill>
                <a:latin typeface="Verdana"/>
              </a:rPr>
              <a:t>not</a:t>
            </a: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 At(Flat,Axle) as EFFECT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ompeting need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PutOn(Spare,Axle) and Remove(Flat, Axle) due to At(Flat.Axle) and </a:t>
            </a:r>
            <a:r>
              <a:rPr b="1" lang="en-US" sz="1000" spc="-1" strike="noStrike">
                <a:solidFill>
                  <a:srgbClr val="7f7358"/>
                </a:solidFill>
                <a:latin typeface="Verdana"/>
              </a:rPr>
              <a:t>not</a:t>
            </a: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 At(Flat, Axle)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Inconsistent suppor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E.g. in S2, At(Spare,Axle) and At(Flat,Axle)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1D6C-74FB-44A5-90CD-D6033BB301A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8C0B-4069-4D81-91E8-FC062FE1D21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In S2, the goal literals exist and are not mutex with any other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olution might exist and EXTRACT-SOLUTION will try to find i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EXTRACT-SOLUTION can use Boolean CSP to solve the problem or a search process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Initial state = last level of PG and goal goals of planning problem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Actions = select any set of non-conflicting actions that cover the goals in the stat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Goal = reach level S0 such that all goals are satisfied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Cost = 1 for each action.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4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5EE7-8EDA-4C46-AC46-2C92D7E0FCF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8BE0-CC55-4665-9629-B9074D80685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ooter Placeholder 6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PL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ermination? YE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G are monotonically increasing or decreasing: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Literals increase monotonically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Actions increase monotonically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Mutexes decrease monotonically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Because of these properties and because there is a finite number of actions and literals, every PG will eventually level off !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1371600" y="1665360"/>
            <a:ext cx="59436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08AB-C2C6-4A0D-8C82-F1343E942879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B82E-1A76-4308-AF35-FB1E17D7D71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languag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at is a good languag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xpressive enough to describe a wide variety of problem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trictive enough to allow efficient algorithms to operate on it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Planning algorithm should be able to take advantage of the logical structure of the problem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TRIPS and AD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D930-3D94-4694-AE12-B21E22EE5E48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BAED-D748-4962-910E-A47B8E24018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nning with propositional logic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lanning can be done by proving theorem in situation calculu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Here: test th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atisfiabilit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f a logical sentence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ntence contains propositions for every action occurren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 model will assign true to the actions that are part of the correct plan and false to the other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n assignment that corresponds to an incorrect plan will not be a model because of inconsistency with the assertion that the goal is tru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f the planning is unsolvable the sentence will be unsatisfiabl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1523880" y="2971800"/>
                <a:ext cx="60962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</m:t>
                    </m:r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Ù</m:t>
                    </m:r>
                    <m:r>
                      <m:rPr>
                        <m:lit/>
                        <m:nor/>
                      </m:rPr>
                      <m:t xml:space="preserve">all</m:t>
                    </m:r>
                    <m:r>
                      <m:rPr>
                        <m:lit/>
                        <m:nor/>
                      </m:rPr>
                      <m:t xml:space="preserve">possible</m:t>
                    </m:r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rPr>
                        <m:lit/>
                        <m:nor/>
                      </m:rPr>
                      <m:t xml:space="preserve">descriptions</m:t>
                    </m:r>
                    <m:r>
                      <m:t xml:space="preserve">Ù</m:t>
                    </m:r>
                    <m:r>
                      <m:rPr>
                        <m:lit/>
                        <m:nor/>
                      </m:rPr>
                      <m:t xml:space="preserve">goa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077E-FE30-4C55-9146-22142FEAF21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01DA-7F7A-4AB1-8C0A-39243B04417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A7B6-2C54-49F6-8889-5CF026CC483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BE88-60BB-4AEB-AADF-D8A6E3D0E7C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ATPLAN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SATPLAN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oblem, T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ma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olu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r 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puts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a planning problem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ma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, an upper limit to the plan length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for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= 0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max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 do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     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nf, mapping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RANSLATE-TO_SAT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oblem, 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     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SAT-SOLVER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n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ssignmen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not null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then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EXTRACT-SOLUTION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ssignment, mapping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FCE3-8F52-46B6-B53C-5D9508EAB68C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7E5C-078A-4DFF-A100-09AC0F7A025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nf, mapp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ANSLATE-TO_SAT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oblem, 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tinct propositions for assertions about each time step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uperscripts denote the time step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1,SFO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t(P2,JFK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o CWA thus specify which propositions are not tru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¬At(P1,SFO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¬At(P2,JFK)</a:t>
            </a:r>
            <a:r>
              <a:rPr b="0" i="1" lang="en-US" sz="16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nknown propositions are left unspecifi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goal is associated with a particular time-step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ut which one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AF62-49D0-41B8-8F80-5E00D95AD8CD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1BE5-AC4C-4EA3-9E00-BFF5CC07F8A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nf, mapp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ANSLATE-TO_SAT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oblem, 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to determine the time step where the goal will be reached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tart at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T=0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er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2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Failure .. Try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T=1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er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2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baseline="30000">
                <a:solidFill>
                  <a:srgbClr val="7f7358"/>
                </a:solidFill>
                <a:latin typeface="Verdana"/>
              </a:rPr>
              <a:t>…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Repeat this until some minimal path length is reached.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ermination is ensured by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max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784E-E408-4972-B975-6C12D5B50BD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2F46-A339-40C6-A65D-B598C364CF4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nf, mapp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RANSLATE-TO_SAT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roblem, 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to encode actions into PL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ropositional versions of successor-state axiom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(At(P1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 ¬(Fly(P1,JFK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1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(Fly(P1,SFO,JFK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1,SFO)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uch an axiom is required for each plane, airport and time step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more airports add another way to travel than additional disjuncts are required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Once all these axioms are in place, the satisfiability algorithm can start to find a plan.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6895-8EFA-4EEC-BB14-8B367E04689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4030-9D37-45B1-90EB-829A07998036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ssign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T-SOLVER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n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ultiple models can be foun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y are NOT satisfactory: (for T=1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ly(P1,SFO,JFK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Fly(P1,JFK,SFO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Fly(P2,JFK.SFO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second action is infeasibl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Yet the plan IS a model of the sentenc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voiding illegal actions: pre-condition axiom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ly(P1,SFO,JFK)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At(P1,JFK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xactly one model now satisfies all the axioms where the goal is achieved at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T=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914400" y="4038480"/>
                <a:ext cx="6167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itial</m:t>
                    </m:r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Ù</m:t>
                    </m:r>
                    <m:r>
                      <m:rPr>
                        <m:lit/>
                        <m:nor/>
                      </m:rPr>
                      <m:t xml:space="preserve">all</m:t>
                    </m:r>
                    <m:r>
                      <m:rPr>
                        <m:lit/>
                        <m:nor/>
                      </m:rPr>
                      <m:t xml:space="preserve">possible</m:t>
                    </m:r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rPr>
                        <m:lit/>
                        <m:nor/>
                      </m:rPr>
                      <m:t xml:space="preserve">descriptions</m:t>
                    </m:r>
                    <m:r>
                      <m:t xml:space="preserve">Ù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4F33-7374-4C0B-88D9-ED94335B87F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84D1-4FA7-4607-8961-C01AD3A5A89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ssign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AT-SOLVER(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cn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plane can fly at two destinations at onc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hey are NOT satisfactory: (for T=1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Fly(P1,SFO,JFK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Fly(P2,JFK,SFO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Fly(P2,JFK.LAX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he second action is infeasibl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Yet the plan allows spurious relation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void spurious solutions: action-exclusion axiom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¬(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Fly(P2,JFK,SFO)</a:t>
            </a:r>
            <a:r>
              <a:rPr b="0" i="1" lang="en-US" sz="1200" spc="-1" strike="noStrike" baseline="30000">
                <a:solidFill>
                  <a:srgbClr val="7f7358"/>
                </a:solidFill>
                <a:latin typeface="Verdana"/>
              </a:rPr>
              <a:t>0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200" spc="-1" strike="noStrike">
                <a:solidFill>
                  <a:srgbClr val="7f7358"/>
                </a:solidFill>
                <a:latin typeface="Verdana"/>
              </a:rPr>
              <a:t> Fly(P2,JFK,LAX))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revents simultaneous action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ost of flexibility since plan becomes totally ordered : no actions are allowed to occur at the same tim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strict exclusion to preconditions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CC5F-548C-4478-A4A8-161164EECB34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459E-184A-47DC-A154-598F406FD224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nalysis of planning approa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lanning is an area of great interest within AI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Search for solution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Constructively prove a existence of solution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Biggest problem is the combinatorial explosion in state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fficient methods are under research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E.g. divide-and-conquer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BB7C-2682-4E11-838E-E137DB2175B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CD83-64CC-49FE-A05A-99657A551E6F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al language featur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presentation of stat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ecompose the world in logical conditions and represent a state as a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onjunction of positive literals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ropositional literals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Poor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Unknow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O-literals (grounded and function-free)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lane1, Melbourne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t(Plane2, Sydney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losed world assump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presentation of goal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artially specified state and represented as a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onjunction of positive ground literal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goal is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satisfied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the state contains all literals in goal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8918-8818-479D-90DA-BBF57900B0D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5817-6D08-402E-B606-A1EE569398F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al language featur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epresentations of action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ction = PRECOND + EFFEC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ction(Fly(p,from, to),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PRECOND: At(p,from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Plane(p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from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to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FFECT: ¬AT(p,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,to)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= action schema (p, from, to need to be instantiated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ction name and parameter lis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recondition (conj. of function-free literal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ffect (conj of function-free literals and P is True and not P is fals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dd-list vs delete-list in Effec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521-68D8-4A33-96A6-2CA89E16C69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541E-9FC2-4947-8B05-4E84A4DE0DA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anguage semantics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How do actions affect states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An action is applicable in any state that satisfies the preconditio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For FO action schema applicability involves a substitution </a:t>
            </a:r>
            <a:r>
              <a:rPr b="0" lang="en-US" sz="31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r>
              <a:rPr b="0" lang="en-US" sz="31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for the variables in the PRECOND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t(P1,JFK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t(P2,SFO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lane(P1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lane(P2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JFK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SFO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atisfies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: At(p,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lane(p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Airport(to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ith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=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{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/P1,from/JFK,to/SFO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hus the action is applicabl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6836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7725-A423-4AC3-8277-B4B2663E48FF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161928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71D5-4F2B-40F3-970B-13D1BB17F49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46836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AI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anguage semantics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result of executing action a in state s is the state s’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’ is same as s excep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ny positive liter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n the effect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added to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’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ny negative literal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¬P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removed from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’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FFECT: ¬AT(p,from) 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(p,to):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At(P1,SFO)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t(P2,SFO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Plane(P1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Plane(P2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JFK) 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Airport(SFO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TRIPS assumption: (avoids representational frame problem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every literal NOT in the effect remains unchang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user</cp:lastModifiedBy>
  <dcterms:modified xsi:type="dcterms:W3CDTF">2008-05-27T10:49:24Z</dcterms:modified>
  <cp:revision>973</cp:revision>
  <dc:subject/>
  <dc:title>CMSC 723: Introduction to  Computational Linguistics</dc:title>
</cp:coreProperties>
</file>