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768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1600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18C9DC-872F-4F8C-AC13-534ACFDE7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CFB9E0-A577-4CCA-87F8-087886E2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6A286D-0BFB-47DD-8ED7-8FCE5DB04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80EFAB-C25B-483C-8DB9-D6F237741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CFB513-D4D9-420D-9176-2F8C764CA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508E2F-FEDB-4FB2-A0E7-23CC30246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F1E6A8-BDC6-4134-BC0C-DC5980DBA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FE645B-E124-4AE2-800E-E40ADDBB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754DFB-8A76-405A-8D38-BFFD8C852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0C9094-6338-437E-A360-5204199C0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156D51-E9EA-46BF-9986-3F6359113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A65628-A0D0-46B2-8EFD-4E0CEA96B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855BC4-FF1E-4F34-A693-5C82B998D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DD75BB-1C18-4F4D-A357-69560C271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48D68B-04B4-4D92-A4E1-4DBA80443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86A642-FDD5-4985-B12D-88418EB16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CC9066-81CD-41CB-96CE-C4744DC43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F64BD4-4CD7-44DD-A4DA-6C2B9EC27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1DDC6F-19ED-4C3B-8A1B-CA260B25A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0D0772-EB7D-420A-86CA-B8E646C6A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63B258-3A45-4ACE-A12B-0A7A570AD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A07C69-E1B7-4E55-B912-915D0307B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CE89F5-B342-443A-BA57-FD1BA9E11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AB35CF-00C9-43C8-9AD7-453D55D5A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148527-CD31-4266-85E0-F1804C8BF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057E93-7D90-424D-803F-360280BE7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55CB02-CEBC-42F2-8F74-B0CC64620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61EEE4-F20B-4DC9-86AF-1BF7C84F6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662352-1D84-4E5D-82FB-57804A27F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DB4B5B-88F3-4662-926F-38A9135A3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B48946-676D-4555-B76C-379D2CE44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997A04-3906-439D-BB05-5F9CD251D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BE4134-F6EC-461D-B47B-5D1188364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0AB9D1-8376-4D82-8D8C-AE07DF526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DDD396-A4BB-4A36-BAE9-80A27EEF3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84A805-9561-477D-896C-B92CDCCC2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64E4CF-C788-4D80-9A92-3814DDBBB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70F76A-2D28-4479-996A-14C58FF40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12C2A1-F537-40E8-B339-BE0287219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44046B-C586-4FB8-9D2A-7361624D1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DD1C29-8E73-4741-B15D-F83C4123F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3ADA90-61E4-469C-A4AE-9A2041377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6C2EF3-F850-4787-8A0D-CE338240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FE1777-9AB1-412A-BF5A-0F3F36CE8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EC57B5-4054-4AB3-B6DE-F9D231265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D0FC97-0A8A-43B9-BE5C-2C8A54422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E0B72C-7C18-4762-99F9-D354AFAA3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08CFCE-F030-408B-B952-BDD76925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2AA6D2-F4D0-4121-A7D3-441E6AAB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160F07-D3AA-424E-9C4F-B74B81705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4EF1F0-576E-48BC-8AF1-51EFDF365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D5FE0D-BA93-4A82-A56D-2B963B5A3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3696EC-2B14-4E93-9EE5-0251CBAC8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9809FD-C79B-427C-B7BB-A6E9DCA3E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F2229B-4AB6-41F4-920D-A0FC2322D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FD29E7-E0F7-42A9-ABD0-729ECEBF8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BA4F46-78D3-42EE-9B8D-45E35520D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A4DBEA-B289-4973-81F8-8EFE8914E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A7356D-CCAD-4BCD-A18F-11CD0411C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717D-DC4E-4633-B037-08587FEC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E2B1-2543-4D59-ADB9-9784ADA7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0709-EBBF-4148-A138-5BFB1109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E8AD-CE02-42C8-A259-E1C6E077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E97FE-38D0-40E9-9764-F0BC53C9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6DE8A-7A08-4BAC-BEF3-F0ECC58C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0E8F2-17F6-4C37-AD9B-E1F8B943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88C29-A67C-4D35-9141-8CB77EE0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CD5F1-9681-4946-AD81-64F6BDCC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FD960-09D6-4E88-ABFA-9DF6BDBA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2612A-8B2A-4230-BB85-97B3FB6A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EBCE-A2E2-4A6C-AF58-C59F1921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436A6-FE1A-49CB-AD7F-83D8CEBE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81A8E-1CA1-4F6D-9BD8-AD271B35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F0498-5EF3-4C7D-892F-E4676701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15150-25AB-4B54-97C8-941CEF03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B5D0E-E4D1-48C8-BBF1-1217E861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36AA-112D-4A28-854D-92D2BD42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80D73-C866-42B4-8E31-51490DA8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956C-91A5-4C8D-AAA1-6A8E58D0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F5AE-2561-430B-BAE8-B4B53657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B813-BA1F-4EEB-AA1D-10BDB087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5A8B-B9F4-48A9-BF05-BFFCD203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B1D0-010C-4733-A22F-03654AEA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6B00-CCD0-4A08-B958-3F43871B005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B968-8725-4BA5-A5D6-2550694BF63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VUB_logo sign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7649-88C6-4A06-97C5-0D8B94D9AF4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D4E-06EC-4D2B-B6EF-F7681FB15F1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Artificial Intelligence 1: Planning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231920" y="4290840"/>
            <a:ext cx="77407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1FBF-50FA-42C2-9796-BF7EA581913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80BE-06C6-4839-821B-A4829B7403C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ressiveness and extens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RIPS is simplified 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mportant limit: function-free literal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Allows for propositional representation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unction symbols lead to infinitely many states and action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cent extension:Action Description language (ADL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Action(Fly(p:Plane, from: Airport, to: Airport),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PRECOND: At(p,from)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(from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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to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EFFECT: ¬At(p,from)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At(p,to)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tandardization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: Planning domain definition language (PDDL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6A49-E98B-40E0-8F24-09C75C92354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415A-D286-43E6-B603-86360BC369A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air cargo transpor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it(At(C1, SFO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C2,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P1,SFO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P2,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argo(C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argo(C2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lane(P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lane(P2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irport(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irport(SFO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al(At(C1,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C2,SFO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Load(c,p,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c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p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argo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lane(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c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(c,p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Unload(c,p,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(c,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p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argo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lane(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c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In(c,p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Fly(p,from,to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p,from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lane(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from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to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 At(p,from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p,to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[Load(C1,P1,SFO), Fly(P1,SFO,JFK), Load(C2,P2,JFK), Fly(P2,JFK,SFO)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DE83-C96E-4AA9-8452-D1540A88E6E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813B-AE7E-4AE5-BC18-084368DC506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Spare tir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Init(At(Flat, 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trunk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Goal(At(Spare,Axle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Spare,Trunk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Flat,Axle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Flat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Flat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PutOn(Spare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Groundp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¬At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At(Spare,Ground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LeaveOvernight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 At(Spare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Axle) 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This example goes beyond STRIPS: negative literal in pre-condition (ADL description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6BF8-729F-46AF-BAB7-BBB0525A071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991D-4273-44B9-BC80-0F9C7678C6A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Block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Init(On(A, 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On(B,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On(C,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A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C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A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C)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Goal(On(A,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On(B,C)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Action(Move(b,x,y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y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b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b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y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x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y) 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y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¬ On(b,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¬ Clear(y))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Action(MoveToTable(b,x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x)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b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x)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x)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¬ On(b,x))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Spurious actions are possible: Move(B,C,C)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EFCF-267D-4E81-AE66-EEE38FCE4D3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5284-94BA-4C87-99ED-03D43DA0B93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nning with state-space searc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oth forward and backward search possibl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rogression planner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rward state-space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sider the effect of all possible actions in a given stat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gression planners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ackward state-space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o achieve a goal, what must have been true in the previous stat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011B-A1FC-42FD-9296-C3986F16BCB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A80C-E42C-4ABA-A715-1BC01F13474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gression and regress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397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5667-9533-4977-81AF-61E2833CEC3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685F-8304-463F-B43C-3F8EB34D3A1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gress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ormulation as state-space search problem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nitial state = initial state of the planning proble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Literals not appearing are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ctions = those whose preconditions are satisfi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dd positive effects, delete negativ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Goal test = does the state satisfy the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ep cost = each action costs 1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No functions … any graph search that is complete is a complete planning algorithm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E.g. A*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efficient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(1) irrelevant action problem 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(2) good heuristic required for efficient search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BD7E-1532-4EB7-90CF-FC4FA8820F2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CDA7-05C2-4BA8-9D1C-38CE44D6C0D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gress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ow to determine predecessor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What  are the states from which applying a given action leads to the goal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Goal state =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1, B)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, B)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0, B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Relevant action for first conjunct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: Unload(C1,p,B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Works only if pre-conditions are satisfied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Previous state=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In(C1, p) </a:t>
            </a:r>
            <a:r>
              <a:rPr b="0" i="1" lang="en-US" sz="13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 At(p, B)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, B)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0, B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Subgoal At(C1,B) should not be present in this state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ctions must not undo desired literals (consistent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ain advantage: only relevant actions are considere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ften much lower branching factor than forward search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31DB-BE42-460F-965C-1CDF202D4BE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E11C-AFB9-40D8-801C-4CFF9B8839D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gression algorithm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eneral process for predecessor construc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ive a goal description G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et A be an action that is relevant and consisten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predecessors is as follows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ny positive effects of A that appear in G are deleted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ach precondition literal of A is added , unless it already appear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ny standard search algorithm can be added to perform the search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ermination when predecessor satisfied by initial stat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 FO case, satisfaction might require a substitu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E167-2CB7-41A8-9AE2-F933E73E813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2AA2-B5AF-414F-97D8-D86A79E95A0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Heuristics for state-space searc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Neither progression or regression are very efficient without a good heuristic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ow many actions are needed to achieve the goal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act solution is NP hard, find a good estimate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wo approaches to find admissible heuristic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optimal solution to the relaxed problem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emove all preconditions from action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subgoal independence assumption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cost of solving a conjunction of subgoals is approximated by the sum of the costs of solving the subproblems independently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2022-A44A-47A3-8673-1920B9663CF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7CCE-B345-4AE8-9E04-D4D2165165A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1000" y="2360520"/>
            <a:ext cx="656100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Planning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lanning with State-space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artial-order plann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lanning graph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lanning with propositional logic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nalysis of planning approach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768C-6D3E-4EA8-BF5B-0CE1DD16510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9099-1186-4C5E-9C8F-064D78C4FDC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artial-order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Progression and regression planning are </a:t>
            </a:r>
            <a:r>
              <a:rPr b="0" i="1" lang="en-US" sz="3600" spc="-1" strike="noStrike">
                <a:solidFill>
                  <a:srgbClr val="5f604a"/>
                </a:solidFill>
                <a:latin typeface="Verdana"/>
              </a:rPr>
              <a:t>totally ordered plan search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 forms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y cannot take advantage of problem decompositio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ecisions must be made on how to sequence actions on all the subproblem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Least commitment strategy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Delay choice during search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DB2F-63D1-4B8E-B9A1-0FFF2F68EF0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8525-4E1C-4ADF-9F16-E7CEFEBA3FB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ho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Goal(RightShoeOn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LeftShoe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nit(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RightShoe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RightSock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RightShoe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RightSock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RightSock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LeftShoe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LeftSock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LeftShoe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LeftSock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LeftSock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lanner: combine two action sequences (1)leftsock, leftshoe (2)rightsock, rightsho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7289-D630-48F5-9708-65C1945DD9C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17A6-EC9E-484F-928E-309FE75B853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artial-order planning(POP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6360" y="142560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ny planning algorithm that can place two actions into a plan without which comes first is a PO pla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2895480" y="2486160"/>
            <a:ext cx="51818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6C8F-3D4E-4A02-80B7-2A737E9440C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FBBC-43DE-4709-A231-A85DC526E11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P as a search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ates are (mostly unfinished) pla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empty plan contains only start and finish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ach plan has 4 component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actions (steps of the plan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ordering constraints: A &lt; B (A before B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ycles represent contradiction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causal link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plan may not be extended by adding a new action C that conflicts with the causal link. (if the effect of C is ¬p and if C could come after A and before B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open precondi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f precondition is not achieved by action in the plan.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4114800" y="4114800"/>
                <a:ext cx="1689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EDFD-903C-4840-B827-C99EAD09B31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5A12-8B95-4C02-9B25-358BB86E722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 of final pla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ctions={Rightsock, Rightshoe, Leftsock, Leftshoe, Start, Finish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rderings={Rightsock &lt; Rightshoe; Leftsock &lt; Leftshoe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inks={Rightsock-&gt;Rightsockon -&gt; Rightshoe, Leftsock-&gt;Leftsockon-&gt; Leftshoe, Rightshoe-&gt;Rightshoeon-&gt;Finish, …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pen preconditions={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8D65-5069-4920-A6CC-C31B08E5E2D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4B3B-B202-404D-B9BE-028192BE0DD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P as a search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plan is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consistent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ff there are no cycles in the ordering constraints and no conflicts with the causal link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consistent plan with no open preconditions is a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partial order plan is executed by repeatedly choosing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of the possible next actio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is flexibility is a benefit in non-cooperative environment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0348-44FC-4517-8A9E-B39E5651733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A537-95CC-404B-8025-FEC1D6F0F3B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POP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ssume propositional planning problems: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he initial plan contains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Start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, the ordering constraint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Start &lt; Finish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, no causal links, all the preconditions in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are open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uccessor function :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icks one open preconditio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on an actio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an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generates a successor plan for every possible consistent way of choosing actio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that achieves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est goal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AAAD-D309-481E-B9D6-B90B0BD3DC3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35F8-7C1B-474F-AA86-5CBB839E582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forcing 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hen generating successor plan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 causal link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A-&gt;p-&gt;B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 and the ordering constraint A &lt; B is added to the pla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A is new also add start &lt; A and A &lt; B to the pla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olve conflicts between new causal link and all existing action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olve conflicts between action A (if new) and all existing causal link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E737-A2B6-4D5D-B61A-EFA1FF4F248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F2F3-1C58-4D52-9F82-C6F4BF1C004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cess 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perators on partial pla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dd link from existing plan to open precondi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dd a step to fulfill an open condi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rder one step w.r.t another to remove possible conflic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radually move from incomplete/vague plans to complete/correct pla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acktrack if an open condition is unachievable or if a conflict is irresolvabl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E46D-414F-4B73-A9E3-3A92D7FDECD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92C2-7CB6-4DB6-98C4-3F48E9D2D6E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Spare tir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it(At(Flat, 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Spare,trunk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al(At(Spare,Axle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Remove(Spare,Trunk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Spare,Trun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Spare,Ground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Remove(Flat,Axl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Flat,Axle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Flat,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Flat,Ground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PutOn(Spare,Axl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Spare,Ground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Flat,Axl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Spare,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Ar(Spare,Ground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LeaveOvernigh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 At(Spare,Groun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Spare,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Spare,trun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Flat,Groun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Flat,Axle) 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A56F-2A82-4335-ADAE-659738FE63D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7C9B-1726-4780-A44A-174BA56468A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is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enerate sequences of actions to perform tasks and achieve objectiv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ates, actions and goal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earch for solution over abstract space of plan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lassical planning environment: fully observable, deterministic, finite, static and discret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ists humans in practical applicatio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esign and manufacturing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ilitary operation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gam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pace explor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3A06-F700-456C-8E9B-34A1635E91A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A4C9-2EC4-4776-A3A8-AB4EA382537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nitial plan: Start with EFFECTS and Finish with PRECON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90680" y="2408400"/>
            <a:ext cx="8529480" cy="1087200"/>
          </a:xfrm>
          <a:prstGeom prst="rect">
            <a:avLst/>
          </a:prstGeom>
          <a:ln w="0">
            <a:noFill/>
          </a:ln>
        </p:spPr>
      </p:pic>
      <p:sp>
        <p:nvSpPr>
          <p:cNvPr id="245" name="Oval 6"/>
          <p:cNvSpPr/>
          <p:nvPr/>
        </p:nvSpPr>
        <p:spPr>
          <a:xfrm>
            <a:off x="0" y="2666880"/>
            <a:ext cx="243828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6553080" y="2666880"/>
            <a:ext cx="243864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13B8-1FC9-4453-AC52-DC65277DAAD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070D-0D12-49FB-AD5E-2DF4C955CE6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itial plan: Start with EFFECTS and Finish with PRECOND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t(Spare, Axle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nl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utOn(Spare, Axle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ausal link: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onstraint 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utOn(Spare, Axle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&lt; Finish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490680" y="2408400"/>
            <a:ext cx="8529480" cy="1087200"/>
          </a:xfrm>
          <a:prstGeom prst="rect">
            <a:avLst/>
          </a:prstGeom>
          <a:ln w="0">
            <a:noFill/>
          </a:ln>
        </p:spPr>
      </p:pic>
      <p:sp>
        <p:nvSpPr>
          <p:cNvPr id="253" name="Oval 5"/>
          <p:cNvSpPr/>
          <p:nvPr/>
        </p:nvSpPr>
        <p:spPr>
          <a:xfrm>
            <a:off x="4876920" y="2666880"/>
            <a:ext cx="312408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971800" y="5105520"/>
                <a:ext cx="4533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xle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Finis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2181-59C8-45EC-9C33-6EB217D5291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EDC7-3F59-486A-86FA-57ADAC74717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t(Spare, Ground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nl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Remove(Spare, Trunk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ausal link: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onstraint 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Remove(Spare, Trunk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&lt; PutOn(Spare,Axle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90680" y="2395440"/>
            <a:ext cx="8529480" cy="1086120"/>
          </a:xfrm>
          <a:prstGeom prst="rect">
            <a:avLst/>
          </a:prstGeom>
          <a:ln w="0">
            <a:noFill/>
          </a:ln>
        </p:spPr>
      </p:pic>
      <p:sp>
        <p:nvSpPr>
          <p:cNvPr id="261" name="Oval 5"/>
          <p:cNvSpPr/>
          <p:nvPr/>
        </p:nvSpPr>
        <p:spPr>
          <a:xfrm rot="557400">
            <a:off x="2361960" y="2133720"/>
            <a:ext cx="312408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6"/>
              <p:cNvSpPr txBox="1"/>
              <p:nvPr/>
            </p:nvSpPr>
            <p:spPr>
              <a:xfrm>
                <a:off x="2922480" y="4724280"/>
                <a:ext cx="62215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0426-7933-4C42-B447-3C882C4E7C5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130A-E6CE-40F2-A82A-52740ED97B0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1600200" y="5257800"/>
                <a:ext cx="62215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" name="Picture 10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529480" cy="19256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426672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ick an open precondition: ¬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Flat, Axle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onflict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lso has the effect ¬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Spare,Ground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o resolve, add constraint 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&lt; Remove(Spare, Trunk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0" name="Oval 12"/>
          <p:cNvSpPr/>
          <p:nvPr/>
        </p:nvSpPr>
        <p:spPr>
          <a:xfrm rot="20922600">
            <a:off x="1704960" y="2587320"/>
            <a:ext cx="419112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590920" y="2209320"/>
            <a:ext cx="53316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0A92-3859-482B-BB5C-50286660F1D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1D99-9894-49F2-9164-B2399F49345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1905120" y="4648320"/>
                <a:ext cx="62211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8529480" cy="19256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t(Spare, Ground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flict: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o resolve, add constraint 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&lt; Remove(Spare, Trunk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ausal link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9" name="Oval 6"/>
          <p:cNvSpPr/>
          <p:nvPr/>
        </p:nvSpPr>
        <p:spPr>
          <a:xfrm rot="20922600">
            <a:off x="1704960" y="2587320"/>
            <a:ext cx="419112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2590920" y="2209320"/>
            <a:ext cx="53316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0"/>
              <p:cNvSpPr txBox="1"/>
              <p:nvPr/>
            </p:nvSpPr>
            <p:spPr>
              <a:xfrm>
                <a:off x="2971800" y="5638680"/>
                <a:ext cx="56973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veOverNight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Ø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5BF5-B4D4-40A6-B3B2-ECD79EB2AA7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03BB-CFB9-4EA2-B261-E61FA78F4F0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8529480" cy="1925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Spare, Trunk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Only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Star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dd causal link: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onflict: of causal link with effect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No re-ordering solution possible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backtrack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8" name="Oval 6"/>
          <p:cNvSpPr/>
          <p:nvPr/>
        </p:nvSpPr>
        <p:spPr>
          <a:xfrm rot="20922600">
            <a:off x="398520" y="1777680"/>
            <a:ext cx="236232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"/>
          <p:cNvSpPr/>
          <p:nvPr/>
        </p:nvSpPr>
        <p:spPr>
          <a:xfrm flipV="1">
            <a:off x="2590920" y="2209320"/>
            <a:ext cx="53316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8"/>
              <p:cNvSpPr txBox="1"/>
              <p:nvPr/>
            </p:nvSpPr>
            <p:spPr>
              <a:xfrm>
                <a:off x="2819520" y="4648320"/>
                <a:ext cx="45831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art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runk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D964-1369-4689-B832-4B5BD8EA590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8DE4-FD08-4BD3-9651-0732E8887B3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Remove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Remove(Spare, Trunk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 and causal links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Repeat step with Remove(Spare,Trunk)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Add also RemoveFlatAxle and finish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6" name="Picture 9" descr=""/>
          <p:cNvPicPr/>
          <p:nvPr/>
        </p:nvPicPr>
        <p:blipFill>
          <a:blip r:embed="rId1"/>
          <a:stretch/>
        </p:blipFill>
        <p:spPr>
          <a:xfrm>
            <a:off x="490680" y="2104920"/>
            <a:ext cx="85294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8597-7ACA-4A7B-8407-488C0ED7D03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6554-D5D3-490C-B8EA-7D96F6C9A81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me details …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What happens when a first-order representation that includes variables is used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licates the process of detecting and resolving conflict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an be resolved by introducing inequality constrain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SP’s most-constrained-variable constraint can be used for planning algorithms to select a PRECON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68FC-F255-4661-90C8-41CCF3086E3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1D26-C75E-4F39-92CF-3FC81C5AFBA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 graph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d to achieve better heuristic estimat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olution can also directly extracted using GRAPHPLA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sists of a sequence of levels that correspond to time steps in the pla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evel 0 is the initial stat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ach level consists of a set of literals and a set of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iterals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= all those that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ould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e true at that time step, depending upon the actions executed at the preceding time step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ctions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= all those actions that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ould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have their preconditions satisfied at that time step, depending on which of the literals actually hold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6488-51A6-4F1E-9D48-385741855E6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D79D-3312-4E55-8F3E-B86EF329E52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 graph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uld”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cords only a restricted subset of possible negative interactions among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y work only for propositional problem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nit(Have(Cake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Goal(Have(Cake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Eaten(Cake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Eat(Cake), PRECOND: Have(Cake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FFECT: ¬Have(Cake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Eaten(Cake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Bake(Cake), PRECOND: ¬ Have(Cake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FFECT: Have(Cake))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8741-1CA5-4162-B04A-67C765092A9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DAC6-1873-45EA-8B31-4F723BFE54B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fficulty of real world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Assume a problem-solving agent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using some search method …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Which actions are relevant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haustive search vs. backward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What is a good heuristic functions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ood estimate of the cost of the state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roblem-dependent vs, -independen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How to decompose the problem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Most real-world problems are </a:t>
            </a:r>
            <a:r>
              <a:rPr b="1" i="1" lang="en-US" sz="2000" spc="-1" strike="noStrike">
                <a:solidFill>
                  <a:srgbClr val="7f7358"/>
                </a:solidFill>
                <a:latin typeface="Verdana"/>
              </a:rPr>
              <a:t>nearly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decomposabl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67CE-C7A4-44A1-9DB2-9F199A7496C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5134-0983-49F5-B865-2E6E615253C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k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tart at level S0 and determine action level A0 and next level S1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0 &gt;&gt; all actions whose preconditions are satisfied in the previous level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onnect precond and effect of actions S0 --&gt; S1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action is represented by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persistence actions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Level A0 contains the actions that could occur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Conflicts between actions are represented by 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mutex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links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560520" y="1989000"/>
            <a:ext cx="83898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A022-5DBF-4324-B4D7-787301291F3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7D90-DA20-4C90-AC51-9FD9960112B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k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evel S1 contains all literals that could result from picking any subset of actions in A0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onflicts between literals that can not occur together (as a consequence of the selection action) are represented by mutex links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1 defines multiple states and the mutex links are the constraints that define this set of states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tinue until two consecutive levels are identical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leveled off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Or contain the same amount of literals (explanation follows later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560520" y="1989000"/>
            <a:ext cx="83898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9B81-764E-460C-BD9B-D02C9BB270F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26D3-EB29-4C84-95D5-FF2BCD5CAC5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k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 mutex relation holds between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wo action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when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Inconsistent effects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: one action negates the effect of another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Interference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: one of the effects of one action is the negation of a precondition of the other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Competing needs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: one of the preconditions of one action is mutually exclusive with the precondition of the other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 mutex relation holds between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wo literal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when 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inconsistent suppor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If one is the negation of the other OR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if each possible action pair that could achieve the literals is mutex.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560520" y="1989000"/>
            <a:ext cx="83898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89A6-8364-439F-8976-8DFB4A94BFF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105F-5340-40BE-8446-247928C013B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G and heuristic estim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G’s provide information about the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literal that does not appear in the final level of the graph cannot be achieved by any pla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Useful for backward search (cost = inf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evel of appearance can be used as cost estimate of achieving any goal literals =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level cost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mall problem: several actions can occur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estrict to one action using serial PG (add mutex links between every pair of actions, except persistence actions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st of a conjunction of goals? Max-level, sum-level and set-level heuristic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G is a relaxed problem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6121-C2B4-4A3B-A4C0-F7D1939B399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7255-06EC-4CC2-A9D6-35CD983A331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GRAPHPLA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How to extract a solution directly from the PG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GRAPHPLA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or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ITIAL-PLANNING-GRAPH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oal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GOALS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oal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ll non-mutex in last level of graph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XTRACT-SOLUTIO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, goals,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LENGTH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(graph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failure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else 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NO-SOLUTION-POSSIBLE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     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XPAND-GRAPH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, 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39FF-F89A-4436-B5E6-98B184E8BC8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DEF6-13A8-410B-8EF4-E1E64DB41F2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Spare tir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Init(At(Flat, 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trunk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Goal(At(Spare,Axle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Spare,Trunk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Flat,Axle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Flat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Flat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PutOn(Spare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Groundp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¬At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At(Spare,Ground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LeaveOvernight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 At(Spare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Axle) 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This example goes beyond STRIPS: negative literal in pre-condition (ADL description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D5BD-3317-4A15-98AB-BCD858DDB80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23DC-E450-4414-B69C-FB87876C384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nitially the plan consist of 5 literals from the initial state and the CWA literals (S0)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dd actions whose preconditions are satisfied by EXPAND-GRAPH (A0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lso add persistence actions and mutex relations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dd the effects at level S1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peat until goal is in level Si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84CA-2C2C-46D5-AC2D-69460CABE01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3B28-8CF2-4313-89F2-315AA7AB630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XPAND-GRAPH also looks for mutex relation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consistent effect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Remove(Spare, Trunk) and LeaveOverNight due to At(Spare,Ground) and </a:t>
            </a:r>
            <a:r>
              <a:rPr b="1" lang="en-US" sz="1000" spc="-1" strike="noStrike">
                <a:solidFill>
                  <a:srgbClr val="7f7358"/>
                </a:solidFill>
                <a:latin typeface="Verdana"/>
              </a:rPr>
              <a:t>not</a:t>
            </a: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 At(Spare, Ground)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terference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Remove(Flat, Axle) and LeaveOverNight At(Flat, Axle) as PRECOND and </a:t>
            </a:r>
            <a:r>
              <a:rPr b="1" lang="en-US" sz="1000" spc="-1" strike="noStrike">
                <a:solidFill>
                  <a:srgbClr val="7f7358"/>
                </a:solidFill>
                <a:latin typeface="Verdana"/>
              </a:rPr>
              <a:t>not</a:t>
            </a: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 At(Flat,Axle) as EFFECT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ompeting need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PutOn(Spare,Axle) and Remove(Flat, Axle) due to At(Flat.Axle) and </a:t>
            </a:r>
            <a:r>
              <a:rPr b="1" lang="en-US" sz="1000" spc="-1" strike="noStrike">
                <a:solidFill>
                  <a:srgbClr val="7f7358"/>
                </a:solidFill>
                <a:latin typeface="Verdana"/>
              </a:rPr>
              <a:t>not</a:t>
            </a: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 At(Flat, Axle)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consistent support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in S2, At(Spare,Axle) and At(Flat,Axle)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4D28-B244-4D5C-A11F-41214CA5FEF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CCF7-F5DE-4A1C-B978-FB5B23059E1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n S2, the goal literals exist and are not mutex with any other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olution might exist and EXTRACT-SOLUTION will try to find it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XTRACT-SOLUTION can use Boolean CSP to solve the problem or a search process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Initial state = last level of PG and goal goals of planning problem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Actions = select any set of non-conflicting actions that cover the goals in the stat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Goal = reach level S0 such that all goals are satisfied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Cost = 1 for each action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EC2A-A0C5-4B16-AACF-AE3F3AE885E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7225-1AC5-4796-AAA8-27930CF6181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ermination? YE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G are monotonically increasing or decreasing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Literals increase monotonically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Actions increase monotonically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Mutexes decrease monotonically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Because of these properties and because there is a finite number of actions and literals, every PG will eventually level off !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8039-6464-467D-9A68-349E59BFD3E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717C-01CD-46BA-BFDC-6A8D290262E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 languag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hat is a good language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xpressive enough to describe a wide variety of problem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trictive enough to allow efficient algorithms to operate on it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Planning algorithm should be able to take advantage of the logical structure of the problem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TRIPS and ADL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768A-5C02-4787-BA99-DA31E47ED79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28EC-D4A4-4587-BC6A-8546DF536C2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nning with propositional logic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lanning can be done by proving theorem in situation calculu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Here: test the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atisfiabilit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f a logical sentence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entence contains propositions for every action occurrenc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 model will assign true to the actions that are part of the correct plan and false to the other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n assignment that corresponds to an incorrect plan will not be a model because of inconsistency with the assertion that the goal is tru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f the planning is unsolvable the sentence will be unsatisfiabl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1523880" y="2971800"/>
                <a:ext cx="60962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</m:t>
                    </m:r>
                    <m:r>
                      <m:rPr>
                        <m:lit/>
                        <m:nor/>
                      </m:rPr>
                      <m:t xml:space="preserve">state</m:t>
                    </m:r>
                    <m:r>
                      <m:t xml:space="preserve">Ù</m:t>
                    </m:r>
                    <m:r>
                      <m:rPr>
                        <m:lit/>
                        <m:nor/>
                      </m:rPr>
                      <m:t xml:space="preserve">all</m:t>
                    </m:r>
                    <m:r>
                      <m:rPr>
                        <m:lit/>
                        <m:nor/>
                      </m:rPr>
                      <m:t xml:space="preserve">possible</m:t>
                    </m:r>
                    <m:r>
                      <m:rPr>
                        <m:lit/>
                        <m:nor/>
                      </m:rPr>
                      <m:t xml:space="preserve">action</m:t>
                    </m:r>
                    <m:r>
                      <m:rPr>
                        <m:lit/>
                        <m:nor/>
                      </m:rPr>
                      <m:t xml:space="preserve">descriptions</m:t>
                    </m:r>
                    <m:r>
                      <m:t xml:space="preserve">Ù</m:t>
                    </m:r>
                    <m:r>
                      <m:rPr>
                        <m:lit/>
                        <m:nor/>
                      </m:rPr>
                      <m:t xml:space="preserve">goa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D080-EF8A-4942-9DFE-BB5E4E4ED7C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8840-9470-48E7-9BB0-CF1AE946BBF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0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EF5D-3A28-4ECD-ABCB-9257078F949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FA0C-925C-44A9-9059-0990FA6677D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ATPLA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SATPLAN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oblem, T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ma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r 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puts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a planning problem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ma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an upper limit to the plan length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T= 0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 to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max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 do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     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nf, mapping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RANSLATE-TO_SAT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oblem, 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     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SAT-SOLVER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n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not null 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then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EXTRACT-SOLUTION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ssignment, mapping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F282-49FD-4B17-84CB-23399EBF036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62D5-9342-4777-924E-D5D65E1A417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nf, mapp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RANSLATE-TO_SAT(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oblem, 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stinct propositions for assertions about each time step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uperscripts denote the time step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1,SFO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t(P2,JFK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o CWA thus specify which propositions are not tru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¬At(P1,SFO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¬At(P2,JFK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nknown propositions are left unspecifi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goal is associated with a particular time-step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ut which one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20E3-6F07-4D47-9CA6-948D1486E71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425A-9228-4A69-AD78-2440283D3CD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nf, mapp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RANSLATE-TO_SAT(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oblem, 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How to determine the time step where the goal will be reached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tart at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T=0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sser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2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Failure .. Try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T=1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sser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2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baseline="30000">
                <a:solidFill>
                  <a:srgbClr val="7f7358"/>
                </a:solidFill>
                <a:latin typeface="Verdana"/>
              </a:rPr>
              <a:t>…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Repeat this until some minimal path length is reached.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ermination is ensured by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T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max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329C-C7E5-49D1-B49C-D4A608C26CD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9A52-D94E-467B-9AD5-ACA89220701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nf, mapp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RANSLATE-TO_SAT(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oblem, 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How to encode actions into PL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ropositional versions of successor-state axiom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(At(P1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 ¬(Fly(P1,JFK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1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(Fly(P1,SFO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1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uch an axiom is required for each plane, airport and time step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more airports add another way to travel than additional disjuncts are required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Once all these axioms are in place, the satisfiability algorithm can start to find a plan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5000-B825-4884-B91B-78AEA261893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15A1-A5AA-41A9-B49A-464859ADF2A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assign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T-SOLVER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nf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ultiple models can be foun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y are NOT satisfactory: (for T=1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ly(P1,SFO,JFK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Fly(P1,JFK,SFO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Fly(P2,JFK.SFO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second action is infeasibl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Yet the plan IS a model of the sentenc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voiding illegal actions: pre-condition axiom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ly(P1,SFO,JFK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At(P1,JFK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xactly one model now satisfies all the axioms where the goal is achieved at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T=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914400" y="4038480"/>
                <a:ext cx="6167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</m:t>
                    </m:r>
                    <m:r>
                      <m:rPr>
                        <m:lit/>
                        <m:nor/>
                      </m:rPr>
                      <m:t xml:space="preserve">state</m:t>
                    </m:r>
                    <m:r>
                      <m:t xml:space="preserve">Ù</m:t>
                    </m:r>
                    <m:r>
                      <m:rPr>
                        <m:lit/>
                        <m:nor/>
                      </m:rPr>
                      <m:t xml:space="preserve">all</m:t>
                    </m:r>
                    <m:r>
                      <m:rPr>
                        <m:lit/>
                        <m:nor/>
                      </m:rPr>
                      <m:t xml:space="preserve">possible</m:t>
                    </m:r>
                    <m:r>
                      <m:rPr>
                        <m:lit/>
                        <m:nor/>
                      </m:rPr>
                      <m:t xml:space="preserve">action</m:t>
                    </m:r>
                    <m:r>
                      <m:rPr>
                        <m:lit/>
                        <m:nor/>
                      </m:rPr>
                      <m:t xml:space="preserve">descriptions</m:t>
                    </m:r>
                    <m:r>
                      <m:t xml:space="preserve">Ù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476F-8FFF-46D1-ABEC-B0548CB4B0E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6A5C-CE9A-4E8B-97DC-4FB04B5C2F4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assign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T-SOLVER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nf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plane can fly at two destinations at onc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hey are NOT satisfactory: (for T=1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Fly(P1,SFO,JFK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Fly(P2,JFK,SFO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Fly(P2,JFK.LAX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The second action is infeasibl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Yet the plan allows spurious relation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void spurious solutions: action-exclusion axiom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¬(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Fly(P2,JFK,SFO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Fly(P2,JFK,LAX))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revents simultaneous action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ost of flexibility since plan becomes totally ordered : no actions are allowed to occur at the same tim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strict exclusion to preconditions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8FFD-5A7F-443C-BC78-AAE4FFAFB8B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BACF-F9AB-427D-9B98-8A90191390C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nalysis of planning approa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Planning is an area of great interest within AI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Search for solution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Constructively prove a existence of solution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Biggest problem is the combinatorial explosion in state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fficient methods are under research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E.g. divide-and-conquer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73EF-9A1B-4637-A79E-7D0B4723AA8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C6DF-2343-4511-A767-DDBFFF7AECF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ral language featur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presentation of stat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ecompose the world in logical conditions and represent a state as a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onjunction of positive literals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ropositional literals: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Poor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Unknow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O-literals (grounded and function-free):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lane1, Melbourne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t(Plane2, Sydney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losed world assump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presentation of goal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artially specified state and represented as a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onjunction of positive ground literal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goal is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satisfied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the state contains all literals in goal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44F7-3FE4-4CDD-A5F4-6BA4463526B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724C-638E-4980-9707-BEE9EAC4AC2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ral language featur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Representations of action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ction = PRECOND + EFFEC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ction(Fly(p,from, to),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PRECOND: At(p,from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Plane(p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from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to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EFFECT: ¬AT(p,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,to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= action schema (p, from, to need to be instantiated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ction name and parameter lis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recondition (conj. of function-free literal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ffect (conj of function-free literals and P is True and not P is fals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dd-list vs delete-list in Effec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5953-DF7F-4665-81F4-0119460D5F7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CEB-EADC-43DF-9D1E-EA454917031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anguage semantics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How do actions affect states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An action is applicable in any state that satisfies the preconditio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For FO action schema applicability involves a substitution </a:t>
            </a:r>
            <a:r>
              <a:rPr b="0" lang="en-US" sz="3100" spc="-1" strike="noStrike">
                <a:solidFill>
                  <a:srgbClr val="7f7358"/>
                </a:solidFill>
                <a:latin typeface="Symbol"/>
                <a:ea typeface="Symbol"/>
              </a:rPr>
              <a:t></a:t>
            </a:r>
            <a:r>
              <a:rPr b="0" lang="en-US" sz="3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for the variables in the PRECOND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JFK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2,SFO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Plane(P1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Plane(P2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JFK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SFO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atisfies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: At(p,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Plane(p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to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ith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=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{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/P1,from/JFK,to/SFO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hus the action is applicabl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3FD2-AD8C-46F3-B5CF-DA3B9CA8872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657B-926F-4B9A-95D9-1A423EB17D2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anguage semantics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result of executing action a in state s is the state s’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’ is same as s excep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ny positive liter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n the effect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added to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’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ny negative liter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¬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removed from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’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EFFECT: ¬AT(p,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,to):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At(P1,SFO)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t(P2,SFO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Plane(P1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Plane(P2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JFK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SFO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TRIPS assumption: (avoids representational frame problem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every literal NOT in the effect remains unchang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user</cp:lastModifiedBy>
  <dcterms:modified xsi:type="dcterms:W3CDTF">2008-05-27T10:49:24Z</dcterms:modified>
  <cp:revision>973</cp:revision>
  <dc:subject/>
  <dc:title>CMSC 723: Introduction to  Computational Linguistics</dc:title>
</cp:coreProperties>
</file>