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FEC2-87C3-43DF-9EDD-5B335B44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3F72-D7E4-46DF-8015-8B291A4E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8770-1E6A-40E0-92AC-E02E56DB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B918-D5E8-4C6B-896A-53892589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9FD83-945A-46BC-BACC-996365A0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BBFA5-B73E-49A5-8465-70CB98D5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2CC5-EB88-4435-B2EF-41E63D93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7E2C6-48D7-47D1-AB19-0887A2CA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13943-0444-442F-91B3-8CE01E4F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9CA27-A652-49B7-99EC-64D55FE7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2F5E7-13AD-4838-8AA5-B0F6B3A5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13E2-6629-4B35-8A32-D237EB05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D28DB-A2E1-4908-8C59-21F5CF0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661B3-6654-4E1C-A14D-2A310033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8E4D3-100A-4AEB-A8E9-89F5ADB4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0692C-CCC0-448A-80CA-AA18F56A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D630A-2757-4AFF-8D99-FBC17115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5CD5-F97D-41A2-94D7-F8CC724D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1227-BA80-4F05-B037-B99DA769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0016-E533-491C-883E-BECFDA8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7F1B-9398-4089-AE78-60BDBB55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FF35-F976-419E-B59A-8F38293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2450-C2CB-4035-86B8-2754E19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D2AA-A237-4FE0-A691-85C6362D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667D-E498-4E71-A84A-199126BA32A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3630-19B4-4B2B-91F7-8844A87E12D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A277-A9F6-45A0-BE1B-F620CFF18A1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4A3B-A2A9-43F7-9D1F-8198B709F8E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Artificial Intelligence 1: Planning in the real world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267080"/>
            <a:ext cx="77407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r example with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0680" y="3068640"/>
            <a:ext cx="852948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EEC9-87D8-4765-8E0D-AEB355A961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4AE90-8638-42A7-9843-E6A66BD656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cheduling with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ggregation = group individual objects into quantities when the objects are undistinguishable with respect to their purpos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duces complexit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source constraints make scheduling problems more complicate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dditional interactions among actio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euristic: minimum slack algorith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lect an action with all pre-decessors scheduled and  with the least slack for the earliest possible star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2B33-8277-488E-B659-019571BB40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25140-4549-4E8D-9963-BD396D5063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Hierarchical task network planning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duce complexity </a:t>
            </a:r>
            <a:r>
              <a:rPr b="0" lang="en-US" sz="24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hierarchical decomposition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 each level of the hierarchy a computational task is reduced to a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mall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number of activities at the next lower level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he computational cost of arranging these activities is low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ierarchical task network (HTN) planning uses a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refinement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of actions through decomposition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building a house = getting a permit + hiring a contractor + doing the construction + paying the contractor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fined until only primitive actions remai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ure and hybrid HTN planning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02A9-BC55-4369-A04A-3C84174C6C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DA7F1-CB1C-4AAC-8961-F592D89CE96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resentation decomposi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eneral descriptions are stored i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plan library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method = Decompos(a,d); a= action and d= PO pla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ee buildhouse examp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rt action supplies all preconditions of actions not supplied by other actio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=external preconditio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inish action has all effects of actions not present in other actio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=external effec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rimary effects (used to achieve goal) vs. secondary effects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3D3D-C2C7-4A59-B3A9-B092E22AC3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849B4-58A8-4607-94E0-99845041AE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uildhous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0680" y="2224080"/>
            <a:ext cx="8529480" cy="3533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19320" y="4038480"/>
            <a:ext cx="914400" cy="13716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371600"/>
              <a:gd name="textAreaBottom" fmla="*/ 1326960 h 1371600"/>
            </a:gdLst>
            <a:ahLst/>
            <a:rect l="textAreaLeft" t="textAreaTop" r="textAreaRight" b="textAreaBottom"/>
            <a:pathLst>
              <a:path w="21600" h="32396">
                <a:moveTo>
                  <a:pt x="3600" y="0"/>
                </a:moveTo>
                <a:arcTo wR="3600" hR="3600" stAng="16200000" swAng="-5400000"/>
                <a:lnTo>
                  <a:pt x="0" y="28796"/>
                </a:lnTo>
                <a:arcTo wR="3600" hR="3600" stAng="10800000" swAng="-5400000"/>
                <a:lnTo>
                  <a:pt x="18000" y="323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4114800"/>
            <a:ext cx="914400" cy="13716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371600"/>
              <a:gd name="textAreaBottom" fmla="*/ 1326960 h 1371600"/>
            </a:gdLst>
            <a:ahLst/>
            <a:rect l="textAreaLeft" t="textAreaTop" r="textAreaRight" b="textAreaBottom"/>
            <a:pathLst>
              <a:path w="21600" h="32396">
                <a:moveTo>
                  <a:pt x="3600" y="0"/>
                </a:moveTo>
                <a:arcTo wR="3600" hR="3600" stAng="16200000" swAng="-5400000"/>
                <a:lnTo>
                  <a:pt x="0" y="28796"/>
                </a:lnTo>
                <a:arcTo wR="3600" hR="3600" stAng="10800000" swAng="-5400000"/>
                <a:lnTo>
                  <a:pt x="18000" y="323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6920" y="365760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ternal pr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2240" y="37339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ternal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AC18-78C6-4B31-8268-695F9093F5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82EE6-0E7A-4073-A77E-55EDB79085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uildhous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Buyland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Money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Land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Money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GetLoan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odcredit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Money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Mortgag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BuildHouse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Land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Hous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GetPermit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LAnd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ermit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HireBuilder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ontract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Construction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ermit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ontract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HouseBuilt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Permit)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PayBuilder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Money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HouseBuilt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Money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House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¬Contract)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Decompose(BuildHouse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 ::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STEPS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{ S1: GetPermit, S2:HireBuilder, S3:Construction, S4 PayBuilder}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ORDERINGS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: {Start &lt; S1 &lt; S3&lt; S4&lt;Finish, Start&lt;S2&lt;S3}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LINKS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09680" y="5410080"/>
                <a:ext cx="5691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and</m:t>
                                </m:r>
                              </m:e>
                            </m:acc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ney</m:t>
                                </m:r>
                              </m:e>
                            </m:acc>
                            <m:r>
                              <m:t xml:space="preserve">S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mit</m:t>
                                </m:r>
                              </m:e>
                            </m:acc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ntract</m:t>
                                </m:r>
                              </m:e>
                            </m:acc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D3F0-94C5-4A52-BA58-06069D2486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4338A-D1C6-4C2F-ABAA-23D1DDC83EE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erties of decomposi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hould be correct implementation of action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rrect if pla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d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s complete and consistent PO plan for the problem of achieving the effects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given the preconditions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 decomposition is not necessarily uniqu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erforms information hiding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RIPS action description of higher-level action hides some preconditions and effects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gnore all internal effects of decomposi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oes not specify the intervals inside the activity during which preconditions and effects must ho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formation hiding is essential to HTN planning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C33B-1FFE-4B17-BC5F-7E04653DCA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4D400-1864-4C5C-95A0-E4ED9146B6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apitulation of POP (1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Assume propositional planning problems: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 initial plan contains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Start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, the ordering constraint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Start &lt; Finish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, no causal links, all the preconditions in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are ope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uccessor function :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icks one open preconditio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on an actio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an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enerates a successor plan for every possible consistent way of choosing actio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hat achieves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est goal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20B6-CE72-40ED-A96F-93BBFCEFF3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43187-E2FD-4AE9-9FA2-629DB7B57D0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apitulation of POP (2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en generating successor pla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 causal link A--p-&gt;B  and the ordering constraing A &lt; B is added to the pla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A is new also add start &lt; A and A &lt; B to the pla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new causal link and all existing action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action A (if new) and all existing causal link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C150-5739-4985-A83E-CC19DB990B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5794B-EB27-455C-AF76-171D730B8A8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dapting POP to HTN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Remember POP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Modify the successor function: apply decomposition to current pla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604a"/>
                </a:solidFill>
                <a:latin typeface="Verdana"/>
              </a:rPr>
              <a:t>NEW 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uccessor functio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elect non-primitive action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a’ 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in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P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8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For any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Decompose(a’,d’)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method in library where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a’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unify with substitution </a:t>
            </a:r>
            <a:r>
              <a:rPr b="0" i="1" lang="en-US" sz="35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endParaRPr b="0" lang="en-US" sz="3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plac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’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d’ = subst(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d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111D-C350-4BE2-843C-7E5E51C5A6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60C7F-DDBB-40E3-989F-A85EF5F5A87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1000" y="2360520"/>
            <a:ext cx="656100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, schedules and resourc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erarchical task network plan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Non-deterministic domai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ditional planning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ecution monitoring and replanning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tinuous planning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ulti-agent plan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1DF7-B972-4F4B-A163-34F550B423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681BE-9891-4F2B-A7EA-DE26C5FE8B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+HT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0680" y="2381400"/>
            <a:ext cx="8529480" cy="318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67080" y="2133720"/>
            <a:ext cx="182880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4520" y="175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4EAF-F2DA-4C57-A9D1-0B8BA60371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F8420-E21E-4B64-B3A9-EC5DB862448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+HT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0680" y="2381400"/>
            <a:ext cx="8529480" cy="318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267080" y="2133720"/>
            <a:ext cx="182880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4520" y="175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733920"/>
            <a:ext cx="4343400" cy="1752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5600" y="533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E01D-21DC-4ECB-92FC-EA030E40CA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176F8-F3A6-4BBC-965B-CC73BB26417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ow to hook up </a:t>
            </a:r>
            <a:r>
              <a:rPr b="0" i="1" lang="en-US" sz="4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in </a:t>
            </a:r>
            <a:r>
              <a:rPr b="0" i="1" lang="en-US" sz="4200" spc="-1" strike="noStrike">
                <a:solidFill>
                  <a:srgbClr val="ffffff"/>
                </a:solidFill>
                <a:latin typeface="Verdana"/>
              </a:rPr>
              <a:t>a’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move actio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d replace with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or each step s in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d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select an action that will play the role of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(either new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or existing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from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ossibility of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ubtask sharing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nect ordering steps for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o the steps i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d’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ut all constraints so that constraints of the form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B &lt; a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are maintaine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Watch out for too strict orderings !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nect the causal link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f B -p-&gt; a’ is a causal link in P, replace it by a set of causal links from B to all steps in d’ with preconditions p that were supplied by the start step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dem for a’ -p-&gt; C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A772-B41E-4924-BB07-AA8DFB04C7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F5348-8609-4311-B261-562102B04BB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about HTN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dditional modification to POP are necessar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AD news: pure HTN planning is undecidable due to recursive decomposition actio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alk=make one step and walk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solve problems b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ule out recurs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ound the length of relevant solutions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ybridize HTN with POP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et HTN can be efficient (see motivations in book)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832D-0344-472C-8051-DB9986D862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0171F-ED3A-4E4D-8A83-ACAAF2FC516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Gift of magi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27200" y="1989000"/>
            <a:ext cx="625464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8AEF-70DE-45BF-B6B7-B9631BD936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3DED8-9B6B-4F2B-8861-6F562156358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on-deterministic domai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o far: fully observable, static and deterministic domains.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gent can plan first and then execute plan with eyes closed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ncertain environment: incomplete (partially observable and/or nondeterministic) and incorrect (differences between world and model) information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se percept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dapt plan when necessary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Degree of uncertainty defined by indeterminacy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Bounded: actions can have unpredictable effects, yet can be listed in action description axiom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nbounded: preconditions and effects unknown or to large to enumerat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5208-6F86-4D9D-8517-973B656CD3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D85D4-5F15-4EC0-A3D0-C71AC85AC96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ndling indetermina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ensorless planning (conformant planning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plan that achieves goal in all possible circumstances (regardless of initial state and action effects)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ditional planning (Contingency planning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struct conditional plan with different branches for possible contingenci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xecution monitoring and replan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hile constructing plan judge whether plan requires revision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tinuous planning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lanning active for a life time: adapt to changed circumstances and reformulate goals if necessar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EB66-BF09-4DCD-9CFF-B13145132E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7BA45-59E0-40C6-B9FE-37B9760EC05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nsorless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01992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09DC-3C3B-40B0-8F0E-DFAEAC4B2CB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EF8F0-B970-42A6-B62F-A7ECFBC3185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bstract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itial state = &lt;chair,table, cans of paint, unknown colors&gt;, goal state=&lt;color(table) = color(chair)&gt;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nsorless planning (conformant planning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Open any can of paint and apply it to both chair and tabl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ditional planning (Contingency planning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ense color of table and chair, if they are the same then finish else sense labels paint if color(label) =color(Furniture) then apply color to othe piece else apply color to both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xecution monitoring and replanning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ame as conditional and can fix errors (missed spots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tinuous planning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an revise goal when we want to first eat before painting the table and the chair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81CD-32EF-470D-9082-AB545B7C21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E9F98-0278-4571-AD82-374AFF29C4E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ditional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al with uncertainty by checking the environment to see what is really happe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Used in fully observable and nondeterministic environments: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he outcome of an action is unknow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Conditional steps will check the state of the environment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How to construct a conditional plan?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A8CF-9165-4FEE-A640-C64AB2EB23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78117-4426-4154-9F3D-F05C557954C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ime, schedules and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ntil know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at actions to do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al-world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+ actions occur at certain moments in tim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+ actions have a beginning and an en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+ actions take a certain amount of tim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Job-shop scheduling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mplete a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et of job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, each of which consists of a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equence of action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ere each action has a give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dura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and might requir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resource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etermine a schedule tha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inimizes the total time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required to complete all jobs (respecting resource constraints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7D6C-1F00-4165-8F16-52E4709BAF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D0E3A-637B-4CBC-A6EB-455C0C72A09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, the vacuum-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5200" y="1989000"/>
            <a:ext cx="837864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2DCE-F06F-41DB-85B1-18865F75556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DC855-F6FA-4310-B171-BE401BA3AB2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ditional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: left, right, suck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ropositions to define states: AtL, AtR, CleanL, Clean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ow to include indeterminism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ctions can have more than one effec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moving left sometimes fail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Left, PRECOND: AtR, EFFECT: AtL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Becomes : Action(Left, PRECOND: AtR, EFFECT: AtL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tR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ctions can have conditional effec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Left, PRECOND:AtR, EFFECT: AtL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AtL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w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cleanL: ¬cleanL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Both disjunctive and conditional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1EE4-1BDF-4B0D-A54E-DB25279F77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2309C-4654-47DF-BC1E-0413095FF1D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ditional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ditional plans require conditional step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&lt;test&gt;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he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plan_A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els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plan_B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L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Right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uck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lans become tre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ames against nature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conditional plans that work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regardless of which action outcomes actually occur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ssume vacuum-worl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nitial state = AtR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CleanL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CleanR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Double murphy: possibility of desposit dirt when moving to other square and possibility of despositing dirt when action is Suck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BECC-36B7-44FD-94E9-481665E6B1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91A01-5FC1-4457-B164-DA0D3781C20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84200" y="1989000"/>
            <a:ext cx="6742080" cy="4007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505320" y="1828800"/>
            <a:ext cx="152388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7880" y="144792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at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2743200"/>
            <a:ext cx="152388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4400" y="220968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anc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22F1-DA60-4EA3-84CA-B3222D42686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1784B-B0D5-4A8A-8984-757819DFB6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ution of games against N.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olution is a subtree tha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as a goal node at every leaf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pecifies one action at each of its state nod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cludes every outcome branch at each of the chance node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 previous example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[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Left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AtL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CleanR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[] </a:t>
            </a:r>
            <a:r>
              <a:rPr b="1" lang="en-US" sz="14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Suck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 exact solutions: use minimax algorithm with 2 modification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ax and Min nodes become OR and AND nod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lgorithm returns conditional plan instead of single mov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7F22-DF0A-4F1C-A7DA-91B1953AA7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DB3DA-B555-4CDE-B9F7-666951D2FB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nd-Or-search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225440" y="1600200"/>
            <a:ext cx="722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-OR-GRAPH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 conditional pl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-SEARCH(INITIAL-STATE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9600" y="4572000"/>
            <a:ext cx="739368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_set, problem, p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 conditional pl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,path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failur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69720" y="2514600"/>
            <a:ext cx="6909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, problem, p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 conditional pl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-TEST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empty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ction,state_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SUCCESSORS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_set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3623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41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76F9-A29C-4513-B21D-10214946CC3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FCD5C-74A9-44D2-BDEF-651DA2B8E6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nd-Or-search algorithm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does it deal with cycles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When a state that already is on the path appears, return failure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No non-cyclic solution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Ensures algorithm termin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he algorithm does not check whether some state is already on some other path from the roo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76640" y="4070520"/>
            <a:ext cx="49561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AFEB-8C32-403A-A417-3C1B3764F8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2CC73-24C7-486B-A2F8-C6CB425FB6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nd-Or-search algorithm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604a"/>
                </a:solidFill>
                <a:latin typeface="Verdana"/>
              </a:rPr>
              <a:t>Sometimes only a cyclic solution exists </a:t>
            </a:r>
            <a:endParaRPr b="0" lang="en-US" sz="3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e.g. tripple murphy: sometimes the move is not performed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eft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[]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uck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] is not a solutio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se label to repeat parts of plan 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but infinite loops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eft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[]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uck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76640" y="4070520"/>
            <a:ext cx="49561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E2A6-16A5-4552-A3A1-AA12E07B8AE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7E3A5-D153-4A1D-B71C-207ED2DA705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P and partially observable env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ully observable: conditional tests can ask any question and get an answe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rtially observable??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agent has limited information about the environme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Modeled by a state-set = belief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assume vacuum agent which can not sense presence or absence of dirt in other squares than the one it is 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+ alternative murphy: dirt can be left behind when moving to other squar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olution in fully observable world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eep moving left and right, sucking dirt whenever it appears until both squares are clean and I’m in square left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2F81-BF3B-4643-8ACF-E29ED8F6CC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B00E4-5B72-424B-A6FD-2C47DD7B29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: alternate double murphy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52480" y="1631880"/>
            <a:ext cx="520884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C125-8010-4504-81AE-9718673064B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191F1-B6A7-40CC-BCB3-948F9E5FA9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r constructio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nit(Chassis(C1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hassis(C2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Engine(E1,C1,30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Engine(E1,C2,60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Wheels(W1,C1,30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Wheels(W2,C2,15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Goal(Done(C1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one(C2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AddEngine(e,c,m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ngine(e,c,d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hassis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¬EngineIn(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ngineIn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uration(d)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AddWheels(w,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Wheels(w,c,d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hassis(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WheelsOn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uration(d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Inspect(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ngineIn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WheelsOn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hassis(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Done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uration(10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F793-8ABE-48DD-B0C2-B2A6104111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0A9AC-3CC2-4D90-B2A0-A9BDBC927EC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lief stat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Representation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ets of full state description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{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R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R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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}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Logical sentences that capture the set of possible worlds in the belief state (OWA)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R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Knowledge propositions describing the agent’s knowledge (CWA)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K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K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R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15DF-A303-47B7-B71A-648D8900EA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5A7DD-7F56-4754-93C1-EB687A37A29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lief stat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hoice 2 and 3 are equivalent (let’s continue with 3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ymbols can appear in three ways in three ways: positive, negative or unknown: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3</a:t>
            </a:r>
            <a:r>
              <a:rPr b="0" i="1" lang="en-US" sz="24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possible belief states for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proposition symbol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YET, set of belief sets is a power set of the phyiscal states which is much larger tha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3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nce 3 is restricted as represent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ny scheme capable of representing every possible belief state will requir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O(2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bit to represent each one in the worst case. 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he current scheme only requires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O(n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AAF3-9311-40F2-8826-DF5A8B9181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C4261-55E9-41DE-AAD7-AE0DD387162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nsing in Cond.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does it work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utomatic sens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 every time step the agent gets all available percept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ctive sens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ercepts are obtained through the execution of specific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ensory action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checkDir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and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checkLoc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iven the representation and the sensing, action descriptions can now be formulated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7991-F3B9-4DA3-8820-C3A00F84152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08D68-FE1F-4B9F-A7B4-29E2C1AE5D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nitoring and re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ecution monitoring: check whether everything is going as planned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Unbounded indeterminancy: some unanticipated circumstances will aris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 necessity in realistic environment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Kinds of monitoring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ction monitoring: verify whether the next action will work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Plan monitoring: verify the entire remaining plan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C46B-41BE-40CF-A3C9-1BCA4E75CC4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7C639-29E7-4D52-8868-5884B40119F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nitoring and re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When something unexpected happens: repla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o avoid too much time on planning try to repair the old pla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an be applied in both fully and partially observable environments, and to a variety of planning representation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8F92-1844-4E56-B15E-5ED9250D527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957B8-B492-4189-9900-D92A2C3EA97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lanning-ag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PLANNING-AGENT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 returns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static: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a knowledge base (+ action descriptions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a plan initially [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,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plan initially [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a goal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ELL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MAKE-PERCEPT-SENTENC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TATE-DESCRIPTIO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KB,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= []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the empty pla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PLANNER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, KB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ITIONS(FIRST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) not currently true in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KB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andidates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ORT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ordered by distance to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ind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tate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andidate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uch tha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ailure </a:t>
            </a:r>
            <a:r>
              <a:rPr b="0" i="1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repair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PLANNER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, s, KB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ontinuation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the tail o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tarting at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PPEND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repair, continuation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OP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(pla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99F6-9171-43FC-A856-398579B0F2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69585-CF4A-4C16-A33D-1C31EE15A98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air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50880" y="1989000"/>
            <a:ext cx="820728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D894-8D22-4C40-8AB4-AD86AD2B4B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513DE-BAB1-4F43-8427-6239D7D4FD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air example: paint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nit(Color(Chair, Blue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olor(Table,Green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ontainsColor(BC,Blue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PaintCan(B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ontainsColor(RC,Red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PaintCan(RC))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Goal(Color(Chair,x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olor(Table,x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Paint(object, color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avePaint(color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olor(object, color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Open(can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aintCan(can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ontainsColor(can,color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avePaint(color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[Start; Open(BC); Paint(Table,Blue), Finish]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8858-6B20-4F13-9680-FFF46B3155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330F5-4946-4134-9166-7BB18DE91EE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air example: paint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uppose that the agent now perceives that the colors of table and chair are differen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igure out point in whole_plan to aim for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urrent state is identical as the precondition befor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ain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pair action sequence to get ther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Repair =[] and plan=[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aint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tinue performing this new pla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Will loop until table and chair are perceived as the same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ction monitoring can lead to less intelligent behavior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ume the red is selected and there is not enough paint to apply to both chair and tabl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mproved by doing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lan monitoring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D25A-ED24-4EEF-962A-1A57F4113B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B980D-AA6F-49AC-BE99-FAC48FE139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 monitor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Check the preconditions for success of the </a:t>
            </a:r>
            <a:r>
              <a:rPr b="0" i="1" lang="en-US" sz="3600" spc="-1" strike="noStrike">
                <a:solidFill>
                  <a:srgbClr val="5f604a"/>
                </a:solidFill>
                <a:latin typeface="Verdana"/>
              </a:rPr>
              <a:t>entire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 plan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xcept those which are achieved by another step in the pla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xecution of doomed plan is cut of earlier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Limitation of replanning agent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It can not formulate new goals or accept new goals in addition to the current one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1599-3255-432F-A195-2740609390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1C43E-F831-475D-BE63-5E173EDFC8D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ution found by PO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1320" y="1989000"/>
            <a:ext cx="4948200" cy="4007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86200" y="1828800"/>
            <a:ext cx="83808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0120" y="16002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lack of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1320" y="29718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488B-2A86-413A-B39F-092C874F37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5497A-9A8E-4D45-BEEA-5661538031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tinuous planning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gent persists indefinitely in an environment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Phases of goal formulation, planning and acting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ecution monitoring + planner as one continuous proces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ample:Blocks world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ssume a fully observable environmen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ssume partially ordered pla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C759-9FCD-4749-AA20-60B676376C2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65763-8204-4618-B176-B928157B876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itial state (a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ove(x,y),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lear(x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lear(y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On(x,z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On(x,y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lear(z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On(x,z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lear(y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e agent first need to formulate a goal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On(C,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On(D,B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lan is created incrementally, retur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oOp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and check percep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88920" y="1989000"/>
            <a:ext cx="75312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A52F-B512-4382-B3AD-4A9B85B9E7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62F3C-82C5-4BB9-8CB6-8C2710E2EEA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ssume that percepts don’t change and this plan is construct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rdering constraint betwee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ove(D,B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ove(C,D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tart is label of current state during planning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efore the agent can execute the plan, nature intervene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D is moved onto B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0680" y="2190600"/>
            <a:ext cx="8529480" cy="1521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rot="20134200">
            <a:off x="3581280" y="2742840"/>
            <a:ext cx="198144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8BE9-71D6-4AC0-B4B9-B9364261735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B8605-6560-4A94-B83C-9DCB4F11D1B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tart contains now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On(D,B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gent perceives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lear(B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nd On(D,G) are no longer tru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Update model of current state (start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Causal links from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Start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Move(D,B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lear(B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On(D,G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no longer valid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move causal relations and two PRECOND o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Move(D,B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re op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place action and causal links to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inis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by connecting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tar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inis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90680" y="2174760"/>
            <a:ext cx="8529480" cy="15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AF68-F93B-429B-B5EC-81E2EB41EC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DBCD6-63EB-44B5-9922-2063BAA78F1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Extending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: whenever a causal link can be supplied by a previous step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All redundant steps (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Move(D,B) 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and its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 causal links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) are removed from the plan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ecute new plan, perform action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Move(C,D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This removes the step from the plan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90680" y="2198520"/>
            <a:ext cx="8529480" cy="1505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52480" y="2819520"/>
            <a:ext cx="54864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200" y="3276720"/>
            <a:ext cx="20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xtending causal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842C-C619-44F0-89FB-9C32102585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63B5C-525E-40DC-A26D-86218FA4A50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ecute new plan, perform action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Move(C,D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Assume agent is clumsy and drops C on A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No plan but still an open PRECOND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Determine new plan for open condition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gain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 Move(C,D)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90680" y="2157480"/>
            <a:ext cx="852948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6678-70F3-49C4-ACE8-3C0D0EB1CA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89A34-89E6-4D8C-A051-C4CA1CE2783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imilar to POP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On each iteration find plan-flaw and fix it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Possible flaws: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Missing goal, Open precondition, Causal conflict, Unsupported link, Redundant action, Unexecuted action, unnecessary historical goal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90680" y="2297160"/>
            <a:ext cx="8529480" cy="130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D13B-2EE1-461C-8B54-EEEA68014D62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7E024-1E5A-4334-B38C-7A2FFB29DF4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ulti-agent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o far we only discussed single-agent environment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ther agents can simply be added to the model of the world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oor performance since agents are not indifferent ot other agents’ intentio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 general two types of multi-agent environment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operativ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etitiv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D5D3-3117-4834-B995-F52687C122D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5E2FF-110B-4B20-BD93-A13B4A87A88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operation: Joint goals and pla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ulti-planning problem: assume double tennis example where agents want to return bal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gents(A,B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At(A,[Left,Baseline])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B,[Right, Net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pproaching(Ball,[Right, Baseline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Artner(A,B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artner(B,A))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Returned(Ball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agent,[x,Net]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Hit(agent, Ball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pproaching(Ball,[x,y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agent,[x,y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artner(agent, partner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artner,[x,y]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turned(Ball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Go(agent,[x,y]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agent,[a,b]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agent,[x,y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agent,[a,b]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514600"/>
            <a:ext cx="16002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B26E-BBF8-467B-8127-6BC5345CA17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9E530-9EE4-441A-B9F4-100B5B665CA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operation: Joint goals and plan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 solution is a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joint-plan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consisting of actions for both agent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ample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: [Go(A,[Right, Baseline]), Hit(A,Ball)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: [NoOp(B), NoOp(B)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Or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: [Go(A,[Left, net), NoOp(A)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: [Go(B,[Right, Baseline]), Hit(B, Ball)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Coordination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is required to reach same joint pla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CDEE-F955-45D8-89A3-E5CAB24B6D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14E36-2698-4404-B268-91C7EA0175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vs. schedul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ow does the problem differ from a standard planning problem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When does an action start and when does it end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o next ot order (planning) duration is also consider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Duration(d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Critical path metho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used to determine start and end time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ath = linear sequence from start to en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ritical path = path with longest total dur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Determines the duration of the entire pla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ritical path should be executed without delay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28C8-F3E8-412E-B661-A39F8244B4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2DB97-FEEC-426A-9FE0-C1759B8BBCF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ulti-body planning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lanning problem faced by a single centralized agent that can dictate action to each of several physical entiti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ence not truly multi-agen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mportant: synchronization of actio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ume for simplicity that every action takes one time step and at each point in the joint plan the actions are performed simultaneousl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[&lt;Go(A,[Left,Net]), Go(B,[Right,Baseline]&gt;;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&lt;NoOp(A), Hit(B, Ball)&gt;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lanning can be performed using POP applied to the set of all possible joint action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ze of this set???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CAD6-7226-43DF-8075-1937A7DDCC7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303AF-F197-475D-B463-70439AAD4A4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ulti-body planning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lternative to set of all joint actions: add extra concurrency lines to action descri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current ac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Action(Hit(A, Ball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CONCURRENT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: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Hit(B,Ball)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Approaching(Ball,[x,y]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A,[x,y])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Returned(Ball)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quired actions (carrying object by two agent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Action(Carry(A, cooler, here, there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CONCURRENT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: Carry(B,cooler, here there)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…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Planner similar to POP with some small changes in possible ordering relations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8B34-90A4-4CDD-A4E5-8C681820A6D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4C8C3-9126-4EE0-B27C-F32B025A5E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ordination mechanis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o ensure agreement on joint plan: us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conventio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vention = a constraint on the selection of joint plans (beyond the constraint that the joint plan must work if the agents adopt it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.g. stick to your court or one player stays at the net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nventions which are widely adopted= social laws e.g. languag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an be domain-specific or independen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uld arise through evolutionary process (flocking behavior)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4153-6425-4FFB-9C3C-21F1C43321F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A5CCF-5909-4394-B396-F8C9356F887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lo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Three rules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eparation: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eer away from neighbors when you get too clos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Cohesio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eer toward the average position of neighbors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Alignment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eer toward average orientation (heading) of neighbor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Flock exhibits </a:t>
            </a:r>
            <a:r>
              <a:rPr b="0" i="1" lang="en-US" sz="3600" spc="-1" strike="noStrike">
                <a:solidFill>
                  <a:srgbClr val="5f604a"/>
                </a:solidFill>
                <a:latin typeface="Verdana"/>
              </a:rPr>
              <a:t>emergent behavior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 of flying as a pseudo-rigid body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FF4B-5AD7-4D1F-AB85-68B24B3CCD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009AA-CF06-443D-9FE9-D703F290EAA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ordination mechanism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n the absence of conventions: Communica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Mine! Or Yours! in tennis exampl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burden of arriving at a succesfull joint plan can be placed 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gent designer (agents are reactive, no explicit models of other agents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gent (agents are deliberative, model of other agents required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4AC7-039A-4D9A-AB13-465290564CA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54805-5CE6-4EC6-A61B-59162792A59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mpetitive environ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gents can have conflicting utilities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zero-sum games like ches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agent must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cognize that there are other agen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ute some of the other agents pla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ute how the other agents interact with its own pla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ecide on the best action in view of these inter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odel of other agent is requir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ET, no commitment to joint action pla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CD57-24D2-4C2C-B2CD-9717F00A1D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4C0E4-CFDF-4F9E-90D1-86DA3B0B4D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S and L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arliest possible (ES) and latest possible (LS) start tim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S-ES = slack of an ac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or all actions determines the schedule for the entire problem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S(Start) = 0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S(B)=max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A&lt;B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ES(A) + Duration(A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S(Finish)=ES(Finish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S(A) = min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A&lt;B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LS(B) -Duration(A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xity is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O(Nb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given a PO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67B6-8F0B-4A75-BBB0-302593ECAF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F81FB-CB1B-426C-AAA5-DF2F57CA326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cheduling with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Resource constraints = required material or objects to perform task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usable resourc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resource that is occupied during an action but becomes available when the action is finish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quire extension of action syntax: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Resource:R(k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k units of resource are required by the ac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s a pre-requisite before the action can be performe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source can not be used for k time units by other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8ABF-BF8A-4851-9F0B-AA2B0D55EC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F1BA5-F8A6-42DF-9101-A9514674333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r example with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Chassis(C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hassis(C2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Engine(E1,C1,30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Engine(E1,C2,60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Wheels(W1,C1,30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Wheels(W2,C2,15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EngineHoists(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WheelStations(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Inspectors(2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Done(C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Done(C2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AddEngine(e,c,m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Engine(e,c,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hassis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EngineIn(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EngineIn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Duration(d)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ESOURCE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: EngineHoists(1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AddWheels(w,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Wheels(w,c,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hassis(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WheelsOn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Duration(d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ESOURCE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: WheelStations(1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Inspect(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EngineIn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WheelsOn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hassis(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Done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Duration(10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ESOURCE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: Inspectors(1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5791320"/>
            <a:ext cx="167652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400" y="5867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ggr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9401-0ADC-4805-B39F-B595BBFCC5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FD723-4F21-40D6-A2BE-47BDFF70161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Tom Lenaerts</cp:lastModifiedBy>
  <cp:lastPrinted>2006-05-05T09:07:06Z</cp:lastPrinted>
  <dcterms:modified xsi:type="dcterms:W3CDTF">2006-05-05T12:01:11Z</dcterms:modified>
  <cp:revision>1075</cp:revision>
  <dc:subject/>
  <dc:title>CMSC 723: Introduction to  Computational Linguistics</dc:title>
</cp:coreProperties>
</file>