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70231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F2326-8F1D-4524-BEAB-9CD7053E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6A4B5-43CE-4F53-A984-6540FDBC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A6B65-0D6D-4006-B1CB-93F7629D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D58B9-BCC7-43B4-9BC3-18B5974D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86C29-8A84-4F44-95F3-D239BF21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DD617-A7CA-433E-9FDA-497A5B2F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0A9AD-1263-4DCD-9E8E-7CA4D69E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96839-91A7-4AE8-8F02-239C3234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A353D-694D-4927-B2AA-8F0CE900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8FEF2-52FA-426E-8C07-7B725FBD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0D52B-EEB4-4E18-B914-1696EDAF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3FF7-E6D4-4424-8F1A-960B6FCA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44A26-A927-4881-8142-5C2DD5A7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6B38CB-CD16-4147-8236-BC6636E7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A1663-1DF9-4166-8626-0A4CA665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5FEE6-4667-49AC-834B-90342251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FEC18-42CD-4F68-8CD0-39258E5B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356C9-D799-4AB4-801F-A37DC1AF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78CFA-76B3-49AC-A6C7-CB150DDF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729B0-BA0C-4CF9-B442-9FA348F4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F4CA3-310E-4CEA-BCB6-73587AAE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3E27B-AC44-4416-B6A8-23839A9C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10A0B-7381-44DA-A377-B1B533A8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1A553-E66D-448E-B4AC-53916C07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42A0-C857-4190-80BD-D27CF5E34B42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A21A-C47E-400B-9660-6EE7A39C4195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9353-58D9-4B20-8086-218661AE29F5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5FA2-FE3C-4941-B783-54C128A4AF32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0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Artificial Intelligence 1: Planning in the real world</a:t>
            </a:r>
            <a:endParaRPr b="0" lang="en-US" sz="4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267080"/>
            <a:ext cx="77407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ar example with resourc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90680" y="3068640"/>
            <a:ext cx="852948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5397A-82A5-4E27-849E-CD395859C26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3D09F-F775-416E-A54D-85ED831B2C4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cheduling with resourc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ggregation = group individual objects into quantities when the objects are undistinguishable with respect to their purpos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Reduces complexity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source constraints make scheduling problems more complicated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dditional interactions among action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euristic: minimum slack algorithm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lect an action with all pre-decessors scheduled and  with the least slack for the earliest possible start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EC9B-FF35-46DF-8688-2C957F430D7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C86FB-5483-418C-A6A9-51F0DE39940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Hierarchical task network planning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Reduce complexity </a:t>
            </a:r>
            <a:r>
              <a:rPr b="0" lang="en-US" sz="24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hierarchical decomposition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t each level of the hierarchy a computational task is reduced to a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mall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number of activities at the next lower level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he computational cost of arranging these activities is low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Hierarchical task network (HTN) planning uses a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refinement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of actions through decomposition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 building a house = getting a permit + hiring a contractor + doing the construction + paying the contractor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fined until only primitive actions remain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Pure and hybrid HTN planning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15B60-9731-4B33-973C-ECD7F389F84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17A18-44D0-418E-952A-B7243E4F804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presentation decomposi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General descriptions are stored in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plan library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ach method = Decompos(a,d); a= action and d= PO pla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ee buildhouse exampl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tart action supplies all preconditions of actions not supplied by other action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=external precondition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Finish action has all effects of actions not present in other action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=external effect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Primary effects (used to achieve goal) vs. secondary effects 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B2C5-A1B7-4E71-960E-E01859346E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EC393-ACCF-4C02-A6B1-5B7BB04D051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uildhouse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90680" y="2224080"/>
            <a:ext cx="8529480" cy="3533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219320" y="4038480"/>
            <a:ext cx="914400" cy="137160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371600"/>
              <a:gd name="textAreaBottom" fmla="*/ 1326960 h 1371600"/>
            </a:gdLst>
            <a:ahLst/>
            <a:rect l="textAreaLeft" t="textAreaTop" r="textAreaRight" b="textAreaBottom"/>
            <a:pathLst>
              <a:path w="21600" h="32396">
                <a:moveTo>
                  <a:pt x="3600" y="0"/>
                </a:moveTo>
                <a:arcTo wR="3600" hR="3600" stAng="16200000" swAng="-5400000"/>
                <a:lnTo>
                  <a:pt x="0" y="28796"/>
                </a:lnTo>
                <a:arcTo wR="3600" hR="3600" stAng="10800000" swAng="-5400000"/>
                <a:lnTo>
                  <a:pt x="18000" y="323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4114800"/>
            <a:ext cx="914400" cy="137160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371600"/>
              <a:gd name="textAreaBottom" fmla="*/ 1326960 h 1371600"/>
            </a:gdLst>
            <a:ahLst/>
            <a:rect l="textAreaLeft" t="textAreaTop" r="textAreaRight" b="textAreaBottom"/>
            <a:pathLst>
              <a:path w="21600" h="32396">
                <a:moveTo>
                  <a:pt x="3600" y="0"/>
                </a:moveTo>
                <a:arcTo wR="3600" hR="3600" stAng="16200000" swAng="-5400000"/>
                <a:lnTo>
                  <a:pt x="0" y="28796"/>
                </a:lnTo>
                <a:arcTo wR="3600" hR="3600" stAng="10800000" swAng="-5400000"/>
                <a:lnTo>
                  <a:pt x="18000" y="323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6920" y="3657600"/>
            <a:ext cx="171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xternal pr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2240" y="3733920"/>
            <a:ext cx="158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xternal 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D5D3E-E334-4EDB-AEE7-7467DD406E9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3DEC8-D736-4FCE-A893-80DDF83E053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uildhouse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Buyland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Money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Land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Money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GetLoan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Goodcredit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Money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Mortgage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BuildHouse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Land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House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GetPermit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LAnd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ermit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HireBuilder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Contract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Construction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ermit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Contract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HouseBuilt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Permit),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PayBuilder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Money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HouseBuilt, 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¬Money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House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 ¬Contract),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Decompose(BuildHouse,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Plan ::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STEPS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{ S1: GetPermit, S2:HireBuilder, S3:Construction, S4 PayBuilder}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ORDERINGS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: {Start &lt; S1 &lt; S3&lt; S4&lt;Finish, Start&lt;S2&lt;S3},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LINKS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09680" y="5410080"/>
                <a:ext cx="5691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art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and</m:t>
                                </m:r>
                              </m:e>
                            </m:acc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art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oney</m:t>
                                </m:r>
                              </m:e>
                            </m:acc>
                            <m:r>
                              <m:t xml:space="preserve">S</m:t>
                            </m:r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mit</m:t>
                                </m:r>
                              </m:e>
                            </m:acc>
                            <m:r>
                              <m:t xml:space="preserve">S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2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ntract</m:t>
                                </m:r>
                              </m:e>
                            </m:acc>
                            <m:r>
                              <m:t xml:space="preserve">S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BEA23-3625-40A7-B2D9-36EF99CB7A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0DF86-5D9E-4F47-A454-205F4D16A90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perties of decomposi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hould be correct implementation of action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rrect if plan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d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s complete and consistent PO plan for the problem of achieving the effects of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given the preconditions of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 decomposition is not necessarily uniqu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Performs information hiding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TRIPS action description of higher-level action hides some preconditions and effects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gnore all internal effects of decomposi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Does not specify the intervals inside the activity during which preconditions and effects must hold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nformation hiding is essential to HTN planning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345CC-B36B-4CF5-936F-EF6CFBCE524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34C18-68B2-4920-842A-A280EF56E48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capitulation of POP (1)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Assume propositional planning problems:</a:t>
            </a: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The initial plan contains </a:t>
            </a:r>
            <a:r>
              <a:rPr b="0" i="1" lang="en-US" sz="2600" spc="-1" strike="noStrike">
                <a:solidFill>
                  <a:srgbClr val="7f7358"/>
                </a:solidFill>
                <a:latin typeface="Verdana"/>
              </a:rPr>
              <a:t>Start</a:t>
            </a: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 and </a:t>
            </a:r>
            <a:r>
              <a:rPr b="0" i="1" lang="en-US" sz="2600" spc="-1" strike="noStrike">
                <a:solidFill>
                  <a:srgbClr val="7f7358"/>
                </a:solidFill>
                <a:latin typeface="Verdana"/>
              </a:rPr>
              <a:t>Finish</a:t>
            </a: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, the ordering constraint </a:t>
            </a:r>
            <a:r>
              <a:rPr b="0" i="1" lang="en-US" sz="2600" spc="-1" strike="noStrike">
                <a:solidFill>
                  <a:srgbClr val="7f7358"/>
                </a:solidFill>
                <a:latin typeface="Verdana"/>
              </a:rPr>
              <a:t>Start &lt; Finish</a:t>
            </a: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, no causal links, all the preconditions in </a:t>
            </a:r>
            <a:r>
              <a:rPr b="0" i="1" lang="en-US" sz="2600" spc="-1" strike="noStrike">
                <a:solidFill>
                  <a:srgbClr val="7f7358"/>
                </a:solidFill>
                <a:latin typeface="Verdana"/>
              </a:rPr>
              <a:t>Finish</a:t>
            </a: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 are open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Successor function :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picks one open precondition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on an action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an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generates a successor plan for every possible consistent way of choosing action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that achieves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Test goal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D237E-4E95-4DB1-B219-94917621D1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5C254-DA63-4229-A8E8-BBAA2FCE035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capitulation of POP (2)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When generating successor plan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The causal link A--p-&gt;B  and the ordering constraing A &lt; B is added to the plan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f A is new also add start &lt; A and A &lt; B to the pla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Resolve conflicts between new causal link and all existing action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Resolve conflicts between action A (if new) and all existing causal links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5411D-D96B-43F0-98EF-44C757EF58D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BF19E-5B8B-417C-9910-1616AFA4C18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dapting POP to HTN 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Remember POP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Modify the successor function: apply decomposition to current plan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604a"/>
                </a:solidFill>
                <a:latin typeface="Verdana"/>
              </a:rPr>
              <a:t>NEW </a:t>
            </a: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Successor function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Select non-primitive action </a:t>
            </a:r>
            <a:r>
              <a:rPr b="0" i="1" lang="en-US" sz="2600" spc="-1" strike="noStrike">
                <a:solidFill>
                  <a:srgbClr val="7f7358"/>
                </a:solidFill>
                <a:latin typeface="Verdana"/>
              </a:rPr>
              <a:t>a’ </a:t>
            </a: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in </a:t>
            </a:r>
            <a:r>
              <a:rPr b="0" i="1" lang="en-US" sz="2600" spc="-1" strike="noStrike">
                <a:solidFill>
                  <a:srgbClr val="7f7358"/>
                </a:solidFill>
                <a:latin typeface="Verdana"/>
              </a:rPr>
              <a:t>P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87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For any </a:t>
            </a:r>
            <a:r>
              <a:rPr b="0" i="1" lang="en-US" sz="2600" spc="-1" strike="noStrike">
                <a:solidFill>
                  <a:srgbClr val="7f7358"/>
                </a:solidFill>
                <a:latin typeface="Verdana"/>
              </a:rPr>
              <a:t>Decompose(a’,d’)</a:t>
            </a: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 method in library where </a:t>
            </a:r>
            <a:r>
              <a:rPr b="0" i="1" lang="en-US" sz="2600" spc="-1" strike="noStrike">
                <a:solidFill>
                  <a:srgbClr val="7f7358"/>
                </a:solidFill>
                <a:latin typeface="Verdana"/>
              </a:rPr>
              <a:t>a</a:t>
            </a: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 and </a:t>
            </a:r>
            <a:r>
              <a:rPr b="0" i="1" lang="en-US" sz="2600" spc="-1" strike="noStrike">
                <a:solidFill>
                  <a:srgbClr val="7f7358"/>
                </a:solidFill>
                <a:latin typeface="Verdana"/>
              </a:rPr>
              <a:t>a’</a:t>
            </a: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 unify with substitution </a:t>
            </a:r>
            <a:r>
              <a:rPr b="0" i="1" lang="en-US" sz="3500" spc="-1" strike="noStrike">
                <a:solidFill>
                  <a:srgbClr val="7f7358"/>
                </a:solidFill>
                <a:latin typeface="Symbol"/>
                <a:ea typeface="Symbol"/>
              </a:rPr>
              <a:t></a:t>
            </a:r>
            <a:endParaRPr b="0" lang="en-US" sz="35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Replace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a’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with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d’ = subst(</a:t>
            </a:r>
            <a:r>
              <a:rPr b="0" i="1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,d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C6956-22E8-4C3F-8A9B-880CF202AE7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45B5A-CC2F-439E-9A55-7CE2341CDE8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11000" y="2360520"/>
            <a:ext cx="656100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ime, schedules and resourc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ierarchical task network planning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Non-deterministic domain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nditional planning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xecution monitoring and replanning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ntinuous planning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Multi-agent planning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7E398-8DED-498E-9F46-97E273A024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B06E5-362D-4694-AFE4-FB94523D542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OP+HT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90680" y="2381400"/>
            <a:ext cx="8529480" cy="3187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267080" y="2133720"/>
            <a:ext cx="1828800" cy="1066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4520" y="17524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D86A4-44FA-4027-8B02-0A889FC591F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9C872-56C0-4CC1-856A-417B4F81A75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OP+HT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90680" y="2381400"/>
            <a:ext cx="8529480" cy="3187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267080" y="2133720"/>
            <a:ext cx="1828800" cy="1066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4520" y="1752480"/>
            <a:ext cx="3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3733920"/>
            <a:ext cx="4343400" cy="17524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5600" y="5334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C6BCE-D7F4-4B2B-A6F9-0107B44C83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2F4E2-8D93-4D2E-A4F6-2F279F70619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ow to hook up </a:t>
            </a:r>
            <a:r>
              <a:rPr b="0" i="1" lang="en-US" sz="4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 in </a:t>
            </a:r>
            <a:r>
              <a:rPr b="0" i="1" lang="en-US" sz="4200" spc="-1" strike="noStrike">
                <a:solidFill>
                  <a:srgbClr val="ffffff"/>
                </a:solidFill>
                <a:latin typeface="Verdana"/>
              </a:rPr>
              <a:t>a’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Remove action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’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from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 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nd replace with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d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For each step s in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d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select an action that will play the role of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s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(either new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s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or existing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s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from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Possibility of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subtask sharing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onnect ordering steps for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’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to the steps in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d’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Put all constraints so that constraints of the form 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B &lt; a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are maintained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Watch out for too strict orderings !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onnect the causal link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If B -p-&gt; a’ is a causal link in P, replace it by a set of causal links from B to all steps in d’ with preconditions p that were supplied by the start step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Idem for a’ -p-&gt; C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388EE-0EA6-422B-9F00-757F7B30382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E969D-0B35-4CEF-9890-98B30965B06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hat about HTN?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dditional modification to POP are necessary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BAD news: pure HTN planning is undecidable due to recursive decomposition action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Walk=make one step and walk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solve problems by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Rule out recursio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Bound the length of relevant solutions,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ybridize HTN with POP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Yet HTN can be efficient (see motivations in book)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F6EA7-91FE-48D5-8979-619ADE7408C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2C38A-6B74-47C1-A06E-9CB9368A2B9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Gift of magi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27200" y="1989000"/>
            <a:ext cx="625464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EE455-AAEC-46BE-BFE4-4EFE04B96E7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FA08B-D822-4CBA-B13A-A78DAF4BC01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Non-deterministic domain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So far: fully observable, static and deterministic domains.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gent can plan first and then execute plan with eyes closed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Uncertain environment: incomplete (partially observable and/or nondeterministic) and incorrect (differences between world and model) information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Use percept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dapt plan when necessary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Degree of uncertainty defined by indeterminacy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Bounded: actions can have unpredictable effects, yet can be listed in action description axioms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Unbounded: preconditions and effects unknown or to large to enumerate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58F5A-C9BE-4239-9299-D346F28BE9A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675BC-3856-4D43-95BB-2A6D50C0CC3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Handling indeterminac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ensorless planning (conformant planning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nd plan that achieves goal in all possible circumstances (regardless of initial state and action effects)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nditional planning (Contingency planning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nstruct conditional plan with different branches for possible contingencie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xecution monitoring and replanning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While constructing plan judge whether plan requires revision.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ntinuous planning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Planning active for a life time: adapt to changed circumstances and reformulate goals if necessary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4C628-4BAD-4297-8135-C54D8AE04ED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89C47-9217-43A9-AC36-E24C74E6559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ensorless 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019920" cy="46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07A14-05EE-4DA4-A1C6-2701A9C8537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25285-36D5-46F3-8C9A-13DE3000640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bstract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nitial state = &lt;chair,table, cans of paint, unknown colors&gt;, goal state=&lt;color(table) = color(chair)&gt;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ensorless planning (conformant planning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Open any can of paint and apply it to both chair and table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onditional planning (Contingency planning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Sense color of table and chair, if they are the same then finish else sense labels paint if color(label) =color(Furniture) then apply color to othe piece else apply color to both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xecution monitoring and replanning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Same as conditional and can fix errors (missed spots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ontinuous planning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Can revise goal when we want to first eat before painting the table and the chair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83F38-FFDC-42D9-88B5-B3487C2539A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4B7A3-DE50-4174-BDD5-52CDBF759A8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ditional 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Deal with uncertainty by checking the environment to see what is really happening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Used in fully observable and nondeterministic environments: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The outcome of an action is unknown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Conditional steps will check the state of the environment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How to construct a conditional plan?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CADD7-2E62-495E-9AF9-31C571772B4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A1E18-E906-4EF1-9B2A-CDA79756AD8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ime, schedules and resourc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Until know: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hat actions to do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Real-world: 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+ actions occur at certain moments in tim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+ actions have a beginning and an end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+ actions take a certain amount of tim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Job-shop scheduling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mplete a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et of jobs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, each of which consists of a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equence of actions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here each action has a given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duration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and might require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resources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Determine a schedule that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minimizes the total time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required to complete all jobs (respecting resource constraints)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0CF49-5405-401C-9CAB-58A677FD08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0B3CA-6D40-4CAB-A286-25FDAFA5A13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ample, the vacuum-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65200" y="1989000"/>
            <a:ext cx="837864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9246F-CCC1-40B7-9D2A-6491E892155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362E1-9366-4A02-A18D-CAAC0405EF4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ditional 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ctions: left, right, suck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ropositions to define states: AtL, AtR, CleanL, CleanR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How to include indeterminism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ctions can have more than one effect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.g. moving left sometimes fail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ction(Left, PRECOND: AtR, EFFECT: AtL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Becomes : Action(Left, PRECOND: AtR, EFFECT: AtL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tR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ctions can have conditional effect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Action(Left, PRECOND:AtR, EFFECT: AtL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(AtL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when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cleanL: ¬cleanL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Both disjunctive and conditional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9E051-D2DA-4AF6-8798-D1C2C01B044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6FEF5-C8F7-422F-9BA7-A2AA07CEBCC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ditional 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nditional plans require conditional step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f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&lt;test&gt;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then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plan_A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else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plan_B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tL</a:t>
            </a:r>
            <a:r>
              <a:rPr b="0" i="1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CleanL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Right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else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Suck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Plans become tre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Games against nature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nd conditional plans that work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regardless of which action outcomes actually occur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Assume vacuum-world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Initial state = AtR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CleanL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CleanR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Double murphy: possibility of desposit dirt when moving to other square and possibility of despositing dirt when action is Suck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CCE1E-A15A-4993-A052-E550CD27C67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7C319-F306-43B3-A376-F0823922A1D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ame tre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384200" y="1989000"/>
            <a:ext cx="6742080" cy="4007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505320" y="1828800"/>
            <a:ext cx="1523880" cy="68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7880" y="144792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tate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2743200"/>
            <a:ext cx="1523880" cy="68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4400" y="2209680"/>
            <a:ext cx="141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hance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72423-2B93-4A5A-B10F-0AC38D6569A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D8E55-FC94-4DCE-9FC2-88C853184E1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ution of games against N.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olution is a subtree that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Has a goal node at every leaf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pecifies one action at each of its state node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ncludes every outcome branch at each of the chance node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n previous example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[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Left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, </a:t>
            </a:r>
            <a:r>
              <a:rPr b="1" lang="en-US" sz="1400" spc="-1" strike="noStrike">
                <a:solidFill>
                  <a:srgbClr val="7f7358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AtL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CleanL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CleanR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7f7358"/>
                </a:solidFill>
                <a:latin typeface="Verdana"/>
              </a:rPr>
              <a:t>then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[] </a:t>
            </a:r>
            <a:r>
              <a:rPr b="1" lang="en-US" sz="1400" spc="-1" strike="noStrike">
                <a:solidFill>
                  <a:srgbClr val="7f7358"/>
                </a:solidFill>
                <a:latin typeface="Verdana"/>
              </a:rPr>
              <a:t>else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Suck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]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For exact solutions: use minimax algorithm with 2 modifications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Max and Min nodes become OR and AND node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lgorithm returns conditional plan instead of single mov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1FC41-2CBB-478C-B36F-B54B48B19FF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65B29-6597-4B75-ABA9-AC31B43C74E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nd-Or-search algorithm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1225440" y="1600200"/>
            <a:ext cx="722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-OR-GRAPH-SEARCH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 conditional pla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-SEARCH(INITIAL-STATE[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[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9600" y="4572000"/>
            <a:ext cx="7393680" cy="16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-SEARCH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te_set, problem, pa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 conditional pla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R-SEARCH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blem,path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failur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 retur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…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69720" y="2514600"/>
            <a:ext cx="6909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-SEARCH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te, problem, pa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return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 conditional pla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-TEST[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 retur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empty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o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t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 retur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ction,state_s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 SUCCESSORS[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-SEARCH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te_set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blem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pla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ailur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n retur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ail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3623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441972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17C3-065F-4A94-820D-9B6E51F9686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9F711-A240-49EE-A6EC-DAF2BACB443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nd-Or-search algorithm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How does it deal with cycles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When a state that already is on the path appears, return failure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No non-cyclic solution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Ensures algorithm termination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he algorithm does not check whether some state is already on some other path from the root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76640" y="4070520"/>
            <a:ext cx="495612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81944-C837-44A6-B880-52496FA53C5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44BF4-9704-4610-A6CD-90B5003EF97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nd-Or-search algorithm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604a"/>
                </a:solidFill>
                <a:latin typeface="Verdana"/>
              </a:rPr>
              <a:t>Sometimes only a cyclic solution exists </a:t>
            </a:r>
            <a:endParaRPr b="0" lang="en-US" sz="3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7f7358"/>
                </a:solidFill>
                <a:latin typeface="Verdana"/>
              </a:rPr>
              <a:t>e.g. tripple murphy: sometimes the move is not performed</a:t>
            </a:r>
            <a:endParaRPr b="0" lang="en-US" sz="21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[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Left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, 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CleanL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[] 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else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Suck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] is not a solution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Use label to repeat parts of plan (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but infinite loops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[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L1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: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Left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, 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AtR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L1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else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CleanL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then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[] </a:t>
            </a:r>
            <a:r>
              <a:rPr b="1" lang="en-US" sz="1600" spc="-1" strike="noStrike">
                <a:solidFill>
                  <a:srgbClr val="7f7358"/>
                </a:solidFill>
                <a:latin typeface="Verdana"/>
              </a:rPr>
              <a:t>else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Suck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76640" y="4070520"/>
            <a:ext cx="495612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30CC7-B892-41FC-8022-09DBFAECCAD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04328-B977-419E-8311-BE3AE04F671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P and partially observable env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Fully observable: conditional tests can ask any question and get an answer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artially observable??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he agent has limited information about the environment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Modeled by a state-set = belief stat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E.g. assume vacuum agent which can not sense presence or absence of dirt in other squares than the one it is o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+ alternative murphy: dirt can be left behind when moving to other square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Solution in fully observable world: 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keep moving left and right, sucking dirt whenever it appears until both squares are clean and I’m in square left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9140F-294D-471D-86B0-BDC334EE300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1FA73-68EF-4238-B116-317E49B0270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O: alternate double murphy 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752480" y="1631880"/>
            <a:ext cx="5208840" cy="423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1358F-77D5-437D-9B2E-C12EB001E588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B5E52-A842-4FF1-99C7-65F44C6B6C7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ar construction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Init(Chassis(C1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hassis(C2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Engine(E1,C1,30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Engine(E1,C2,60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Wheels(W1,C1,30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Wheels(W2,C2,15)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Goal(Done(C1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Done(C2)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ction(AddEngine(e,c,m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Engine(e,c,d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hassis(c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¬EngineIn(c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EngineIn(c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Duration(d)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ction(AddWheels(w,c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Wheels(w,c,d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hassis(c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WheelsOn(c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Duration(d)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ction(Inspect(c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EngineIn(c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WheelsOn(c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hassis(c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Done(c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Duration(10)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E2233-04A1-4AA1-9E25-30238EAC4E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88FE9-DAE4-4C91-B094-6E7131A4838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elief stat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Representation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Sets of full state description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{(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AtR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CleanR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CleanL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(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AtR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CleanR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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CleanL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)}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Logical sentences that capture the set of possible worlds in the belief state (OWA)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AtR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CleanR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Knowledge propositions describing the agent’s knowledge (CWA)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K(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AtR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K(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CleanR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84970-876E-42FA-87A8-C27BBDCABA8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BD3EC-504D-4A04-A45C-CE12E1135A8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elief stat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hoice 2 and 3 are equivalent (let’s continue with 3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ymbols can appear in three ways in three ways: positive, negative or unknown: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3</a:t>
            </a:r>
            <a:r>
              <a:rPr b="0" i="1" lang="en-US" sz="2400" spc="-1" strike="noStrike" baseline="30000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possible belief states for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proposition symbol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YET, set of belief sets is a power set of the phyiscal states which is much larger than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3</a:t>
            </a:r>
            <a:r>
              <a:rPr b="0" i="1" lang="en-US" sz="1800" spc="-1" strike="noStrike" baseline="30000">
                <a:solidFill>
                  <a:srgbClr val="7f7358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Hence 3 is restricted as representa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ny scheme capable of representing every possible belief state will require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O(2</a:t>
            </a:r>
            <a:r>
              <a:rPr b="0" i="1" lang="en-US" sz="1400" spc="-1" strike="noStrike" baseline="30000">
                <a:solidFill>
                  <a:srgbClr val="7f7358"/>
                </a:solidFill>
                <a:latin typeface="Verdana"/>
              </a:rPr>
              <a:t>n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)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bit to represent each one in the worst case.  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The current scheme only requires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O(n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43610-ECBE-49FE-9E66-94D4FD82F99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2ED8A-9BBD-418A-A758-82B5B762559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ensing in Cond. 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How does it work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Automatic sensing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t every time step the agent gets all available percept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Active sensing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ercepts are obtained through the execution of specific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ensory actions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checkDirt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and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checkLoca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Given the representation and the sensing, action descriptions can now be formulated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AACFA-F6DC-439E-A211-FD0D70E0A36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ECDF9-FC45-4E66-A4ED-D2EA714B6C8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onitoring and re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xecution monitoring: check whether everything is going as planned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Unbounded indeterminancy: some unanticipated circumstances will arise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A necessity in realistic environments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Kinds of monitoring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Action monitoring: verify whether the next action will work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Plan monitoring: verify the entire remaining plan.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A2C2E-0A49-4C3A-B261-6963F15A497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397A3-270A-416B-AC3F-1EF2083DF1E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onitoring and re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When something unexpected happens: replan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To avoid too much time on planning try to repair the old plan.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an be applied in both fully and partially observable environments, and to a variety of planning representations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C1650-7AE0-4BA8-82AC-16B31FFC126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525A3-96E3-4757-AA0A-1C44D1BE899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planning-agen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function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REPLANNING-AGENT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ercep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 returns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an actio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static: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KB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, a knowledge base (+ action descriptions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la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, a plan initially []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whole_plan,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 plan initially []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oal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, a goal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TELL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KB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, MAKE-PERCEPT-SENTENCE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ercep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,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STATE-DESCRIPTION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KB,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la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= []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hen retur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the empty pla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whole_plan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la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PLANNER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,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goal, KB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if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RECONDITIONS(FIRST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la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) not currently true in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KB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the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andidates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SORT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whole_plan,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ordered by distance to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find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state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in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andidates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such that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ailure </a:t>
            </a:r>
            <a:r>
              <a:rPr b="0" i="1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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 repair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PLANNER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urrent, s, KB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ontinuation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the tail of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whole_pla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starting at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whole_plan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plan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APPEND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repair, continuation)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5f604a"/>
                </a:solidFill>
                <a:latin typeface="Verdana"/>
              </a:rPr>
              <a:t>return 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POP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(plan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F3AD5-C6A9-44B0-9565-F81DCC78034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F9499-7376-4AE8-9123-AE24DC852D7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pair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50880" y="1989000"/>
            <a:ext cx="820728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1916A-025A-45D2-9FCA-D809213CD1B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C775E-5E2B-42B3-A6F0-27ADE99A8F0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pair example: paint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Init(Color(Chair, Blue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Color(Table,Green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ontainsColor(BC,Blue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PaintCan(BC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ontainsColor(RC,Red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PaintCan(RC))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Goal(Color(Chair,x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olor(Table,x)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ction(Paint(object, color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HavePaint(color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Color(object, color)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ction(Open(can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aintCan(can)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ontainsColor(can,color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HavePaint(color)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[Start; Open(BC); Paint(Table,Blue), Finish]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0925C-1525-4854-9DAD-9B109C3E8C8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2491F-D4C3-415B-A32E-36D3E5F0ECA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Repair example: paint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uppose that the agent now perceives that the colors of table and chair are different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igure out point in whole_plan to aim for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Current state is identical as the precondition before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Paint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pair action sequence to get ther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Repair =[] and plan=[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Paint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, 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Finish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]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tinue performing this new pla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Will loop until table and chair are perceived as the same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ction monitoring can lead to less intelligent behavior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ssume the red is selected and there is not enough paint to apply to both chair and tabl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mproved by doing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plan monitoring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8EAFC-AD49-4FBE-BB35-A637595081D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68F77-E033-4B86-9147-8C0C91BE107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lan monitor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Check the preconditions for success of the </a:t>
            </a:r>
            <a:r>
              <a:rPr b="0" i="1" lang="en-US" sz="3600" spc="-1" strike="noStrike">
                <a:solidFill>
                  <a:srgbClr val="5f604a"/>
                </a:solidFill>
                <a:latin typeface="Verdana"/>
              </a:rPr>
              <a:t>entire</a:t>
            </a: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 plan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Except those which are achieved by another step in the plan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Execution of doomed plan is cut of earlier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Limitation of replanning agent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It can not formulate new goals or accept new goals in addition to the current one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3FB96-B5F7-4A64-B0F1-171DA1C94DA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26F8D-AAF1-4B31-BFFE-0B731B5E315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olution found by POP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1320" y="1989000"/>
            <a:ext cx="4948200" cy="4007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86200" y="1828800"/>
            <a:ext cx="83808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70120" y="16002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lack of 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31320" y="29718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EA9C2-4C6E-448A-9BA0-CB48067E393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8F0DD-7D8D-4B1A-81AC-A7B945540F2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ntinuous planning.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gent persists indefinitely in an environment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Phases of goal formulation, planning and acting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xecution monitoring + planner as one continuous proces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xample:Blocks world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Assume a fully observable environment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Assume partially ordered plan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E7FEA-CB95-47F9-B419-0E65D0CC4F1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7575A-D790-4B01-B405-9712B63C3F4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lock world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nitial state (a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Actio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Move(x,y),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Clear(x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lear(y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On(x,z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On(x,y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Clear(z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On(x,z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Clear(y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The agent first need to formulate a goal: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On(C,D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On(D,B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lan is created incrementally, return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oOp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and check percept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88920" y="1989000"/>
            <a:ext cx="7531200" cy="192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571F0-4C6A-4778-9F4D-2B5E6C0B234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83EE6-A026-4B9B-BE56-E4C38ABC10E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lock world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ssume that percepts don’t change and this plan is constructed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Ordering constraint between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Move(D,B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and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Move(C,D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tart is label of current state during planning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Before the agent can execute the plan, nature intervenes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D is moved onto B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90680" y="2190600"/>
            <a:ext cx="8529480" cy="1521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 rot="20134200">
            <a:off x="3581280" y="2742840"/>
            <a:ext cx="1981440" cy="457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15A7B-FE9D-4C84-9767-FF83718E6BD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04E09-8DE2-4FF2-9C47-2DB4441DB31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lock world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Start contains now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On(D,B)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Agent perceives: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lear(B)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and On(D,G) are no longer tru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Update model of current state (start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Causal links from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Start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to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Move(D,B)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(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Clear(B)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and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On(D,G)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) no longer valid.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Remove causal relations and two PRECOND of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Move(D,B)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are open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Replace action and causal links to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inish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by connecting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Start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 to </a:t>
            </a:r>
            <a:r>
              <a:rPr b="0" i="1" lang="en-US" sz="1800" spc="-1" strike="noStrike">
                <a:solidFill>
                  <a:srgbClr val="5f604a"/>
                </a:solidFill>
                <a:latin typeface="Verdana"/>
              </a:rPr>
              <a:t>Finish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90680" y="2174760"/>
            <a:ext cx="8529480" cy="15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70840-D7F6-42F1-AD51-1257A5E3EBB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16944-2819-487B-8311-E8362893072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lock world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Extending</a:t>
            </a: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: whenever a causal link can be supplied by a previous step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All redundant steps (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Move(D,B) </a:t>
            </a: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and its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 causal links</a:t>
            </a: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) are removed from the plan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Execute new plan, perform action 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Move(C,D)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This removes the step from the plan</a:t>
            </a:r>
            <a:r>
              <a:rPr b="0" i="1" lang="en-US" sz="1700" spc="-1" strike="noStrike">
                <a:solidFill>
                  <a:srgbClr val="7f7358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90680" y="2198520"/>
            <a:ext cx="8529480" cy="15051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52480" y="2819520"/>
            <a:ext cx="548640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6200" y="3276720"/>
            <a:ext cx="200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xtending causal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792A8-1A57-4730-892E-E695ED5CB55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81DAD-FBC2-4CEB-BBA1-C8E7996BAA9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lock world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Execute new plan, perform action </a:t>
            </a:r>
            <a:r>
              <a:rPr b="0" i="1" lang="en-US" sz="2200" spc="-1" strike="noStrike">
                <a:solidFill>
                  <a:srgbClr val="5f604a"/>
                </a:solidFill>
                <a:latin typeface="Verdana"/>
              </a:rPr>
              <a:t>Move(C,D)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Assume agent is clumsy and drops C on A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No plan but still an open PRECOND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Determine new plan for open condition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Again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 Move(C,D)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90680" y="2157480"/>
            <a:ext cx="852948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394A7-5060-4C20-9F16-C2382699B62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530F8-E5A4-4ED5-9F76-25EE81E1AD9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Block world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0320" y="4070160"/>
            <a:ext cx="8529480" cy="19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Similar to POP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On each iteration find plan-flaw and fix it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Possible flaws: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Missing goal, Open precondition, Causal conflict, Unsupported link, Redundant action, Unexecuted action, unnecessary historical goal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f7358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90680" y="2297160"/>
            <a:ext cx="8529480" cy="130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B7E1E-7535-4754-875D-D22AEB6DC63D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14BE1-949C-4FD3-BA8C-A1CB9937FD9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ulti-agent plann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o far we only discussed single-agent environment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ther agents can simply be added to the model of the world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Poor performance since agents are not indifferent ot other agents’ intention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n general two types of multi-agent environments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operativ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mpetitive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19B7E-7675-4BAC-BAB7-EBF5EFE0358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71429-627C-4154-8F8F-66EAA4CC115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operation: Joint goals and plan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Multi-planning problem: assume double tennis example where agents want to return ball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gents(A,B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Init(At(A,[Left,Baseline])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B,[Right, Net]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pproaching(Ball,[Right, Baseline]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PArtner(A,B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Partner(B,A))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Goal(Returned(Ball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agent,[x,Net]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Hit(agent, Ball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pproaching(Ball,[x,y]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agent,[x,y]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Partner(agent, partner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partner,[x,y]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Returned(Ball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Go(agent,[x,y]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agent,[a,b]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t(agent,[x,y]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At(agent,[a,b]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2514600"/>
            <a:ext cx="160020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5E710-261F-4851-A95F-8A9B0516134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BADB5-9173-4329-8684-C7D71EA6162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Cooperation: Joint goals and plans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 solution is a 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joint-plan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consisting of actions for both agents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xample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: [Go(A,[Right, Baseline]), Hit(A,Ball)]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B: [NoOp(B), NoOp(B)]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Or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: [Go(A,[Left, net), NoOp(A)]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B: [Go(B,[Right, Baseline]), Hit(B, Ball)]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Coordination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is required to reach same joint plan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07234-0C7B-4791-A706-7528FFC009D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52DA8-EE69-496F-8C67-FE9AC29D6EC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lanning vs. scheduling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How does the problem differ from a standard planning problem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When does an action start and when does it end?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So next ot order (planning) duration is also considere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Duration(d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Critical path method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is used to determine start and end times: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ath = linear sequence from start to en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ritical path = path with longest total dura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Determines the duration of the entire plan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Critical path should be executed without delay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C1347-7B9C-4015-9799-3A00BFA11B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7C3CD-A4E8-4BA1-AEFD-B78C80D352C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ulti-body planning 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Planning problem faced by a single centralized agent that can dictate action to each of several physical entities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Hence not truly multi-agent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mportant: synchronization of action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ssume for simplicity that every action takes one time step and at each point in the joint plan the actions are performed simultaneously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[&lt;Go(A,[Left,Net]), Go(B,[Right,Baseline]&gt;;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&lt;NoOp(A), Hit(B, Ball)&gt;]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lanning can be performed using POP applied to the set of all possible joint actions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Size of this set???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D1D46-3FBD-4735-AE6B-9949814FAFE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FF62F-9D39-415D-8704-36BC2D4DEA5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ulti-body planning 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lternative to set of all joint actions: add extra concurrency lines to action descrip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ncurrent actio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Action(Hit(A, Ball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CONCURRENT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: </a:t>
            </a:r>
            <a:r>
              <a:rPr b="0" i="1" lang="en-US" sz="13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Hit(B,Ball) 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PRECOND: 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Approaching(Ball,[x,y]) </a:t>
            </a:r>
            <a:r>
              <a:rPr b="0" i="1" lang="en-US" sz="13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 At(A,[x,y]) 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EFFECT: 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Returned(Ball)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Required actions (carrying object by two agents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Action(Carry(A, cooler, here, there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CONCURRENT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: Carry(B,cooler, here there) 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300" spc="-1" strike="noStrike">
                <a:solidFill>
                  <a:srgbClr val="7f7358"/>
                </a:solidFill>
                <a:latin typeface="Verdana"/>
              </a:rPr>
              <a:t>PRECOND: </a:t>
            </a:r>
            <a:r>
              <a:rPr b="0" i="1" lang="en-US" sz="1300" spc="-1" strike="noStrike">
                <a:solidFill>
                  <a:srgbClr val="7f7358"/>
                </a:solidFill>
                <a:latin typeface="Verdana"/>
              </a:rPr>
              <a:t>…)</a:t>
            </a:r>
            <a:endParaRPr b="0" lang="en-US" sz="13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604a"/>
                </a:solidFill>
                <a:latin typeface="Verdana"/>
              </a:rPr>
              <a:t>Planner similar to POP with some small changes in possible ordering relations</a:t>
            </a:r>
            <a:endParaRPr b="0" lang="en-US" sz="2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46B22-93CF-469A-8D4F-D7E1355F30F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EAE38-207E-4D6C-892D-DE42322CB8C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ordination mechanism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To ensure agreement on joint plan: use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convention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vention = a constraint on the selection of joint plans (beyond the constraint that the joint plan must work if the agents adopt it)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e.g. stick to your court or one player stays at the net.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onventions which are widely adopted= social laws e.g. languag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an be domain-specific or independent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ould arise through evolutionary process (flocking behavior)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3E21E-C2C0-4E65-BBCE-AD4FC2C64E4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D10C9-E675-4F35-9307-3695ABBD31B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locking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Three rules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Separation: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teer away from neighbors when you get too close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Cohesion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teer toward the average position of neighbors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Alignment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teer toward average orientation (heading) of neighbor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Flock exhibits </a:t>
            </a:r>
            <a:r>
              <a:rPr b="0" i="1" lang="en-US" sz="3600" spc="-1" strike="noStrike">
                <a:solidFill>
                  <a:srgbClr val="5f604a"/>
                </a:solidFill>
                <a:latin typeface="Verdana"/>
              </a:rPr>
              <a:t>emergent behavior</a:t>
            </a: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 of flying as a pseudo-rigid body.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08D50-0FAC-4D29-AE62-348B723D2C3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20EC8-BE67-4CEB-90C6-44FF4229B11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ordination mechanisms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In the absence of conventions: Communication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 Mine! Or Yours! in tennis example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he burden of arriving at a succesfull joint plan can be placed on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Agent designer (agents are reactive, no explicit models of other agents)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Agent (agents are deliberative, model of other agents required)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15991-C631-44BC-99D9-D9ACBC893E8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B7488-ACF7-4F6A-B74C-7DA3BDB58E6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mpetitive environment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gents can have conflicting utilities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e.g. zero-sum games like ches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 agent must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Recognize that there are other agent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mpute some of the other agents plan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mpute how the other agents interact with its own plan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Decide on the best action in view of these interactions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Model of other agent is required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YET, no commitment to joint action plan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3B58B-5240-44D9-A4C4-EE6BC98372B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0C615-EB68-4C2F-B827-1C879001AA4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S and L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arliest possible (ES) and latest possible (LS) start time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LS-ES = slack of an ac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for all actions determines the schedule for the entire problem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ES(Start) = 0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ES(B)=max</a:t>
            </a:r>
            <a:r>
              <a:rPr b="0" i="1" lang="en-US" sz="1600" spc="-1" strike="noStrike" baseline="-25000">
                <a:solidFill>
                  <a:srgbClr val="7f7358"/>
                </a:solidFill>
                <a:latin typeface="Verdana"/>
              </a:rPr>
              <a:t>A&lt;B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ES(A) + Duration(A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LS(Finish)=ES(Finish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LS(A) = min</a:t>
            </a:r>
            <a:r>
              <a:rPr b="0" i="1" lang="en-US" sz="1600" spc="-1" strike="noStrike" baseline="-25000">
                <a:solidFill>
                  <a:srgbClr val="7f7358"/>
                </a:solidFill>
                <a:latin typeface="Verdana"/>
              </a:rPr>
              <a:t>A&lt;B</a:t>
            </a:r>
            <a:r>
              <a:rPr b="0" i="1" lang="en-US" sz="1600" spc="-1" strike="noStrike">
                <a:solidFill>
                  <a:srgbClr val="7f7358"/>
                </a:solidFill>
                <a:latin typeface="Verdana"/>
              </a:rPr>
              <a:t> LS(B) -Duration(A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lexity is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O(Nb)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(given a PO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791D9-2D91-4ED4-8B9C-0053C82A31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0E374-5E33-4B9F-975E-2566DE89D9F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cheduling with resourc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Resource constraints = required material or objects to perform task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Reusable resource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 resource that is occupied during an action but becomes available when the action is finished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Require extension of action syntax: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Resource:R(k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k units of resource are required by the action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s a pre-requisite before the action can be performed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source can not be used for k time units by other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0BBC3-B236-4E91-BF2D-8ED98FF350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44CE3-7473-4185-B60D-8F9CAECC5B9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ar example with resourc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Init(Chassis(C1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Chassis(C2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Engine(E1,C1,30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Engine(E1,C2,60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Wheels(W1,C1,30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Wheels(W2,C2,15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EngineHoists(1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WheelStations(1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Inspectors(2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Goal(Done(C1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Done(C2)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AddEngine(e,c,m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Engine(e,c,d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Chassis(c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¬EngineIn(c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EngineIn(c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Duration(d),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RESOURCE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: EngineHoists(1)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AddWheels(w,c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Wheels(w,c,d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Chassis(c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WheelsOn(c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Duration(d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RESOURCE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: WheelStations(1)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Action(Inspect(c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PRECOND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EngineIn(c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WheelsOn(c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Chassis(c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EFFECT: 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Done(c) </a:t>
            </a:r>
            <a:r>
              <a:rPr b="0" i="1" lang="en-US" sz="16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 Duration(10)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RESOURCE</a:t>
            </a:r>
            <a:r>
              <a:rPr b="0" i="1" lang="en-US" sz="1600" spc="-1" strike="noStrike">
                <a:solidFill>
                  <a:srgbClr val="5f604a"/>
                </a:solidFill>
                <a:latin typeface="Verdana"/>
              </a:rPr>
              <a:t>: Inspectors(1))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5791320"/>
            <a:ext cx="1676520" cy="4572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12400" y="58672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ggreg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2C5F5-7394-4308-82F2-95BF2915C5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9516E-8261-41E6-AB25-B2DC72C507A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2:20:05Z</dcterms:created>
  <dc:creator>Eric Gurevitz</dc:creator>
  <dc:description/>
  <dc:language>en-US</dc:language>
  <cp:lastModifiedBy>Tom Lenaerts</cp:lastModifiedBy>
  <cp:lastPrinted>2006-05-05T09:07:06Z</cp:lastPrinted>
  <dcterms:modified xsi:type="dcterms:W3CDTF">2006-05-05T12:01:11Z</dcterms:modified>
  <cp:revision>1075</cp:revision>
  <dc:subject/>
  <dc:title>CMSC 723: Introduction to  Computational Linguistics</dc:title>
</cp:coreProperties>
</file>