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9E7A-32EF-42A1-9FA4-0176747F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CB7D-92E1-41A4-BBB1-863BEB0A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A5D83-41F5-490A-820D-8184B8AD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9E047-B134-4EEA-A360-370EF980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7455-6929-4091-B493-F96CC84A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1358-4A68-4F6C-B818-63B18BB3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7060-5E51-4E49-B8BA-E9F95F25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DE9B-6074-4115-8987-4371F881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AB72-6076-4613-A90E-D14F685E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4A5C-A74A-4A22-B34B-2C5312FC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BD8C-AA60-40DC-854B-AC5D8D8D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56E84-FF33-4CC4-BD03-B42ECC00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3147-B110-44B9-A8C6-FED6C626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2C1F-1184-400D-A8D2-37816C08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845F-3CE6-4181-8DD8-67C8E250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28A4-9474-4095-B358-FD939C81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8609-1989-4F4E-887A-28C2D579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46FB1-617B-49AE-B67E-1BDB5BBF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D44C-2A76-4227-A6C3-E22EE17E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EB36-8BFC-4BD5-9CA3-F42428FB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A654-4756-48D2-8CEB-5C630B1C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5833-3AFF-4A46-9920-769FAA76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7EB91-817E-4F2F-9907-6E02C48D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5D0E-22A4-417E-B5C4-F0928D9E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C737-A283-4F63-8385-DAED1BBB5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2658-9C1B-4224-BA5F-3B4EE60298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upsoa.com/" TargetMode="External"/><Relationship Id="rId2" Type="http://schemas.openxmlformats.org/officeDocument/2006/relationships/hyperlink" Target="http://www.rupsoa.com/" TargetMode="External"/><Relationship Id="rId3" Type="http://schemas.openxmlformats.org/officeDocument/2006/relationships/hyperlink" Target="http://www.rupsoa.com/" TargetMode="External"/><Relationship Id="rId4" Type="http://schemas.openxmlformats.org/officeDocument/2006/relationships/hyperlink" Target="http://www.rupsoa.com/" TargetMode="External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P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نقش ها 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تحلیل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2- </a:t>
            </a: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مجموع نقش های تولید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تست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مدیرا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اضاف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bl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ew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ex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ore procedur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و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...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طلاع از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هارت های برنلمه نویس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یی با تست و ابزار های خود کار سازی تس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پیاده سازی اجزاء سیستم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رفع عیوب نرم افزا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نجام تست های اولی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ller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ساخت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o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تمع سازی در سطح عملکرد ه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تمع سازی در سطح عملکرد هر زی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 rtl="1"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fa-IR" sz="4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 _x000b__x000b__x000b__x000b_</a:t>
            </a:r>
            <a:r>
              <a:rPr b="1" lang="fa-IR" sz="3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سایت تخصصی تحلیل و طراحی نرم افزار </a:t>
            </a:r>
            <a:br>
              <a:rPr sz="3800"/>
            </a:br>
            <a:br>
              <a:rPr sz="3800"/>
            </a:br>
            <a:r>
              <a:rPr b="1" lang="en-US" sz="3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 WWW.RUPSOA.COM</a:t>
            </a:r>
            <a:r>
              <a:rPr b="1" lang="en-US" sz="3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 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2600"/>
            </a:br>
            <a:br>
              <a:rPr sz="3000"/>
            </a:br>
            <a:br>
              <a:rPr sz="3000"/>
            </a:br>
            <a:r>
              <a:rPr b="1" lang="en-US" sz="30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Content Placeholder 3" descr="RUPSOA.gif"/>
          <p:cNvPicPr/>
          <p:nvPr/>
        </p:nvPicPr>
        <p:blipFill>
          <a:blip r:embed="rId5"/>
          <a:stretch/>
        </p:blipFill>
        <p:spPr>
          <a:xfrm>
            <a:off x="2133720" y="4419720"/>
            <a:ext cx="4628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46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مجموع نقش های تولید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Archit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Architect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-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 Code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- Data 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-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- 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- Integra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t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امنه نرم افزار از طریق شناخت نیازمندی های نرم افزا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der Ship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هدایت مسائل تکنی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unication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ارتباط مناسب با مدیر پروژه ؛ کاربران ؛ اعضای   تیم های مختلف پروژ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al – Oriented And Proactive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actively   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هدف گرایی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تخاذ تصمیمات مناسب در شرایط بحرانی و پیش بینی نشده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tect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شناسایی عیوب معمار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شخیص و پیش بینی خطرات احتمال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طرح کردن پیامد های حسا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مهارت ها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Case Modeling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 تحلیل و طراحی شیئ گر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fied Modeling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ولوژی پیاده سازی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D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درک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6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قوانین تست د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M Plan in Specific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 به قواعد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5100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نطباق نیازمندی ها با یکدی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هماهنگی نیاز های سطح بال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ss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tribut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ration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on Ship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مرکز دقیق بر مسائل تکنی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طرح نمودن نقایص طراح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بررسی نقایص و نقاط حساس از نظر هزین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 طراحی و تحلیل شیئ گرایی پایگاه داد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دیریت پیگاه داد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رکی از زبان پیاده سازی و محی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یی با ارتباطات پیگاه داده با شبک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hid</cp:lastModifiedBy>
  <dcterms:modified xsi:type="dcterms:W3CDTF">2006-03-02T02:13:0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