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8164-17B7-4131-8721-E9D141FB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181E-A2C5-45F5-82F8-64396EC2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75B0-E16A-45A5-A040-2A955961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BE1E-AAD5-43BB-942C-F710B50F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B911-1DA7-4DEA-B1C5-21984E26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8B79-C7E4-4317-A461-5E3BD7E2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F8CA-68FD-4B69-97EE-BDD3D026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78B6-0FB4-470D-8361-D3ED66D1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DB2B-AD20-4112-AD8A-B10681CD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00C1-07AF-4A95-9FE5-46EF8E3A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2FD6-9DFA-40A8-9DB7-B31EF19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616D-F850-4F90-BAF9-546488BC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3C88-9D46-435A-B60D-CF637E71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0A69-C09B-48D9-8CC1-484AE87F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ED67-03D2-46C4-B60F-119051E5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3AF9-43B3-45A3-A424-C4D5216A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4C51-56C1-4A57-BD9C-CA4CE097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A11E-7268-4642-9675-39EFF752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F6CD-5636-49A0-9492-F0B0DDEA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E103-ECCC-4EC1-A30E-B719BA78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EA31-062E-4D2C-989F-C99855C0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04CB-14D6-4601-A2BA-3D4C4F3C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2064-BAC2-4DE1-994F-E12211C0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3B56-7208-4C5D-A78B-DBD335DE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4E6-5001-4897-BC94-7F4898818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966-9DB6-495C-B01C-9AE51C5A3B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psoa.com/" TargetMode="External"/><Relationship Id="rId2" Type="http://schemas.openxmlformats.org/officeDocument/2006/relationships/hyperlink" Target="http://www.rupsoa.com/" TargetMode="External"/><Relationship Id="rId3" Type="http://schemas.openxmlformats.org/officeDocument/2006/relationships/hyperlink" Target="http://www.rupsoa.com/" TargetMode="External"/><Relationship Id="rId4" Type="http://schemas.openxmlformats.org/officeDocument/2006/relationships/hyperlink" Target="http://www.rupsoa.com/" TargetMode="External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P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نقش ها 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حلیل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2- </a:t>
            </a: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ست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مدیرا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اضاف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w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x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procedur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و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...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طلاع از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هارت های برنلمه نویس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تست و ابزار های خود کار سازی ت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پیاده سازی اجزاء سیستم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رفع عیوب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جام تست های اول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ller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ساخت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زی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a-IR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_x000b__x000b__x000b__x000b_</a:t>
            </a:r>
            <a:r>
              <a:rPr b="1" lang="fa-IR" sz="3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سایت تخصصی تحلیل و طراحی نرم افزار </a:t>
            </a:r>
            <a:br>
              <a:rPr sz="3800"/>
            </a:br>
            <a:br>
              <a:rPr sz="3800"/>
            </a:b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WWW.RUPSOA.COM</a:t>
            </a: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26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Content Placeholder 3" descr="RUPSOA.gif"/>
          <p:cNvPicPr/>
          <p:nvPr/>
        </p:nvPicPr>
        <p:blipFill>
          <a:blip r:embed="rId5"/>
          <a:stretch/>
        </p:blipFill>
        <p:spPr>
          <a:xfrm>
            <a:off x="2133720" y="4419720"/>
            <a:ext cx="4628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Code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Data 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-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- 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 Integ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امنه نرم افزار از طریق شناخت نیازمندی های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der Ship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ایت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ارتباط مناسب با مدیر پروژه ؛ کاربران ؛ اعضای   تیم های مختلف پروژ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al – Oriented And Proactive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actively   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ف گرای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تخاذ تصمیمات مناسب در شرایط بحرانی و پیش بینی نشده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شناسایی عیوب معما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شخیص و پیش بینی خطرات احتمال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کردن پیامد های حسا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مهارت ها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ase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تحلیل و طراحی شیئ گر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ied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ولوژی پیاده سازی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درک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قوانین تست د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M Plan in Specific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 به قواعد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510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طباق نیازمندی ها با یکدی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هماهنگی نیاز های سطح بال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ribut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tion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 Ship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مرکز دقیق بر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نمودن نقایص طراح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بررسی نقایص و نقاط حساس از نظر هزین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طراحی و تحلیل شیئ گرایی پا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دیریت پ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رکی از زبان پیاده سازی و مح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ارتباطات پیگاه داده با شبک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hid</cp:lastModifiedBy>
  <dcterms:modified xsi:type="dcterms:W3CDTF">2006-03-02T02:13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