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DBF64-ECEE-44E8-A20D-975AD88D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75BE0-E1C6-49DA-AA03-E59423BA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29ACD-456E-481D-9FC0-2E633658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98ED-15FC-4CED-9ABF-597C4247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BB72-3EAB-4812-9E91-8F0551E7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1BBD-6E83-49F3-894B-E064CAF8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089B-730D-49D1-874B-8547FFC3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F3EF-12E2-4036-AD8B-7572CA38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6EB3-A71E-49B2-A07B-94D02E62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7587-7450-4C41-B2DA-61A03E24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9760-BF52-4CBB-B53E-35A95AE3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55AB0-CEF6-44F2-A74E-F45F57D4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8537-F4D6-4AEA-B9CF-C39B8D3F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E317-1598-4259-81C7-9311C3F6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3AE9-A987-4B26-AD99-F3B20B2C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4945-F49A-4EAD-9388-3A39C0C4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0C44-C273-4925-B698-C5A3C121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56BDD-D95C-472D-80CC-CEAAEB8F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C3238-E818-4ABE-A7AA-AF3AA33C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F3D0E-EF65-4555-8998-AF29E377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9B747-FE40-42F8-AA88-E69ADFE8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7D3C6-AEFF-41FC-B6D3-5FD371B9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DA030-0325-4867-9435-B7089BB0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7CFC7-D10A-4D0A-9E09-BF70781E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338E-78A2-488B-89CF-66B38E349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28D8-6981-4D6E-B57C-6C463FBA22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rupsoa.com/" TargetMode="External"/><Relationship Id="rId2" Type="http://schemas.openxmlformats.org/officeDocument/2006/relationships/hyperlink" Target="http://www.rupsoa.com/" TargetMode="External"/><Relationship Id="rId3" Type="http://schemas.openxmlformats.org/officeDocument/2006/relationships/hyperlink" Target="http://www.rupsoa.com/" TargetMode="External"/><Relationship Id="rId4" Type="http://schemas.openxmlformats.org/officeDocument/2006/relationships/hyperlink" Target="http://www.rupsoa.com/" TargetMode="External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P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نقش ها 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تحلیل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2- </a:t>
            </a: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مجموع نقش های تولید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تست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مدیرا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اضاف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bl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ew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ex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ore procedur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و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....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طلاع از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هارت های برنلمه نویس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یی با تست و ابزار های خود کار سازی تس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پیاده سازی اجزاء سیستم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رفع عیوب نرم افزا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نجام تست های اولی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aller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ساخت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to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تمع سازی در سطح عملکرد ه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تمع سازی در سطح عملکرد هر زی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 rtl="1">
              <a:buClr>
                <a:srgbClr val="e5e5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fa-IR" sz="4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 _x000b__x000b__x000b__x000b_</a:t>
            </a:r>
            <a:r>
              <a:rPr b="1" lang="fa-IR" sz="3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سایت تخصصی تحلیل و طراحی نرم افزار </a:t>
            </a:r>
            <a:br>
              <a:rPr sz="3800"/>
            </a:br>
            <a:br>
              <a:rPr sz="3800"/>
            </a:br>
            <a:r>
              <a:rPr b="1" lang="en-US" sz="3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 WWW.RUPSOA.COM</a:t>
            </a:r>
            <a:r>
              <a:rPr b="1" lang="en-US" sz="3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 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2600"/>
            </a:br>
            <a:br>
              <a:rPr sz="3000"/>
            </a:br>
            <a:br>
              <a:rPr sz="3000"/>
            </a:br>
            <a:r>
              <a:rPr b="1" lang="en-US" sz="30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Content Placeholder 3" descr="RUPSOA.gif"/>
          <p:cNvPicPr/>
          <p:nvPr/>
        </p:nvPicPr>
        <p:blipFill>
          <a:blip r:embed="rId5"/>
          <a:stretch/>
        </p:blipFill>
        <p:spPr>
          <a:xfrm>
            <a:off x="2133720" y="4419720"/>
            <a:ext cx="4628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746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مجموع نقش های تولید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- Archit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 Architect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-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- Code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- Data 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-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- 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- Integra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hit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دامنه نرم افزار از طریق شناخت نیازمندی های نرم افزا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ader Ship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هدایت مسائل تکنیک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unication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ارتباط مناسب با مدیر پروژه ؛ کاربران ؛ اعضای   تیم های مختلف پروژ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al – Oriented And Proactive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actively   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هدف گرایی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تخاذ تصمیمات مناسب در شرایط بحرانی و پیش بینی نشده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hitect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شناسایی عیوب معمار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شخیص و پیش بینی خطرات احتمال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طرح کردن پیامد های حسا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مهارت ها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Case Modeling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 تحلیل و طراحی شیئ گر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fied Modeling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ولوژی پیاده سازی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D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درک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6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قوانین تست د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M Plan in Specific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 به قواعد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5100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نطباق نیازمندی ها با یکدی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هماهنگی نیاز های سطح بال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ass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tribut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ration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on Ship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ag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ign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مرکز دقیق بر مسائل تکنیک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طرح نمودن نقایص طراح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بررسی نقایص و نقاط حساس از نظر هزین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 طراحی و تحلیل شیئ گرایی پایگاه داده ه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دیریت پیگاه داده ه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درکی از زبان پیاده سازی و محی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یی با ارتباطات پیگاه داده با شبک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hid</cp:lastModifiedBy>
  <dcterms:modified xsi:type="dcterms:W3CDTF">2006-03-02T02:13:0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