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AB5D-815B-4F88-860F-5E244B53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0B15-13D5-4513-B6A7-5BF63BFE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FB03-12FE-4C16-B227-724A05F0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C84D-4EE8-4FFD-AD0D-0D68FDA1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4B54-7DA9-4D27-8783-64D1DD13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E359-EC33-4CD5-B17C-7F4F643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2D9B-AE1B-41C9-895B-490C19D9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725B-0612-4A50-9FAD-2A067EE0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8950-9C1A-4B02-9490-C99FAF3F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F937-F379-4E29-B3E7-C86E04B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878-AE81-472B-B9EC-41A2B4F1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1234-C90B-4643-873C-DC12D918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91E8-EB37-4EC2-A98A-03051DFC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8617-D7C1-410C-ABAE-D9A264E5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DB68-E2CD-456B-A71E-602C9CFC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4C0E-8634-4D41-9EC9-6AC0EF25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8C82-0FD4-4FB8-8F51-570D05A6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8D69-14D4-4492-95E2-5048D393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BB9F-A5AC-4A5E-805D-0C141E58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3055-1068-4034-B22F-A42DB84A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7E2C-7DBF-49C7-A1DC-1F694369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F27C-7C7D-4AB8-BA09-74EF642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D094-D731-4389-AA7A-B0EA7C5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F7E8-17AD-4217-9AFB-1686C5F7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DEC1-99B4-4059-91AA-20AC49E1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3BA2-3D14-48CF-B593-9C813AB0C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psoa.com/" TargetMode="External"/><Relationship Id="rId2" Type="http://schemas.openxmlformats.org/officeDocument/2006/relationships/hyperlink" Target="http://www.rupsoa.com/" TargetMode="External"/><Relationship Id="rId3" Type="http://schemas.openxmlformats.org/officeDocument/2006/relationships/hyperlink" Target="http://www.rupsoa.com/" TargetMode="External"/><Relationship Id="rId4" Type="http://schemas.openxmlformats.org/officeDocument/2006/relationships/hyperlink" Target="http://www.rupsoa.com/" TargetMode="External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P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نقش ها 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حلیل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2- </a:t>
            </a: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ست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مدیرا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اضاف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w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x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procedur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و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...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طلاع از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هارت های برنلمه نویس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تست و ابزار های خود کار سازی ت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پیاده سازی اجزاء سیستم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رفع عیوب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جام تست های اول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ller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ساخت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زی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a-IR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_x000b__x000b__x000b__x000b_</a:t>
            </a:r>
            <a:r>
              <a:rPr b="1" lang="fa-IR" sz="3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سایت تخصصی تحلیل و طراحی نرم افزار </a:t>
            </a:r>
            <a:br>
              <a:rPr sz="3800"/>
            </a:br>
            <a:br>
              <a:rPr sz="3800"/>
            </a:b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WWW.RUPSOA.COM</a:t>
            </a: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26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Content Placeholder 3" descr="RUPSOA.gif"/>
          <p:cNvPicPr/>
          <p:nvPr/>
        </p:nvPicPr>
        <p:blipFill>
          <a:blip r:embed="rId5"/>
          <a:stretch/>
        </p:blipFill>
        <p:spPr>
          <a:xfrm>
            <a:off x="2133720" y="4419720"/>
            <a:ext cx="4628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Code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Data 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-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- 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 Integ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امنه نرم افزار از طریق شناخت نیازمندی های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der Ship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ایت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ارتباط مناسب با مدیر پروژه ؛ کاربران ؛ اعضای   تیم های مختلف پروژ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al – Oriented And Proactive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actively   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ف گرای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تخاذ تصمیمات مناسب در شرایط بحرانی و پیش بینی نشده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شناسایی عیوب معما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شخیص و پیش بینی خطرات احتمال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کردن پیامد های حسا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مهارت ها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ase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تحلیل و طراحی شیئ گر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ied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ولوژی پیاده سازی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درک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قوانین تست د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M Plan in Specific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 به قواعد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510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طباق نیازمندی ها با یکدی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هماهنگی نیاز های سطح بال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ribut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tion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 Ship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مرکز دقیق بر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نمودن نقایص طراح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بررسی نقایص و نقاط حساس از نظر هزین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طراحی و تحلیل شیئ گرایی پا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دیریت پ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رکی از زبان پیاده سازی و مح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ارتباطات پیگاه داده با شبک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hid</cp:lastModifiedBy>
  <dcterms:modified xsi:type="dcterms:W3CDTF">2006-03-02T02:13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