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BA13E-2359-42C0-BBF0-9CFA04C3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49975-9CE0-43D5-8CED-8F35D33E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8378D-E0C8-4FE1-90DD-7741D968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68C33-84C1-4869-8711-C5150C9D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5D25-75FB-4EF4-AF39-92844715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1C1B-CB98-44D1-8053-FEB97477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6F93-43C6-4D4A-BEE0-913800EF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0730-FD69-4B33-8794-1DFDB1B2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CD03-C612-4A57-B1D7-B8D85825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91A7-1D84-4C9E-B626-B4A5C030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F904-3BE2-435C-9BEE-D6D06AC4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9B480-436A-4926-AA84-EEC8A821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2F3A-9945-4F00-A0C2-0C91A54C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E003-8BD6-492B-9990-B5E29C3B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3298-6D2E-4BCE-A7CA-805AB035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B796-7071-4ED1-8211-0F9E0E77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3713-666E-45EA-8363-3CDE2BEA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2FE4D-939D-4120-9DC9-5A083C31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6DF31-77A0-4D07-94DE-204C1C72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26467-6DA6-4C4A-8159-C18F4E6F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9328F-ED14-4913-863D-5E6B4596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B4D25-B36A-462D-8D60-0F33444A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968BB-E401-4336-979D-AD0F5DF3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DEB02-D794-4C06-8F9B-E5FBDB3B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938C-1848-4DD4-A14D-5D8E105B1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013B-DC4D-41FB-9A3C-E36ABBFAC9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rupsoa.com/" TargetMode="External"/><Relationship Id="rId2" Type="http://schemas.openxmlformats.org/officeDocument/2006/relationships/hyperlink" Target="http://www.rupsoa.com/" TargetMode="External"/><Relationship Id="rId3" Type="http://schemas.openxmlformats.org/officeDocument/2006/relationships/hyperlink" Target="http://www.rupsoa.com/" TargetMode="External"/><Relationship Id="rId4" Type="http://schemas.openxmlformats.org/officeDocument/2006/relationships/hyperlink" Target="http://www.rupsoa.com/" TargetMode="External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P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نقش ها د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تحلیلگ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 u="sng">
                <a:solidFill>
                  <a:srgbClr val="ffffff"/>
                </a:solidFill>
                <a:uFillTx/>
                <a:latin typeface="Garamond"/>
              </a:rPr>
              <a:t>2- </a:t>
            </a:r>
            <a:r>
              <a:rPr b="1" i="1" lang="fa-IR" sz="3200" spc="-1" strike="noStrike" u="sng">
                <a:solidFill>
                  <a:srgbClr val="ffffff"/>
                </a:solidFill>
                <a:uFillTx/>
                <a:latin typeface="Garamond"/>
              </a:rPr>
              <a:t>مجموع نقش های تولید کنند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تست کنند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مدیرا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موع نقش های اضاف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bas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bl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ew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ex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ore procedur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و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....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lem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خصص ها و تجربی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طلاع از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هارت های برنلمه نویس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آشنایی با تست و ابزار های خود کار سازی تس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lem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پیاده سازی اجزاء سیستم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رفع عیوب نرم افزا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نجام تست های اولی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aller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ساخت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to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تمع سازی در سطح عملکرد هر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جتمع سازی در سطح عملکرد هر زیر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 rtl="1">
              <a:buClr>
                <a:srgbClr val="e5e5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fa-IR" sz="4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 _x000b__x000b__x000b__x000b_</a:t>
            </a:r>
            <a:r>
              <a:rPr b="1" lang="fa-IR" sz="3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سایت تخصصی تحلیل و طراحی نرم افزار </a:t>
            </a:r>
            <a:br>
              <a:rPr sz="3800"/>
            </a:br>
            <a:br>
              <a:rPr sz="3800"/>
            </a:br>
            <a:r>
              <a:rPr b="1" lang="en-US" sz="3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 WWW.RUPSOA.COM</a:t>
            </a:r>
            <a:r>
              <a:rPr b="1" lang="en-US" sz="3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 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2600"/>
            </a:br>
            <a:br>
              <a:rPr sz="3000"/>
            </a:br>
            <a:br>
              <a:rPr sz="3000"/>
            </a:br>
            <a:r>
              <a:rPr b="1" lang="en-US" sz="30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Content Placeholder 3" descr="RUPSOA.gif"/>
          <p:cNvPicPr/>
          <p:nvPr/>
        </p:nvPicPr>
        <p:blipFill>
          <a:blip r:embed="rId5"/>
          <a:stretch/>
        </p:blipFill>
        <p:spPr>
          <a:xfrm>
            <a:off x="2133720" y="4419720"/>
            <a:ext cx="46288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746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 u="sng">
                <a:solidFill>
                  <a:srgbClr val="ffffff"/>
                </a:solidFill>
                <a:uFillTx/>
                <a:latin typeface="Garamond"/>
              </a:rPr>
              <a:t>مجموع نقش های تولید کنند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- Archit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 Architect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-Capsul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- Code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- Data Bas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-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- Implem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- Integra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hit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جربی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دامنه نرم افزار از طریق شناخت نیازمندی های نرم افزا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ader Ship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هدایت مسائل تکنیک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unication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ارتباط مناسب با مدیر پروژه ؛ کاربران ؛ اعضای   تیم های مختلف پروژ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al – Oriented And Proactive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actively   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هدف گرایی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تخاذ تصمیمات مناسب در شرایط بحرانی و پیش بینی نشده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hitect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شناسایی عیوب معمار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شخیص و پیش بینی خطرات احتمال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طرح کردن پیامد های حسا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sul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خصص ها و مهارت ها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Case Modeling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یک ها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یک های تحلیل و طراحی شیئ گر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fied Modeling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ولوژی پیاده سازی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D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وانایی درک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6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قوانین تست در سیست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M Plan in Specific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آشنا به قواعد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5100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sul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نطباق نیازمندی ها با یکدیگ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هماهنگی نیاز های سطح بال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ass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tribut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ration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on Ship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ages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5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ign Revie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عمل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مرکز دقیق بر مسائل تکنیک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طرح نمودن نقایص طراح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بررسی نقایص و نقاط حساس از نظر هزین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base Desig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خصص ها و تجربی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کنیک های طراحی و تحلیل شیئ گرایی پایگاه داده ه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دیریت پیگاه داده ه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درکی از زبان پیاده سازی و محی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4-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آشنایی با ارتباطات پیگاه داده با شبک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hid</cp:lastModifiedBy>
  <dcterms:modified xsi:type="dcterms:W3CDTF">2006-03-02T02:13:0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