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ACD7B-166C-480A-B49D-C0F15817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2BFB4-F6AB-4F66-ACAD-39485066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8B7C2-E5A2-4FC1-BB51-F2832CD38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0173A-A11E-43B1-BBC3-340F93D9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997B-60AA-4419-B8C0-6B9D04CC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9399-B3A7-478D-A76E-15982D4D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2D27-AA9C-4207-8DE7-2FAC445B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6F65-2C4F-4D95-A321-A7FE8FC2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4C21-0C62-4675-B414-703FBA5C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BFA6-CCE1-47D4-B484-D64E816A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156F-6A30-4B9D-A9DB-8DDA9F6B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454F6-8904-4124-83CC-CF85E485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9556-CBF6-4AB5-ADD3-500A2840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968B-5327-4DCE-B361-C915E86F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E59E-B0FE-440B-80D6-EE5B4987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CD4E-79FC-48BD-BF8D-A1BFC66E2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FBA7-1F08-4916-9A07-CC81F592F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226E2-1FBE-47F3-8312-44CA0CC9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D1666-0E79-4C51-9E05-CC3594C6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5940D-11E8-41B0-938B-2EDB17BD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D8349-9F89-41B3-87A7-6B901B53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73EB9-242D-41A0-B63A-54F94C56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C4F65-4E89-495D-937A-94929A39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2C941-F885-405F-81FF-58FD1688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46D0-CBC2-4648-BA46-0DA437CF3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B03D-8650-422B-8795-CD4358F672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rupsoa.com/" TargetMode="External"/><Relationship Id="rId2" Type="http://schemas.openxmlformats.org/officeDocument/2006/relationships/hyperlink" Target="http://www.rupsoa.com/" TargetMode="External"/><Relationship Id="rId3" Type="http://schemas.openxmlformats.org/officeDocument/2006/relationships/hyperlink" Target="http://www.rupsoa.com/" TargetMode="External"/><Relationship Id="rId4" Type="http://schemas.openxmlformats.org/officeDocument/2006/relationships/hyperlink" Target="http://www.rupsoa.com/" TargetMode="External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UP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نقش ها د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جموع نقش های تحلیلگ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200" spc="-1" strike="noStrike" u="sng">
                <a:solidFill>
                  <a:srgbClr val="ffffff"/>
                </a:solidFill>
                <a:uFillTx/>
                <a:latin typeface="Garamond"/>
              </a:rPr>
              <a:t>2- </a:t>
            </a:r>
            <a:r>
              <a:rPr b="1" i="1" lang="fa-IR" sz="3200" spc="-1" strike="noStrike" u="sng">
                <a:solidFill>
                  <a:srgbClr val="ffffff"/>
                </a:solidFill>
                <a:uFillTx/>
                <a:latin typeface="Garamond"/>
              </a:rPr>
              <a:t>مجموع نقش های تولید کنند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جموع نقش های تست کنند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جموع نقش های مدیران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5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جموع نقش های اضاف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tabase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able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ew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dex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ore procedure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5-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و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....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lemen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خصص ها و تجربیات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اطلاع از سیست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هارت های برنلمه نویس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آشنایی با تست و ابزار های خود کار سازی تست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lemen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پیاده سازی اجزاء سیستم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رفع عیوب نرم افزا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انجام تست های اولی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staller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ساختن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grator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جتمع سازی در سطح عملکرد هر سیست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جتمع سازی در سطح عملکرد هر زیر سیست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 rtl="1">
              <a:buClr>
                <a:srgbClr val="e5e5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fa-IR" sz="44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 _x000b__x000b__x000b__x000b_</a:t>
            </a:r>
            <a:r>
              <a:rPr b="1" lang="fa-IR" sz="3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سایت تخصصی تحلیل و طراحی نرم افزار </a:t>
            </a:r>
            <a:br>
              <a:rPr sz="3800"/>
            </a:br>
            <a:br>
              <a:rPr sz="3800"/>
            </a:br>
            <a:r>
              <a:rPr b="1" lang="en-US" sz="38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 WWW.RUPSOA.COM</a:t>
            </a:r>
            <a:r>
              <a:rPr b="1" lang="en-US" sz="38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 </a:t>
            </a: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2600"/>
            </a:br>
            <a:br>
              <a:rPr sz="3000"/>
            </a:br>
            <a:br>
              <a:rPr sz="3000"/>
            </a:br>
            <a:r>
              <a:rPr b="1" lang="en-US" sz="3000" spc="-1" strike="noStrike" u="sng">
                <a:solidFill>
                  <a:srgbClr val="ffcc00"/>
                </a:solidFill>
                <a:uFillTx/>
                <a:latin typeface="Garamond"/>
              </a:rPr>
              <a:t> 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Content Placeholder 3" descr="RUPSOA.gif"/>
          <p:cNvPicPr/>
          <p:nvPr/>
        </p:nvPicPr>
        <p:blipFill>
          <a:blip r:embed="rId5"/>
          <a:stretch/>
        </p:blipFill>
        <p:spPr>
          <a:xfrm>
            <a:off x="2133720" y="4419720"/>
            <a:ext cx="46288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2640" y="609480"/>
            <a:ext cx="7467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200" spc="-1" strike="noStrike" u="sng">
                <a:solidFill>
                  <a:srgbClr val="ffffff"/>
                </a:solidFill>
                <a:uFillTx/>
                <a:latin typeface="Garamond"/>
              </a:rPr>
              <a:t>مجموع نقش های تولید کنند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- Archit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- Architect Revie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-Capsule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- Code Revie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- Data Base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-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- Implemen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- Integrat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chit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جربیات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دامنه نرم افزار از طریق شناخت نیازمندی های نرم افزا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ader Ship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وانایی هدایت مسائل تکنیک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munication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وانایی ارتباط مناسب با مدیر پروژه ؛ کاربران ؛ اعضای   تیم های مختلف پروژ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oal – Oriented And Proactive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actively   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وانایی هدف گرایی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اتخاذ تصمیمات مناسب در شرایط بحرانی و پیش بینی نشده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chitect Revie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شناسایی عیوب معمار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شخیص و پیش بینی خطرات احتمال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طرح کردن پیامد های حسا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sule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خصص ها و مهارت ها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 Case Modeling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کنیک ها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کنیک های تحلیل و طراحی شیئ گرا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ified Modeling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کنولوژی پیاده سازی سیست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D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5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وانایی درک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6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قوانین تست در سیست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M Plan in Specific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آشنا به قواعد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7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51000"/>
            <a:ext cx="8229600" cy="57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sule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انطباق نیازمندی ها با یکدیگ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هماهنگی نیاز های سطح بالا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asse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tribute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ration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lation Ship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ckage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5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sign Revie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مرکز دقیق بر مسائل تکنیک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طرح نمودن نقایص طراح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بررسی نقایص و نقاط حساس از نظر هزین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tabase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خصص ها و تجربیات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کنیک های طراحی و تحلیل شیئ گرایی پایگاه داده ها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دیریت پیگاه داده ها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درکی از زبان پیاده سازی و محی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آشنایی با ارتباطات پیگاه داده با شبک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hid</cp:lastModifiedBy>
  <dcterms:modified xsi:type="dcterms:W3CDTF">2006-03-02T02:13:08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