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6839-C926-496B-A7A9-DDE77D3F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5C9D-4097-4423-AC79-12D435FB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5F1A-D78D-40B6-AC46-D85A9B0A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970A-2427-4A75-B2BA-91C2940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E9C5-C803-4660-893D-311DCC82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96D95-3C91-4F5B-A9BA-D50CF607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F5ECD-7963-44A2-90AC-F2CD4F5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1C00-3F9A-4431-80E2-48F40CF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5875A-E698-4A3D-8784-594EC9E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4431-BE89-480B-9760-A5432FE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E2063-D7C8-4709-915B-FC8A039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4806-50AE-489A-8B11-13326053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97DD-9C9B-4A2F-81B2-FF90C26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DECDE-A0B8-4EE7-95D2-A8BB3A9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0270A-7501-481B-BA49-56C202A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DB06-CED8-4396-B99D-076CC972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62096-F355-40E3-BD33-57B8A698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C2AB-EA16-4F5D-BEE3-0BDEF8FA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5643-CFE3-47CF-8041-6D6088C0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7A65-16C5-4374-824A-C8899B49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F9AB-F0FB-4E52-9471-7DDB39DA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565C-4921-4193-B7D8-7A09430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4E89-5470-48FB-A120-72DFB01C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E3DF-C73F-470B-AFED-2C9372BF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944-3227-4E4C-A239-A4CA83B38F2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54F-668E-45CE-9628-63D80A7AE65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99BC-C992-46D8-899B-B6BB8493A58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14F-A22E-48A2-BD56-3510F3EA9C8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Agents and Propositional Logic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114800"/>
            <a:ext cx="774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lidity and satisfiabi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valid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s,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Tru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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,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,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(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)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Validity is connected to inference via the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Deduction Theorem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|=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f and only if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is vali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satisfiabl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som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, 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unsatisfiabl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no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s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A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atisfiability is connected to inference via the following: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|=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f and only if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is unsatisfiabl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member proof by contradic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A285-C364-49DD-9258-1E7D66B58C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75A28-97C3-4391-AB0F-F6394534E9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ference rules in PL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odens Pone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nd-elimination: from a conjuction any conjunction can be inferred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ll logical equivalences of slide 39 can be used as inference ru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00680" y="1905120"/>
                <a:ext cx="11430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7760" y="3429000"/>
                <a:ext cx="714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Ù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86400" y="4952880"/>
                <a:ext cx="2262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Û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Ù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73FE-8D4D-46E8-877E-C0902605A4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EA452-2B53-43C2-A206-CE958CF263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sume R1 through R5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can we prove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90720" y="2590920"/>
                <a:ext cx="5841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Ø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43000" y="3657600"/>
                <a:ext cx="451476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  <m:r>
                              <m:t xml:space="preserve">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,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ÚP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Ù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,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ÚP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Ø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ÙØ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324120" y="3581280"/>
            <a:ext cx="202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onditional 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ns pon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gan’s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2948-1ABA-41F0-A032-E600CDD3D3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4C79-C9A3-411F-A4DA-6E4D5B5F52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ing for proof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Finding proof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exactly like finding solutions to search problem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arch can be done </a:t>
            </a: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forwar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forward chaining) to derive goal or </a:t>
            </a: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backwar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backward chaining) from the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Searching for proofs is not more efficient than enumerating model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but in many practical cases, it is more efficient because we can ignore irrelevant properties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Monotonic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the set of entailed sentences can only increase as information is added to the knowledge bas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81160" y="5181480"/>
                <a:ext cx="6781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rPr>
                        <m:lit/>
                        <m:nor/>
                      </m:rPr>
                      <m:t xml:space="preserve">any</m:t>
                    </m:r>
                    <m:r>
                      <m:rPr>
                        <m:lit/>
                        <m:nor/>
                      </m:rPr>
                      <m:t xml:space="preserve">sentence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β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then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Ùβ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0134-7EAF-4A9A-8F40-3B375F28E0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3873D-61C7-46CD-8F0F-4E9CA6BD78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of method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Proof methods divide into (roughly) two kinds: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lication of inference rule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egitimate (sound) generation of new sentences from ol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roo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a sequence of inference rule application can use inference rules as operators in a standard search algorith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normal for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del check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uristic search in model space (sound but incomple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min-conflicts-like hill-climbing algorithm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9A9C-D130-403D-80E4-A773A38598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70958-97B5-46A5-9921-6C8AD62088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Unit Resolution Inferenc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solution Rule is a generalization of this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uses of length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159440" cy="77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76240" y="4038480"/>
            <a:ext cx="7391520" cy="70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27320" y="5334120"/>
            <a:ext cx="3244680" cy="86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0660-8EFE-4894-8159-D1989E5027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2D14-3123-4E83-856B-8D83AB8014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in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t some point we can derive the absence of a pit in square 2,2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Now after biconditional elimination of R3 followed by a modens ponens with R5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solution 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49240" y="3024360"/>
                <a:ext cx="6943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Ø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2,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3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62320" y="4572000"/>
                <a:ext cx="22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5181480"/>
                <a:ext cx="3200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A758-0458-4E0D-81FF-47CE005E79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82F88-9E7F-4845-A7F6-2C6A0F4AF5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s CNF (Conjunctive normal form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junction of disjunctions of literals (clause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resolution rule is sound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y entailed sentences are deriv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lution is complete in the sense that it can always be used to either confirm or refute a sentence (it can not be used to enumerate true sentences.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F540-80F5-4A95-B204-44F3DD2868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9EE86-9194-4C9F-AA68-EE57362C69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version to CN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,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P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P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2,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liminat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replacing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 with (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)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ß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liminat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replacing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 with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ov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nwards using de Morgan's rules and double-negation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pply distributivity law (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ver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and flatten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56C6-AF21-4C60-8C24-3DFC962112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88CAA-097E-47D4-8A30-9C2D6349BE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of by contradiction, i.e., show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unsatisfiable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85800" y="2438280"/>
            <a:ext cx="77724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E5E1-407B-4AB7-9BB4-07CA388AF3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E2538-ACC9-4CF6-9D45-C3E6EEF1E2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81421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024C-5CA1-4861-BE05-1BD606460F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C07C6-07B6-4002-A2B0-2BC5AA8F0C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 </a:t>
            </a:r>
            <a:r>
              <a:rPr b="0" i="1" lang="en-US" sz="27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converted into CNF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n apply resolution rule to resulting clause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process continues until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re are no new clauses that can be add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f7358"/>
                </a:solidFill>
                <a:latin typeface="Verdana"/>
              </a:rPr>
              <a:t>does no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enti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ß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wo clauses resolve to entail the empty claus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f7358"/>
                </a:solidFill>
                <a:latin typeface="Verdana"/>
              </a:rPr>
              <a:t>doe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enti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ß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3FA5-E733-4B34-8B3A-55170D80EC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04C29-7D6C-4007-B225-340B2B180B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= (B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2,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)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B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1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6640" y="3429000"/>
            <a:ext cx="80107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20DD-6D25-42C5-B14D-EAD1672F13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8B46C-9F39-453F-B5F7-49EB386E4D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ward and backward chaining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The completeness of resolution makes it a very important inference model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Real-world knowledge only requires a restricted form of clauses: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Horn clauses = disjunction of literals with at most one positive literal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Three important properti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Can be written as an implication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Inference through forward chaining and backward chaining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Deciding entailment can be done in a time linear size of the knowledge base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666880" y="4495680"/>
                <a:ext cx="4724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ØL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ÚØ</m:t>
                        </m:r>
                        <m:r>
                          <m:rPr>
                            <m:lit/>
                            <m:nor/>
                          </m:rPr>
                          <m:t xml:space="preserve">Breeze</m:t>
                        </m:r>
                        <m:sSub>
                          <m:e>
                            <m:r>
                              <m:t xml:space="preserve">Ú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Breeze</m:t>
                        </m:r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EF65-0BEC-43AD-B856-681F8D812C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115EB-FA0E-493A-BC03-D5D497E42B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Idea: fire any rule whose premises are satisfied in the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dd its conclusion to the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, until query is found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971800"/>
            <a:ext cx="5029200" cy="32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C05E-B66B-4336-AAD6-07A37C1864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DECF9-F8D7-4068-A519-AE5D93D70A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ward chaining is sound and complete for Horn KB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2362320"/>
            <a:ext cx="66294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2C50-DAF3-47E5-82C2-8018416A8E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B7D42-B211-480F-81CB-1C1C51FD52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E067-A167-4A1F-955C-7E088899E5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84050-D88C-444D-80AD-02BE3256C7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80A8-2F03-4540-A0AC-2552D4AD1E2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F9CA3-204F-477D-A753-42133714F1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D92F-C560-4C8D-89E8-E563F1691D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9D485-BA9D-4FEF-8A54-3739EEB705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C8DC-EE7D-4918-9FCD-87734B17A9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EF291-E301-4285-A29A-D10628CA92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6143-C1D2-4901-84A2-CD3FEBCC92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AE605-6507-4F2B-B27B-DCDB98DBE2F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305400" cy="41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992-B2B1-492B-B451-39158A0713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AA54E-80F7-4615-AFF9-73CEFA0CDF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9D8A-13B9-4475-A93C-8CFA30C95F7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806BC-20B2-4089-910C-76F0CFF5F6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36AF-4B1C-4552-A9B7-7CD6078D49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1A3DF-F5A8-49D4-B1A9-3C11D25AD30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8A67-AB1E-4E15-AE0D-404348F06F5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20421-4984-409D-8FBC-1C22296A5F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of of completenes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C reaches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xed poin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where no new atomic sentences are deriv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ider the final state as a mode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assigning true/false to symbol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very clause in the origina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true i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k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a model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|=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true i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very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model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including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EA62-4137-4198-9824-DFF1405023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15420-BC99-40D1-AE37-1F5BBB3BA3A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work backwards from the quer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o prov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y BC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heck i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s known already, o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ove by BC all premises of some rule concludin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q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void loops: check if new subgoal is already on the goal stack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void repeated work: check if new subgoa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as already been proved true, o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as already fail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9905-F7F2-4777-900F-5D2E3E99E2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69AED-BB46-4752-B414-296D6EC2D1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4BFB-2826-48D0-A1ED-0EDCEA0E26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3F6B4-2E30-4FB5-83AD-ED3F981AF3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D347-42F2-415C-8B2C-75869BECFC5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F9D44-CD94-4485-8645-B065A62B1D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6C83-8850-4745-B0A4-12969A5A25E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7408C-F84D-427A-B802-589E06099E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BC60-BE79-43AD-9450-79AC4FA561A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EE09F-35B3-45B7-BACC-621C387F5D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63C4-0988-4A7B-9BC2-ACA478BB02B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A7AD8-251E-4625-A19E-F49614E5A9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0680" y="2948040"/>
            <a:ext cx="852948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41F0-D639-4BBA-9AE4-94E3E8F7E6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14077-D17F-4267-B60D-902553DD57D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FF42-8D4B-4B74-B8D0-78CFF839B0A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E2FCF-23E6-4D73-BBFA-7368173C2F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3AAA-9745-401B-9DDB-4ED6A8CACAC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7BA39-D3E7-4BAB-B457-44B4C3EE4A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3EAB-EC63-43EC-BD3E-7F5C62A40EA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E30DE-2B45-4BEF-8C64-F98F5B2C6E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BE18-B64F-48C9-9277-B869CB3C479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A3EB5-8B77-42AF-A4D5-0BC8D77AB1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F1AC-9E28-480D-81FB-40D7CBD201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5E08A-A890-4F02-87FB-5B2E861D71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vs. back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FC is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data-drive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 automatic, unconscious processing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object recognition, routine decis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ay do lots of work that is irrelevant to the goal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BC is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goal-drive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 appropriate for problem-solving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Where are my keys? How do I get into a PhD program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Complexity of BC can be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much less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han linear in size of KB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B903-E89E-4D55-8E2C-8C21389BA6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01EB1-407E-412D-8428-06765B8BD4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Effective propositional inferen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Two families of efficient algorithms for propositional inference based on model checking: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Are used for checking satisfiability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Complete backtracking search algorithms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PLL algorithm (Davis, Putnam, Logemann, Loveland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Improves TT-Entails? Algorithm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complete local search algorith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7f7358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Courier New"/>
              </a:rPr>
              <a:t>WalkSA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lgorithm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0781-2AAF-432C-AB63-7B316DDF07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3A91C-1026-43B9-A78C-F1139DB03A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DPLL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Determine if an input propositional logic sentence (in CNF) is satisfiable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Improvements over truth table enumeration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arly termin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 clause is true if any literal is true. A sentence is false if any clause is fals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4" marL="220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ure symbol heuristic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Pure symbol: always appears with the same "sign" in all clauses.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, In the three clauses (A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), (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), (C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A), A and B are pure, C is impure.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sign a pure symbol so that their literals are tru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4" marL="220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Unit clause heuristic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Unit clause: only one literal in the clause or only one literal which has not yet received a value. The only literal in a unit clause must be true. First do this assignments before continuing with the rest (unit propagation!)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DC5E-007F-433C-8237-E25E5FC356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99828-71BC-4E3A-94F1-82739373D6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DPLL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990720" y="175248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486B-39DC-4747-BA39-25F0550DAD8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199B-4987-463B-900C-A9BD56B7DA7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4200" spc="-1" strike="noStrike">
                <a:solidFill>
                  <a:srgbClr val="ffffff"/>
                </a:solidFill>
                <a:latin typeface="Courier New"/>
              </a:rPr>
              <a:t>WalkSA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Incomplete, local search algorithm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Evaluation function: The min-conflict heuristic of minimizing the number of unsatisfied clauses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Steps are taken in the space of complete assignments, flipping the truth value of one variable at a time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Balance between greediness and randomness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o avoid local minima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2344-816C-4EDA-B898-99FB77BC8C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632D8-FC03-46E2-B049-CE16841DB1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6520" y="1989000"/>
            <a:ext cx="72374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6EC0-9BA7-46AA-8656-BE8531A68F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13A3-BE03-4F8C-8C4E-BBA251F4DE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4200" spc="-1" strike="noStrike">
                <a:solidFill>
                  <a:srgbClr val="ffffff"/>
                </a:solidFill>
                <a:latin typeface="Courier New"/>
              </a:rPr>
              <a:t>WalkSA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800280" y="1905120"/>
            <a:ext cx="7543800" cy="37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A25C-56DD-4BB8-8D77-84CA59EDD19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9A923-E1A9-49A8-A9A5-DDA74FDF50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derconstrained problems are easy: e.g n-queens in CSP. In SAT: e.g.,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C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E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B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crease in complexity by keeping the number of symbols fixed and increasing the amount of clauses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number of clause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number of symbol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ard problems seem to cluster nea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/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4.3 (critical poin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624A-BF82-41B9-BABD-D15CBAA0D4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D7DAC-423D-4D05-8FA1-F2F5714EA1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57480" y="1447920"/>
            <a:ext cx="6629400" cy="47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1556-14CB-4B65-B157-E8BE91B3423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5E6E-4CDE-4CC3-9C89-5379CF75208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4160" y="1752120"/>
            <a:ext cx="852948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edian runtime for 100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atisfiab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random 3-CNF sentences,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10552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8820-CA0A-4F9F-AAFC-0049F7B03A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F9F5F-2B77-421E-936D-ACF792B0EB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ference-based agents in the wumpus wor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6360" y="142560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A wumpus-world agent using propositional logic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 a knowledge base about the physics of the W-world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(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+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-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-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(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+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-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-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4,4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 (at least one wumpu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 (at most one wumpu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3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64 distinct proposition symbols, 155 sentenc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A fringe square is </a:t>
            </a: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provably safe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if the sentence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is entailed by the knowledge base.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86600" y="5486400"/>
                <a:ext cx="160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ÙØ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FB4B-5107-4B08-9689-B9EB8FF3FC0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D79B8-E69C-44BD-88DF-7060E3BD6E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1143000" y="985680"/>
            <a:ext cx="6858000" cy="488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2916-6A06-455C-BD46-0817A3E68150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B4BA7-8A96-4B01-9A78-84DBB12B38B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KB contains "physics" sentences for every single square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ith all consequences for large KB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tter would be to have just two sentences for breezes and stenches for all squares.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ossible for propositional logic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Simplification in agent: location info is not in KB!!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or every time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and every location [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],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L</a:t>
            </a:r>
            <a:r>
              <a:rPr b="0" i="1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FacingRight</a:t>
            </a:r>
            <a:r>
              <a:rPr b="0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Forward</a:t>
            </a:r>
            <a:r>
              <a:rPr b="0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L</a:t>
            </a:r>
            <a:r>
              <a:rPr b="0" i="1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f7358"/>
                </a:solidFill>
                <a:latin typeface="Verdana"/>
              </a:rPr>
              <a:t>PROBLEM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: Rapid proliferation of clauses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xpressiveness limitation of propositional logi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9759-0576-4DE1-B589-91FA75C3BDC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14E71-4B7B-498F-AAD1-42BF1ADCF0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ferenc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knowledge bas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derive new information and make decision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sic concepts of logic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yntax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formal structure of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emantic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truth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of sentences wrt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odel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entailment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necessary truth of one sentence given another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inference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ing sentences from other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oundnes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ations produce only entailed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completenes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ations can produce all entailed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opositional logic lacks expressive powe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14A3-82BA-4854-9FEF-FD0D577109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441C5-65BA-4490-B076-7373D02422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8640" y="1989000"/>
            <a:ext cx="6253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B212-186F-43A6-B7A8-67B8FC3E3E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AE414-5177-4919-A365-5676AC920C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uth tables for infer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98040" y="182880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te the models and check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in eve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2678040" cy="158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37502" t="30211" r="7811" b="32293"/>
          <a:stretch/>
        </p:blipFill>
        <p:spPr>
          <a:xfrm>
            <a:off x="2743200" y="2590920"/>
            <a:ext cx="5981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9256-5C36-4694-BCAF-92221C518C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A94E6-7DD8-4AD5-BC3E-7883A8E764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ference by enumer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Depth-first enumeration of all models is sound and complete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ymbols, time complexity is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O(2</a:t>
            </a:r>
            <a:r>
              <a:rPr b="0" i="1" lang="en-US" sz="21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 space complexity is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O(n)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523880" y="2514600"/>
            <a:ext cx="556272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0D90-BD78-4126-B17F-044AA8BDB0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8EB7C-F1CF-4699-8A53-F8DBA22C38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equival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6360" y="167652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wo sentences are </a:t>
            </a:r>
            <a:r>
              <a:rPr b="0" i="1" lang="en-US" sz="2300" spc="-1" strike="noStrike">
                <a:solidFill>
                  <a:srgbClr val="333399"/>
                </a:solidFill>
                <a:latin typeface="Verdana"/>
              </a:rPr>
              <a:t>logically equivalent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ff true in same set of models or 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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ß iff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|=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ß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nd ß |=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600200" y="2514600"/>
            <a:ext cx="6477120" cy="34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5BBB-E6A8-4E76-88A0-334ADC27D5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F2ACE-C7DD-4A19-945E-1B4090B1D9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tlo</cp:lastModifiedBy>
  <cp:lastPrinted>2006-03-23T11:43:51Z</cp:lastPrinted>
  <dcterms:modified xsi:type="dcterms:W3CDTF">2006-03-31T11:16:24Z</dcterms:modified>
  <cp:revision>724</cp:revision>
  <dc:subject/>
  <dc:title>CMSC 723: Introduction to  Computational Linguistics</dc:title>
</cp:coreProperties>
</file>